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DA8-E3F4-4959-BCC6-00544717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851-C0FC-45B7-835B-87719C38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BA5-6B9D-41E8-92FB-62B09C70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C90-A9CD-4393-A1E3-E868304C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684-A31A-42FF-A6B6-2065076A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D8E-7224-4263-AF2B-C68BB6A9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2AD-DF00-49DD-ACC2-A68EE1D0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6AA-E118-4A94-954A-CE61110E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979-B76C-4B54-8953-FFFF0E2B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B70-7FFA-45E7-9CC9-15E59AD3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3BF-18CA-4C0C-998E-74F3BAAF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D13-5495-4AA7-9D2E-1237DC4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9371-BFE8-44A8-B8AF-938DA7785C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Мовні змі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Лекція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Основні типи звуков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Втрата, або випадіння звуку / спрощ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покопа:  la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mb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wo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m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фереза: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k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ife,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k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инкопа:  gran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Основні типи звуков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Вставка, додавання звуку (епенте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-а 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or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су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асто зустрічається в просторічному мовленні: срам – страм. нрав – ндрав, радио – рад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Основні типи звуков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Асиміляці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гресивна асиміляція: ісланд. *findan 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’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na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*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егресивна асиміляція: ла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“вісім» стало otto  в італійській, noctem «ніч» - notte, factum «зроблене» - fat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асткова асиміляція: raise your hand, would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Основні типи звуков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Дисиміляці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ла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bor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’ – ісп. arb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кр.: рицар – лиц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Основні типи звуков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Метат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acsian &gt; ModE 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brid &gt; ModE bi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hros &gt; ModE ho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Морфологі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Набуття та втрата зв’язаних морф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франц.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i="1" lang="uk-UA" sz="3200" spc="-1" strike="noStrike">
                <a:solidFill>
                  <a:srgbClr val="c00000"/>
                </a:solidFill>
                <a:latin typeface="Calibri"/>
              </a:rPr>
              <a:t>able,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i="1" lang="uk-UA" sz="3200" spc="-1" strike="noStrike">
                <a:solidFill>
                  <a:srgbClr val="c00000"/>
                </a:solidFill>
                <a:latin typeface="Calibri"/>
              </a:rPr>
              <a:t>ment, dis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i="1" lang="uk-UA" sz="3200" spc="-1" strike="noStrike">
                <a:solidFill>
                  <a:srgbClr val="c00000"/>
                </a:solidFill>
                <a:latin typeface="Calibri"/>
              </a:rPr>
              <a:t>, re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авньоангл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stodo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tood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Морфологі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Зміни за аналогіє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shoe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&gt; sh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rethren &gt; br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ld English No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71680" y="1143000"/>
          <a:ext cx="8072280" cy="500688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360"/>
                <a:gridCol w="1154160"/>
                <a:gridCol w="1152720"/>
                <a:gridCol w="1153800"/>
                <a:gridCol w="1152720"/>
              </a:tblGrid>
              <a:tr h="801360">
                <a:tc rowSpan="2"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culine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gel 'angel'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uter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ip 'ship'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minine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rg 'sorrow'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280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0136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964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9964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u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Морфологі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Біфуркаці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se – mice, mo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8" descr="ÐÐ°ÑÑÐ¸Ð½ÐºÐ¸ Ð¿Ð¾ Ð·Ð°Ð¿ÑÐ¾ÑÑ mouse"/>
          <p:cNvPicPr/>
          <p:nvPr/>
        </p:nvPicPr>
        <p:blipFill>
          <a:blip r:embed="rId1"/>
          <a:stretch/>
        </p:blipFill>
        <p:spPr>
          <a:xfrm>
            <a:off x="5651640" y="3645000"/>
            <a:ext cx="2700360" cy="2319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ÐÐ°ÑÑÐ¸Ð½ÐºÐ¸ Ð¿Ð¾ Ð·Ð°Ð¿ÑÐ¾ÑÑ mouse"/>
          <p:cNvPicPr/>
          <p:nvPr/>
        </p:nvPicPr>
        <p:blipFill>
          <a:blip r:embed="rId2"/>
          <a:stretch/>
        </p:blipFill>
        <p:spPr>
          <a:xfrm>
            <a:off x="684360" y="4005360"/>
            <a:ext cx="4090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Морфологі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Ре-аналі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cildru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Old English Text MT"/>
              </a:rPr>
              <a:t>Lord’s Pr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Fæder ure þu þe eart on heofonum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Father in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Si þin nama gehalgo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owed be 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to becume þin ri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kingdom 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Зміни порядку сл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e cyning Ælfred fliemde þone eorl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Þone eorl fliemde se cyning Ælfred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ÐÐ°ÑÑÐ¸Ð½ÐºÐ¸ Ð¿Ð¾ Ð·Ð°Ð¿ÑÐ¾ÑÑ King Alfred"/>
          <p:cNvPicPr/>
          <p:nvPr/>
        </p:nvPicPr>
        <p:blipFill>
          <a:blip r:embed="rId1"/>
          <a:stretch/>
        </p:blipFill>
        <p:spPr>
          <a:xfrm>
            <a:off x="2340000" y="4292640"/>
            <a:ext cx="3816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Граматикалізац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Граматикалізація – це процес перетворення повнозначного слова в граматичний показник – морфему або частину аналітичної фор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We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have done 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our du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Семанти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000000"/>
                </a:solidFill>
                <a:uFillTx/>
                <a:latin typeface="Calibri"/>
              </a:rPr>
              <a:t>Пейорація (погіршення значенн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i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OE ‘happy, blessed, blissful’ &gt; ME ‘humble, simple’ &gt; ‘feeble, weak’ &gt; Early ModE ‘weak-minded, stupid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Negro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midget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ці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слова в минулому не були образливи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homely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американському варіант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che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huss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‘housewife’ &gt; ‘a brazen or immoral woman; a mischievous, impudent, or ill-behaved girl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lu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‘a slovenly, untidy woman or girl, a kitchen-maid’ &gt;  ‘a woman who has many sexual partners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Семанти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Меліорація (покращення значен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nigh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‘boy, lad’&gt; ‘a male servant’ &gt; ‘a military servant’ &gt; ‘a member of lower nobility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lad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‘mistress of a household’ &gt; 13 c. ‘wife’ &gt; 19 c. ‘woman of refinement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Семанти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Гі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ерболізація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 знач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erribly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wfully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rribly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we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Семанти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зви частин тіла часто розвиваються в просторові назви: </a:t>
            </a: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at the foot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сторові назви часто набувають часових значень: </a:t>
            </a: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after, 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ієслова чуттєвого сприйняття часто набувають значення розуміння: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to see</a:t>
            </a: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to hear</a:t>
            </a: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 &gt; ‘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understand</a:t>
            </a: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Внутрішньомовні (структурні) причини мовн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 18 ст. англійська мова мала нерегулярну систему щілинни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,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θ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-ð,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,    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19 ст. ця ситуація виправляється: з’являється дзвінка пара для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ʃ - Ʒ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&lt; zj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франц. словах тип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sur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isur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Овал 13"/>
          <p:cNvSpPr/>
          <p:nvPr/>
        </p:nvSpPr>
        <p:spPr>
          <a:xfrm>
            <a:off x="250920" y="1700280"/>
            <a:ext cx="3025800" cy="7920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Внутрішньомовні (структурні) причини мовн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iddle English vow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:                  u:                                i                 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:           o:                                       e          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ɛ:            ɔ: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                                                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4"/>
          <p:cNvSpPr/>
          <p:nvPr/>
        </p:nvSpPr>
        <p:spPr>
          <a:xfrm flipH="1">
            <a:off x="1116000" y="2133720"/>
            <a:ext cx="4464000" cy="100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6"/>
          <p:cNvSpPr/>
          <p:nvPr/>
        </p:nvSpPr>
        <p:spPr>
          <a:xfrm flipH="1">
            <a:off x="2484000" y="2060640"/>
            <a:ext cx="4824360" cy="10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ая соединительная линия 8"/>
          <p:cNvSpPr/>
          <p:nvPr/>
        </p:nvSpPr>
        <p:spPr>
          <a:xfrm flipH="1">
            <a:off x="1187280" y="3213000"/>
            <a:ext cx="4680000" cy="57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ая соединительная линия 10"/>
          <p:cNvSpPr/>
          <p:nvPr/>
        </p:nvSpPr>
        <p:spPr>
          <a:xfrm flipH="1">
            <a:off x="2484000" y="3213000"/>
            <a:ext cx="453564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12"/>
          <p:cNvSpPr/>
          <p:nvPr/>
        </p:nvSpPr>
        <p:spPr>
          <a:xfrm flipH="1">
            <a:off x="1907640" y="4365720"/>
            <a:ext cx="4248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Old English Text MT"/>
              </a:rPr>
              <a:t>Lord’s Pr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85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gewurþe ðin will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will be 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on eorðan swa swa on heofonum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earth as in heav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urne gedæghwamlican hlaf syle us todæ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us today our daily b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Old English Text MT"/>
              </a:rPr>
              <a:t>Lord’s Pr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and forgyf us ure gyltas</a:t>
            </a:r>
            <a:r>
              <a:rPr b="0" lang="en-US" sz="3200" spc="-1" strike="noStrike">
                <a:solidFill>
                  <a:srgbClr val="002060"/>
                </a:solidFill>
                <a:latin typeface="Old English Text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forgive us our s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swa swa we forgyfað urum gyltend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e forgive those who sin against 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Old English Text MT"/>
              </a:rPr>
              <a:t>Lord’s Pr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and ne gelæd þu us on costnunge</a:t>
            </a:r>
            <a:r>
              <a:rPr b="0" lang="en-US" sz="3200" spc="-1" strike="noStrike">
                <a:solidFill>
                  <a:srgbClr val="002060"/>
                </a:solidFill>
                <a:latin typeface="Old English Text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do not lead us into temp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ac alys us of yfele soþli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deliver us from evil. tru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Old English Text MT"/>
              </a:rPr>
              <a:t>Chaucer “Canterbury Tal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n that Aprill with his shoures soo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roghte of March hath perced to the roote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bathed every veyne in swich licou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which vertu engendred is the flour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n Zephirus eek with his sweete bree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pired hath in every holt and hee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endre croppes, and the yonge son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th in the Ram his half cours yron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Історія англійської м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ÐÐ°ÑÑÐ¸Ð½ÐºÐ¸ Ð¿Ð¾ Ð·Ð°Ð¿ÑÐ¾ÑÑ english history timeline"/>
          <p:cNvPicPr/>
          <p:nvPr/>
        </p:nvPicPr>
        <p:blipFill>
          <a:blip r:embed="rId2"/>
          <a:stretch/>
        </p:blipFill>
        <p:spPr>
          <a:xfrm>
            <a:off x="158760" y="1484280"/>
            <a:ext cx="8807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Закон Якоба Гріма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кон описує важливі звукові зміни, які зазнали протоіндоєвропейські проривні приголосні у германських мов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-є глухі проривні стали глухими щілинними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θ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-є дзвінкі проривні стали глухими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-є придихальні проривні втратили придихальність (аспірацію)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h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h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Закон Якоба Гріма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i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s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d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G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ōt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Icel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ót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ō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i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Ukr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т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þ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  Icel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Þ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i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þ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ē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i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d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G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ír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  OIcel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a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8T11:53:55Z</dcterms:created>
  <dc:creator>Komp</dc:creator>
  <dc:description/>
  <dc:language>en-US</dc:language>
  <cp:lastModifiedBy>Komp</cp:lastModifiedBy>
  <dcterms:modified xsi:type="dcterms:W3CDTF">2018-12-08T13:25:34Z</dcterms:modified>
  <cp:revision>18</cp:revision>
  <dc:subject/>
  <dc:title>Мовні зміни</dc:title>
</cp:coreProperties>
</file>