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0.wmf" ContentType="image/x-wmf"/>
  <Override PartName="/ppt/media/image42.wmf" ContentType="image/x-wmf"/>
  <Override PartName="/ppt/media/image54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B05E-C7B7-4B09-9891-9E5D7922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8FF-9122-4146-B779-3E37FE31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477-C4B9-4642-B084-7FCE6D0D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2DB-B621-49FD-AB19-E7AB0E55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4DD-7782-46EA-ACEB-2505DE64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A0E-81D0-4743-B8AB-2A7C8191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175-CF7E-4A76-80FA-2AB48B8E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3F6-8FE0-418B-A002-241197E8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AC8-E713-4F6A-8FE7-FBCB0621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9B4-7B52-4729-9EE8-4ECB4431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F9A-4458-4702-BF9A-B5242223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8A2-04F4-491B-89D3-99212045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3B09-693E-4862-8C85-FADBB5370F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3BE4-FFC8-489C-B225-A7139E21D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r.nau.edu.ua/handle/NAU/40361" TargetMode="External"/><Relationship Id="rId2" Type="http://schemas.openxmlformats.org/officeDocument/2006/relationships/hyperlink" Target="http://er.nau.edu.ua/handle/NAU/40361" TargetMode="External"/><Relationship Id="rId3" Type="http://schemas.openxmlformats.org/officeDocument/2006/relationships/hyperlink" Target="http://er.nau.edu.ua/handle/NAU/40361" TargetMode="External"/><Relationship Id="rId4" Type="http://schemas.openxmlformats.org/officeDocument/2006/relationships/hyperlink" Target="http://er.nau.edu.ua/handle/NAU/40361" TargetMode="External"/><Relationship Id="rId5" Type="http://schemas.openxmlformats.org/officeDocument/2006/relationships/hyperlink" Target="http://er.nau.edu.ua/handle/NAU/40361" TargetMode="External"/><Relationship Id="rId6" Type="http://schemas.openxmlformats.org/officeDocument/2006/relationships/hyperlink" Target="http://er.nau.edu.ua/handle/NAU/40361" TargetMode="External"/><Relationship Id="rId7" Type="http://schemas.openxmlformats.org/officeDocument/2006/relationships/hyperlink" Target="http://er.nau.edu.ua/handle/NAU/40361" TargetMode="External"/><Relationship Id="rId8" Type="http://schemas.openxmlformats.org/officeDocument/2006/relationships/hyperlink" Target="http://er.nau.edu.ua/handle/NAU/40361" TargetMode="External"/><Relationship Id="rId9" Type="http://schemas.openxmlformats.org/officeDocument/2006/relationships/hyperlink" Target="http://er.nau.edu.ua/handle/NAU/40361" TargetMode="External"/><Relationship Id="rId10" Type="http://schemas.openxmlformats.org/officeDocument/2006/relationships/hyperlink" Target="http://er.nau.edu.ua/handle/NAU/40361" TargetMode="External"/><Relationship Id="rId11" Type="http://schemas.openxmlformats.org/officeDocument/2006/relationships/hyperlink" Target="http://er.nau.edu.ua/handle/NAU/40361" TargetMode="External"/><Relationship Id="rId12" Type="http://schemas.openxmlformats.org/officeDocument/2006/relationships/hyperlink" Target="http://er.nau.edu.ua/handle/NAU/40361" TargetMode="External"/><Relationship Id="rId13" Type="http://schemas.openxmlformats.org/officeDocument/2006/relationships/hyperlink" Target="http://er.nau.edu.ua/handle/NAU/40361" TargetMode="External"/><Relationship Id="rId14" Type="http://schemas.openxmlformats.org/officeDocument/2006/relationships/hyperlink" Target="http://er.nau.edu.ua/handle/NAU/40361" TargetMode="External"/><Relationship Id="rId15" Type="http://schemas.openxmlformats.org/officeDocument/2006/relationships/hyperlink" Target="http://er.nau.edu.ua/handle/NAU/40361" TargetMode="External"/><Relationship Id="rId16" Type="http://schemas.openxmlformats.org/officeDocument/2006/relationships/hyperlink" Target="http://www.cs.ox.ac.uk/" TargetMode="External"/><Relationship Id="rId17" Type="http://schemas.openxmlformats.org/officeDocument/2006/relationships/hyperlink" Target="mailto:andygoncharenco@yahoo.com" TargetMode="External"/><Relationship Id="rId1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hyperlink" Target="https://scholar.google.com.ua/citations?hl=uk&amp;user=Ha_d_VEAAAAJ&amp;view_op=list_works&amp;sortby=pubdate" TargetMode="External"/><Relationship Id="rId3" Type="http://schemas.openxmlformats.org/officeDocument/2006/relationships/hyperlink" Target="https://scholar.google.com.ua/citations?hl=uk&amp;user=Ha_d_VEAAAAJ&amp;view_op=list_works&amp;sortby=pubdate" TargetMode="External"/><Relationship Id="rId4" Type="http://schemas.openxmlformats.org/officeDocument/2006/relationships/hyperlink" Target="https://scholar.google.com.ua/citations?hl=uk&amp;user=Ha_d_VEAAAAJ&amp;view_op=list_works&amp;sortby=pubdate" TargetMode="External"/><Relationship Id="rId5" Type="http://schemas.openxmlformats.org/officeDocument/2006/relationships/hyperlink" Target="https://scholar.google.com.ua/citations?hl=uk&amp;user=Ha_d_VEAAAAJ&amp;view_op=list_works&amp;sortby=pubdate" TargetMode="External"/><Relationship Id="rId6" Type="http://schemas.openxmlformats.org/officeDocument/2006/relationships/hyperlink" Target="https://scholar.google.com.ua/citations?hl=uk&amp;user=Ha_d_VEAAAAJ&amp;view_op=list_works&amp;sortby=pubdate" TargetMode="External"/><Relationship Id="rId7" Type="http://schemas.openxmlformats.org/officeDocument/2006/relationships/hyperlink" Target="http://er.nau.edu.ua/handle/NAU/40361" TargetMode="External"/><Relationship Id="rId8" Type="http://schemas.openxmlformats.org/officeDocument/2006/relationships/hyperlink" Target="http://er.nau.edu.ua/handle/NAU/40361" TargetMode="External"/><Relationship Id="rId9" Type="http://schemas.openxmlformats.org/officeDocument/2006/relationships/hyperlink" Target="http://er.nau.edu.ua/handle/NAU/40361" TargetMode="External"/><Relationship Id="rId10" Type="http://schemas.openxmlformats.org/officeDocument/2006/relationships/hyperlink" Target="http://er.nau.edu.ua/handle/NAU/40361" TargetMode="External"/><Relationship Id="rId11" Type="http://schemas.openxmlformats.org/officeDocument/2006/relationships/hyperlink" Target="http://er.nau.edu.ua/handle/NAU/40361" TargetMode="External"/><Relationship Id="rId12" Type="http://schemas.openxmlformats.org/officeDocument/2006/relationships/hyperlink" Target="http://er.nau.edu.ua/handle/NAU/40361" TargetMode="External"/><Relationship Id="rId13" Type="http://schemas.openxmlformats.org/officeDocument/2006/relationships/hyperlink" Target="http://er.nau.edu.ua/handle/NAU/40361" TargetMode="External"/><Relationship Id="rId14" Type="http://schemas.openxmlformats.org/officeDocument/2006/relationships/hyperlink" Target="http://er.nau.edu.ua/handle/NAU/40361" TargetMode="External"/><Relationship Id="rId15" Type="http://schemas.openxmlformats.org/officeDocument/2006/relationships/hyperlink" Target="http://er.nau.edu.ua/handle/NAU/40361" TargetMode="External"/><Relationship Id="rId16" Type="http://schemas.openxmlformats.org/officeDocument/2006/relationships/hyperlink" Target="http://er.nau.edu.ua/handle/NAU/40361" TargetMode="External"/><Relationship Id="rId17" Type="http://schemas.openxmlformats.org/officeDocument/2006/relationships/hyperlink" Target="http://er.nau.edu.ua/handle/NAU/40361" TargetMode="External"/><Relationship Id="rId18" Type="http://schemas.openxmlformats.org/officeDocument/2006/relationships/hyperlink" Target="http://er.nau.edu.ua/handle/NAU/40361" TargetMode="External"/><Relationship Id="rId19" Type="http://schemas.openxmlformats.org/officeDocument/2006/relationships/hyperlink" Target="http://er.nau.edu.ua/handle/NAU/40361" TargetMode="External"/><Relationship Id="rId20" Type="http://schemas.openxmlformats.org/officeDocument/2006/relationships/hyperlink" Target="http://er.nau.edu.ua/handle/NAU/40361" TargetMode="External"/><Relationship Id="rId21" Type="http://schemas.openxmlformats.org/officeDocument/2006/relationships/hyperlink" Target="http://er.nau.edu.ua/handle/NAU/40361" TargetMode="External"/><Relationship Id="rId2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ain Components and Stages of the Hybrid-Optional Doctrine Develop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ncharenko Andriy Viktorovich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Aviation University, Kyiv, Ukrai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of Aerospace Engineering of Xi’an Jiaotong University, Chin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2019:</a:t>
            </a:r>
            <a:br>
              <a:rPr sz="1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中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057320"/>
            <a:ext cx="8839440" cy="458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63E-40B8-4888-86F0-D19636CD9FA5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A9338-0306-49D8-BACD-5CC2F9A9C2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65040"/>
            <a:ext cx="8686800" cy="612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43C-5C0F-405B-A3DD-E31C2C04F29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E06F4-2B44-411F-BA6C-6F88AE3251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30320"/>
            <a:ext cx="8686800" cy="65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987-5A19-4B5E-9C64-CD341F658695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BD0AC-605B-4E90-9C74-40B468988E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573120"/>
            <a:ext cx="876312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C47-F31C-45CB-87E1-E0910AF9A780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23727-BD0A-433C-84FD-F4BC8AB018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93600"/>
            <a:ext cx="8534160" cy="667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3B9-7256-4C82-9F63-9AC7482D0032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6D34C-DAF2-42DD-8172-0B64C542B0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22320"/>
            <a:ext cx="7619760" cy="675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2B3-E1B9-4929-BD13-DA8FC8DFD16D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D5285-A42A-4932-ACAC-125EF2CDA8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272880"/>
            <a:ext cx="8763120" cy="636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C6F-6234-48FA-AFFD-2BAAFE8E3352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3F7E6-0192-420C-9373-A750F38F35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12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C9A-9E50-428F-9F54-AA59D6058BE6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8BD5D-5ACE-4BA8-8B67-E343C48FF6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82440"/>
            <a:ext cx="8458200" cy="663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66B-0842-411F-AF81-FAECC325E4C9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C3C66-81E9-4931-B518-CA2513DEC2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01000" cy="649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1BD-BAF3-44A4-8D77-118D0CA6C41F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477A4-57AE-47A5-9A4D-36A8908C6D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ased upon Decision Making in Conditions of Multi-Alternativeness and Uncertainty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2400"/>
            </a:b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cision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king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n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onditions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f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multi-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lternativeness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uncertainty</a:t>
            </a:r>
            <a:br>
              <a:rPr sz="18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ncharenko Andriy Viktorovich </a:t>
            </a:r>
            <a:br>
              <a:rPr sz="36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Department of Aircraft Airworthiness Ret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ational Aviation University, UKRAINE, Kyiv, 1 Kosmonavta Komarova ave., email: 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andygoncharenco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61800"/>
            <a:ext cx="8686800" cy="613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A74-BD8A-4F85-852B-D44961B5FE7B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26100-BACB-4572-858F-0A864D0330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200160"/>
            <a:ext cx="7086600" cy="652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F79-BBE8-4904-81EA-21CC7167040D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CACE4-A535-404E-A037-F5208B8D6F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76040"/>
            <a:ext cx="8686800" cy="650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AA1-53A4-4873-A913-5F824E964EAA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83F6C-A43B-4536-B21E-D14687AC1E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763120" cy="41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F23-AD85-410C-99EA-3D8EC5EACB21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34B4B-279F-4961-928D-25E209F979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320" y="372960"/>
            <a:ext cx="8915400" cy="627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5A6-75AA-4F17-880B-4F3F9DEE3755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CC20F-7006-4B08-B79F-59A0F7A98A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136440"/>
            <a:ext cx="7848720" cy="651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0CE-CC45-4A3A-B91E-D537A18E45A4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F2C9F-547D-46A0-942C-CF6C5C4904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223920"/>
            <a:ext cx="8458200" cy="646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885-D9FA-4F7B-9BEF-2049D743925E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C2238-D8AC-4589-931C-418F970626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11280" y="101520"/>
            <a:ext cx="6121440" cy="665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879-8F8A-43F9-9918-B6F98DA0EAD5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D8E88-B679-4592-AEA6-0F367BB99E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992160"/>
            <a:ext cx="8839440" cy="487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DA5-4F94-4A4B-9A81-B8556A4FAEE5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9797D-CB7D-47CC-9CF5-2AD33CAD7C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128520"/>
            <a:ext cx="6781680" cy="652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B22-917C-4A1F-B304-21E90CDFF952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61701-F119-44F4-B691-653AF86F63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8839440" cy="619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874-25EC-421D-A665-FF3028AD89B7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ABD13-FFBC-42CA-A19E-C4513219AB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128520"/>
            <a:ext cx="6858000" cy="659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E7B-E2E9-4516-8273-850375919F1C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E2797-C2BD-45D3-8515-B30479E58C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200160"/>
            <a:ext cx="8610480" cy="651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59F-DDF1-4D42-8E83-C8A4A12A2B4A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EA933-B359-4EA4-BA9A-309D1101CD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584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C7E-EF6E-4604-87FA-1C9399D85706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30A69-E527-45C4-BB48-0817311C8B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162000"/>
            <a:ext cx="6934320" cy="660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15A-2917-4448-A9CE-A78CF6095B58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93068-E66D-4C69-841B-380415E0E3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127080"/>
            <a:ext cx="8458200" cy="654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F19-2D72-4437-A988-B3CA080F19B8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25562-8E9E-4F17-BCF7-FEC4B975A5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280" y="527040"/>
            <a:ext cx="8839440" cy="542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55A-945E-48D3-B3A2-D15DA090468C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A10BC-1D47-44E7-ACE6-89BCA1576A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31840" y="152280"/>
            <a:ext cx="5081760" cy="655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DF2-CA45-4898-9525-F6F7C3EEDAB7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2BF0C-42D4-4321-87B6-A642928848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318960"/>
            <a:ext cx="6858000" cy="636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A97-0098-49D5-9F2D-B02DBF0752C6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F6E54-3B42-4EB6-A85B-24A9EAF565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320" y="442800"/>
            <a:ext cx="8915400" cy="582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69E-6EE3-46DC-814A-67C036C710F3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F1129-1240-46F4-B54E-69633BA49C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320" y="844560"/>
            <a:ext cx="8915400" cy="503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9F8-FFAD-4575-9FA9-54989602A303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9CE77-F681-4E32-8C7D-52FB80CCE9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09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757-CD23-42A8-B663-D05C003AD292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42D0A-7B82-492B-8DF3-D4BCE987F1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8915400" cy="2687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8991720" cy="219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A85-003B-4983-A07E-704ED4311ACA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E1299-D7AA-498A-A346-0032785D9C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146160"/>
            <a:ext cx="8763120" cy="662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EB3-842A-41B9-94C6-B1BB70C12B4C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2CF3E-DDD1-415A-92D1-CDF3C4E9B2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19320" y="236520"/>
            <a:ext cx="6781680" cy="64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0B3-A570-411E-BE61-80D3CA10367E}" type="slidenum">
              <a:t>4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00579-064B-43AE-84A0-285E20BC01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160200"/>
            <a:ext cx="7696080" cy="654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3BF-9855-47AB-BCE6-80FF3F9EB490}" type="slidenum">
              <a:t>4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79168-4B7D-4643-9116-1182B67A60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125280"/>
            <a:ext cx="8382240" cy="660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F6F-DD98-45A4-ACFA-093D9BAA89CE}" type="slidenum">
              <a:t>4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65884-6142-40BE-8DD0-978BA6847E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8991360" cy="555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DD7-5AFA-4620-B402-20131174D3F6}" type="slidenum">
              <a:t>4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42693-CBB5-4B9E-BD8C-DDC897E4A0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320" y="1254240"/>
            <a:ext cx="8991360" cy="442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5B8-02C2-4389-9D5C-F711D0D73C01}" type="slidenum">
              <a:t>4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FE364-FCF6-4945-A7AD-234C435095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320" y="334800"/>
            <a:ext cx="891540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B13-A882-494F-80BF-CB057E089622}" type="slidenum">
              <a:t>4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55582-DCF6-46EA-8170-74B7FD350B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320" y="870120"/>
            <a:ext cx="8915400" cy="498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CFA-CC39-45A1-93C5-3BDA0B9B8EF2}" type="slidenum">
              <a:t>4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DC300-32AC-437B-A4EB-ABE39FD5F4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169920"/>
            <a:ext cx="8153280" cy="658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150-4A80-4551-9460-3E415FD6F64F}" type="slidenum">
              <a:t>4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FFE45-0D04-4CF0-B25C-EB78111942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8534160" cy="641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6E94-4BB8-4269-B90C-18E5CE545A33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4EB2D-0191-4D13-B2E4-F8EF318E2E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320" y="853920"/>
            <a:ext cx="891540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B2B-ADD4-47FA-A8A9-61E129EDD070}" type="slidenum">
              <a:t>5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5DF53-5A6A-4379-9BBF-56C146FC73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839440" cy="530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BAC-686C-4B23-B340-DF4977A9D3D5}" type="slidenum">
              <a:t>5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A8B6A-D811-4F34-9E27-77D2C2FA6D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341280"/>
            <a:ext cx="8839440" cy="617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232-6402-4C6E-A71D-89383566E534}" type="slidenum">
              <a:t>5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A4FC7-C29C-4F49-AF58-19B5A87614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9A6-04FA-465E-9D47-2B0F0C8A811D}" type="slidenum">
              <a:t>5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84C5F-4F4C-4965-BA50-F6963F9D7A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172200" cy="486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761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olar.google.com.u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itations?hl=uk&amp;user=Ha_d_VEAAAAJ&amp;view_op=list_works&amp;sortby=pubda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41400" y="1370880"/>
            <a:ext cx="7279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ecisio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makin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i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condition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of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multi-alternativenes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and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uncertaint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B9B9-0956-49FA-8272-5E0D5A21CCE4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4029B-D398-4E5A-A7B0-EA21BBC8CF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763120" cy="564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8B9-9CAD-4803-BC51-C9CA4A50184B}" type="slidenum">
              <a:t>5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FCBFE-59BE-44B6-AC72-CF448F464A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5440"/>
            <a:ext cx="7696080" cy="668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0D3-B265-4607-9461-19EBE1277CFA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5BD04-E34D-4A61-BBB7-924716A436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36520"/>
            <a:ext cx="8763120" cy="64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81B-B068-4871-9AD3-36B40C3CDFDF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B4135-DAED-4788-B459-50CE21D663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06200"/>
            <a:ext cx="8153280" cy="658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F82-7E4D-4636-A89A-977C3DF9B7FD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4504D-621F-4398-8646-AD701060E8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63440"/>
            <a:ext cx="7315200" cy="652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581-0C88-4C42-AA16-360D995C611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07CCA-05D7-4EAD-9B42-89A8367E2E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9-10-03T18:33:4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