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30.wmf" ContentType="image/x-wmf"/>
  <Override PartName="/ppt/media/image42.wmf" ContentType="image/x-wmf"/>
  <Override PartName="/ppt/media/image54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7138-4528-4423-88EF-57B976739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1E72-6065-4F0F-BEEF-B1EF0455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CB76-9488-427B-A2D4-C815B81FE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7FB8-3AE4-4054-9012-C501AC061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F3DB-F186-4DD6-8AFF-40108649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A8C8-4B02-44CE-A569-5BD27702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0869-A1B1-49EE-9192-DA1926C9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4DD8-5A31-48FB-A0C7-15F0CD30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BB22-5F84-4AF2-A16B-0E4D6498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25CC-A780-4943-981F-88259C84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61B6-F1C1-4D0A-AF7D-0CA54814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89C0-B017-49BA-B6D4-5CB78BAC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BEB5-4097-49EC-AACF-D44AC73D51A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FDDC-18C0-414D-AF62-E4CFA5397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r.nau.edu.ua/handle/NAU/40361" TargetMode="External"/><Relationship Id="rId2" Type="http://schemas.openxmlformats.org/officeDocument/2006/relationships/hyperlink" Target="http://er.nau.edu.ua/handle/NAU/40361" TargetMode="External"/><Relationship Id="rId3" Type="http://schemas.openxmlformats.org/officeDocument/2006/relationships/hyperlink" Target="http://er.nau.edu.ua/handle/NAU/40361" TargetMode="External"/><Relationship Id="rId4" Type="http://schemas.openxmlformats.org/officeDocument/2006/relationships/hyperlink" Target="http://er.nau.edu.ua/handle/NAU/40361" TargetMode="External"/><Relationship Id="rId5" Type="http://schemas.openxmlformats.org/officeDocument/2006/relationships/hyperlink" Target="http://er.nau.edu.ua/handle/NAU/40361" TargetMode="External"/><Relationship Id="rId6" Type="http://schemas.openxmlformats.org/officeDocument/2006/relationships/hyperlink" Target="http://er.nau.edu.ua/handle/NAU/40361" TargetMode="External"/><Relationship Id="rId7" Type="http://schemas.openxmlformats.org/officeDocument/2006/relationships/hyperlink" Target="http://er.nau.edu.ua/handle/NAU/40361" TargetMode="External"/><Relationship Id="rId8" Type="http://schemas.openxmlformats.org/officeDocument/2006/relationships/hyperlink" Target="http://er.nau.edu.ua/handle/NAU/40361" TargetMode="External"/><Relationship Id="rId9" Type="http://schemas.openxmlformats.org/officeDocument/2006/relationships/hyperlink" Target="http://er.nau.edu.ua/handle/NAU/40361" TargetMode="External"/><Relationship Id="rId10" Type="http://schemas.openxmlformats.org/officeDocument/2006/relationships/hyperlink" Target="http://er.nau.edu.ua/handle/NAU/40361" TargetMode="External"/><Relationship Id="rId11" Type="http://schemas.openxmlformats.org/officeDocument/2006/relationships/hyperlink" Target="http://er.nau.edu.ua/handle/NAU/40361" TargetMode="External"/><Relationship Id="rId12" Type="http://schemas.openxmlformats.org/officeDocument/2006/relationships/hyperlink" Target="http://er.nau.edu.ua/handle/NAU/40361" TargetMode="External"/><Relationship Id="rId13" Type="http://schemas.openxmlformats.org/officeDocument/2006/relationships/hyperlink" Target="http://er.nau.edu.ua/handle/NAU/40361" TargetMode="External"/><Relationship Id="rId14" Type="http://schemas.openxmlformats.org/officeDocument/2006/relationships/hyperlink" Target="http://er.nau.edu.ua/handle/NAU/40361" TargetMode="External"/><Relationship Id="rId15" Type="http://schemas.openxmlformats.org/officeDocument/2006/relationships/hyperlink" Target="http://er.nau.edu.ua/handle/NAU/40361" TargetMode="External"/><Relationship Id="rId16" Type="http://schemas.openxmlformats.org/officeDocument/2006/relationships/hyperlink" Target="http://www.cs.ox.ac.uk/" TargetMode="External"/><Relationship Id="rId17" Type="http://schemas.openxmlformats.org/officeDocument/2006/relationships/hyperlink" Target="mailto:andygoncharenco@yahoo.com" TargetMode="External"/><Relationship Id="rId18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hyperlink" Target="https://scholar.google.com.ua/citations?hl=uk&amp;user=Ha_d_VEAAAAJ&amp;view_op=list_works&amp;sortby=pubdate" TargetMode="External"/><Relationship Id="rId3" Type="http://schemas.openxmlformats.org/officeDocument/2006/relationships/hyperlink" Target="https://scholar.google.com.ua/citations?hl=uk&amp;user=Ha_d_VEAAAAJ&amp;view_op=list_works&amp;sortby=pubdate" TargetMode="External"/><Relationship Id="rId4" Type="http://schemas.openxmlformats.org/officeDocument/2006/relationships/hyperlink" Target="https://scholar.google.com.ua/citations?hl=uk&amp;user=Ha_d_VEAAAAJ&amp;view_op=list_works&amp;sortby=pubdate" TargetMode="External"/><Relationship Id="rId5" Type="http://schemas.openxmlformats.org/officeDocument/2006/relationships/hyperlink" Target="https://scholar.google.com.ua/citations?hl=uk&amp;user=Ha_d_VEAAAAJ&amp;view_op=list_works&amp;sortby=pubdate" TargetMode="External"/><Relationship Id="rId6" Type="http://schemas.openxmlformats.org/officeDocument/2006/relationships/hyperlink" Target="https://scholar.google.com.ua/citations?hl=uk&amp;user=Ha_d_VEAAAAJ&amp;view_op=list_works&amp;sortby=pubdate" TargetMode="External"/><Relationship Id="rId7" Type="http://schemas.openxmlformats.org/officeDocument/2006/relationships/hyperlink" Target="http://er.nau.edu.ua/handle/NAU/40361" TargetMode="External"/><Relationship Id="rId8" Type="http://schemas.openxmlformats.org/officeDocument/2006/relationships/hyperlink" Target="http://er.nau.edu.ua/handle/NAU/40361" TargetMode="External"/><Relationship Id="rId9" Type="http://schemas.openxmlformats.org/officeDocument/2006/relationships/hyperlink" Target="http://er.nau.edu.ua/handle/NAU/40361" TargetMode="External"/><Relationship Id="rId10" Type="http://schemas.openxmlformats.org/officeDocument/2006/relationships/hyperlink" Target="http://er.nau.edu.ua/handle/NAU/40361" TargetMode="External"/><Relationship Id="rId11" Type="http://schemas.openxmlformats.org/officeDocument/2006/relationships/hyperlink" Target="http://er.nau.edu.ua/handle/NAU/40361" TargetMode="External"/><Relationship Id="rId12" Type="http://schemas.openxmlformats.org/officeDocument/2006/relationships/hyperlink" Target="http://er.nau.edu.ua/handle/NAU/40361" TargetMode="External"/><Relationship Id="rId13" Type="http://schemas.openxmlformats.org/officeDocument/2006/relationships/hyperlink" Target="http://er.nau.edu.ua/handle/NAU/40361" TargetMode="External"/><Relationship Id="rId14" Type="http://schemas.openxmlformats.org/officeDocument/2006/relationships/hyperlink" Target="http://er.nau.edu.ua/handle/NAU/40361" TargetMode="External"/><Relationship Id="rId15" Type="http://schemas.openxmlformats.org/officeDocument/2006/relationships/hyperlink" Target="http://er.nau.edu.ua/handle/NAU/40361" TargetMode="External"/><Relationship Id="rId16" Type="http://schemas.openxmlformats.org/officeDocument/2006/relationships/hyperlink" Target="http://er.nau.edu.ua/handle/NAU/40361" TargetMode="External"/><Relationship Id="rId17" Type="http://schemas.openxmlformats.org/officeDocument/2006/relationships/hyperlink" Target="http://er.nau.edu.ua/handle/NAU/40361" TargetMode="External"/><Relationship Id="rId18" Type="http://schemas.openxmlformats.org/officeDocument/2006/relationships/hyperlink" Target="http://er.nau.edu.ua/handle/NAU/40361" TargetMode="External"/><Relationship Id="rId19" Type="http://schemas.openxmlformats.org/officeDocument/2006/relationships/hyperlink" Target="http://er.nau.edu.ua/handle/NAU/40361" TargetMode="External"/><Relationship Id="rId20" Type="http://schemas.openxmlformats.org/officeDocument/2006/relationships/hyperlink" Target="http://er.nau.edu.ua/handle/NAU/40361" TargetMode="External"/><Relationship Id="rId21" Type="http://schemas.openxmlformats.org/officeDocument/2006/relationships/hyperlink" Target="http://er.nau.edu.ua/handle/NAU/40361" TargetMode="External"/><Relationship Id="rId2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ain Components and Stages of the Hybrid-Optional Doctrine Developme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ncharenko Andriy Viktorovich</a:t>
            </a:r>
            <a:br>
              <a:rPr sz="36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Aviation University, Kyiv, Ukrain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ol of Aerospace Engineering of Xi’an Jiaotong University, China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ober 2019:</a:t>
            </a:r>
            <a:br>
              <a:rPr sz="18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中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1057320"/>
            <a:ext cx="8839440" cy="4583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AF82-A48D-4988-BF89-D06B7BA4E2C1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9D3AF2-1115-4535-BA6D-69D47C78E3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365040"/>
            <a:ext cx="8686800" cy="612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7B7F-BEBE-4049-9474-FBAF89940536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66D4E-E775-4FE1-B29D-B3164F62F8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130320"/>
            <a:ext cx="8686800" cy="65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0885-49FC-4DC5-949D-ADF168C02883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8BE83C-CB10-4362-871F-EDF8732D54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573120"/>
            <a:ext cx="8763120" cy="576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F392-015B-4D88-8FEC-73AFC04760B3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FB9A75-9823-4C8E-9EA4-73BD59EBD0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93600"/>
            <a:ext cx="8534160" cy="667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A041-3B59-4D7E-9596-78C297EF26F4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62BCE6-B980-47D9-B00B-9CF1EA195A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22320"/>
            <a:ext cx="7619760" cy="6759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CA30-820E-4DC2-8AE4-F0FA651FA06A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865261-1FD8-440D-A250-79B9EA91E2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272880"/>
            <a:ext cx="8763120" cy="6367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DC7C-0748-448F-91E5-A81E5EEEEC48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65DCAC-C778-45C0-BFA3-C6FA5808F1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839440" cy="612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9EA3-160E-441E-B119-BDC0CF14911A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2D50D0-44AF-4B95-BCC5-1EF60B076E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82440"/>
            <a:ext cx="8458200" cy="6631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99AF-B0C5-447E-80CD-09C59C20470C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2DA6DA-4DED-4881-94B1-3867CEA460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8001000" cy="6491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540E-AC34-43BB-B5A7-5F9085188C30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558F4-1577-4716-84A7-3E466E5556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ased upon Decision Making in Conditions of Multi-Alternativeness and Uncertainty</a:t>
            </a: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br>
              <a:rPr sz="2400"/>
            </a:b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ecision</a:t>
            </a: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aking</a:t>
            </a: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in</a:t>
            </a: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</a:t>
            </a: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conditions</a:t>
            </a: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 </a:t>
            </a: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of</a:t>
            </a: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 multi-</a:t>
            </a: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alternativeness</a:t>
            </a: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 </a:t>
            </a: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and</a:t>
            </a: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 </a:t>
            </a: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uncertainty</a:t>
            </a:r>
            <a:br>
              <a:rPr sz="1800"/>
            </a:b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ncharenko Andriy Viktorovich </a:t>
            </a:r>
            <a:br>
              <a:rPr sz="3600"/>
            </a:b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Department of Aircraft Airworthiness Retai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ational Aviation University, UKRAINE, Kyiv, 1 Kosmonavta Komarova ave., email: </a:t>
            </a:r>
            <a:r>
              <a:rPr b="0" lang="uk-UA" sz="2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andygoncharenco@yahoo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61800"/>
            <a:ext cx="8686800" cy="613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A5C7-14E6-4692-A661-74D5FC8C893A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8E1292-E573-4B03-8133-2350425551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200160"/>
            <a:ext cx="7086600" cy="652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655F-29B7-4CA8-9383-37D0D4FDDAD0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C61BCB-D467-431A-80F4-89B2A8CF18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176040"/>
            <a:ext cx="8686800" cy="650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83CC-344C-4785-8851-BD79BEE42E7C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4301BC-EF71-4FB6-99D5-1B6A0447E0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763120" cy="4162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EA04-95EA-4B96-8339-FDE9C142EECB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11957F-6339-4294-9103-604D5ED49A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320" y="372960"/>
            <a:ext cx="8915400" cy="627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81DC-4D79-468E-BAC4-A50583A6D9EE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5545F9-F3EE-4713-99D1-8AF80C787F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9480" y="136440"/>
            <a:ext cx="7848720" cy="651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BBEF-3096-40E3-BC78-82CDB4007798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7A263B-958D-404B-B7A1-E7F7044808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0880" y="223920"/>
            <a:ext cx="8458200" cy="646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5F28-1270-4342-8973-C97269A6B317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C185C2-DB45-49C2-B6E7-4D9D8C1C40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11280" y="101520"/>
            <a:ext cx="6121440" cy="6653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2ABC-C3C6-4FEA-95E4-3167D902D2F5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9DBC80-0427-4706-A8D4-258ECCB1B7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280" y="992160"/>
            <a:ext cx="8839440" cy="487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6076-725B-4052-B7E8-EBBDDEF5B697}" type="slidenum">
              <a:t>2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ABBDD1-A9D5-484D-A030-80E4B2D839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43000" y="128520"/>
            <a:ext cx="6781680" cy="652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6686-5F13-4540-B257-19A38147596D}" type="slidenum">
              <a:t>2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FD5EAB-421F-47FA-8A96-1F7F2D6A82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222120"/>
            <a:ext cx="8839440" cy="6199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7EB3-A19C-4C0D-B6DF-6351334F5CB0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8F1E0C-6980-4C80-9FED-3D534B327E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43000" y="128520"/>
            <a:ext cx="6858000" cy="6599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101D-421C-4F9A-8CAB-70F9E2AF5CF0}" type="slidenum">
              <a:t>3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334738-2812-4123-8419-E16ACF3AE8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200160"/>
            <a:ext cx="8610480" cy="6513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8710-54C9-458D-9C6D-FD926D6B1C93}" type="slidenum">
              <a:t>3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233CD4-E053-4741-95C3-D9C1E254B5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686800" cy="5840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B8A7-803A-4DC1-B212-E7062A94179F}" type="slidenum">
              <a:t>3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6DC02-EF27-4970-A2A9-A01720EDFB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143000" y="162000"/>
            <a:ext cx="6934320" cy="660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3F84-95F4-4A49-B032-1ECD0C5874C2}" type="slidenum">
              <a:t>3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70C52C-4D9D-4C8A-B5F6-4AB84A289A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4920" y="127080"/>
            <a:ext cx="8458200" cy="6543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784F-FB2D-4D5F-8321-F6D569D061A6}" type="slidenum">
              <a:t>3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CED455-C60E-424A-9765-41EA622030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2280" y="527040"/>
            <a:ext cx="8839440" cy="5429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FF23-15E7-4F91-815D-A8382EBCEEF6}" type="slidenum">
              <a:t>3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9842E5-8A4E-43C5-B0A6-8AC359ACC8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031840" y="152280"/>
            <a:ext cx="5081760" cy="655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3A4D-C8D7-4F5C-B1D4-E52515594DA0}" type="slidenum">
              <a:t>3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7DF9E8-1D46-4EE3-8141-61386E438D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19320" y="318960"/>
            <a:ext cx="6858000" cy="6361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92BE-0099-4E60-BB61-E1F0835BED6D}" type="slidenum">
              <a:t>3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636D6C-ECE8-4446-A79A-2A5D55FEF7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6320" y="442800"/>
            <a:ext cx="8915400" cy="582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71EF-B85F-4A2F-AD3D-F1E8421A80B5}" type="slidenum">
              <a:t>3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3578F8-108E-4E3E-82B8-91280A685F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320" y="844560"/>
            <a:ext cx="8915400" cy="503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A376-9AA2-4822-AAAF-88EBE721BEA0}" type="slidenum">
              <a:t>3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024365-3B4C-4723-B081-A8537DC603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09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10BC-0E99-4940-803E-13C7F9DE3367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58D5AE-81DC-4012-A00D-4FD21A6E7B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8915400" cy="26874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3809880"/>
            <a:ext cx="8991720" cy="219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5FFC-7256-4665-94F1-BFE3C0348183}" type="slidenum">
              <a:t>4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CEE871-5CDC-43C8-8F1E-FDD488F0EB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8600" y="146160"/>
            <a:ext cx="8763120" cy="6622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EB42-6A3E-4CC0-BF70-5C00A1947B31}" type="slidenum">
              <a:t>4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2E9F26-DEEF-4B58-AE5E-01829A41F2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219320" y="236520"/>
            <a:ext cx="6781680" cy="645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1532-63AF-43FC-99F4-EE7E9FA5E860}" type="slidenum">
              <a:t>4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DC630F-C87B-4FFD-86EE-D4836013AC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2120" y="160200"/>
            <a:ext cx="7696080" cy="654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BCFA-84C1-4175-8898-BD03B70D078F}" type="slidenum">
              <a:t>4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EA281A-8253-49F9-A0C6-CA1EBA848D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80880" y="125280"/>
            <a:ext cx="8382240" cy="6607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79B9-303F-4261-B35B-4AAC1244A93E}" type="slidenum">
              <a:t>4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5319F8-F5C0-4B7C-B610-CFB0A09B8C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8991360" cy="5554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4094-1EF4-4838-8F1F-EC9F37ADEE7D}" type="slidenum">
              <a:t>4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940666-1C6D-4CE8-A933-D81DB90251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6320" y="1254240"/>
            <a:ext cx="8991360" cy="4422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948A-E346-44DE-B4D1-0076AC3D212B}" type="slidenum">
              <a:t>4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B0A147-1170-44AC-B801-62046BA889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320" y="334800"/>
            <a:ext cx="8915400" cy="603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AB1E-1541-48D6-ACA9-05658A4F31DA}" type="slidenum">
              <a:t>4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C8C90F-D586-4975-B4D3-AAA1769860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6320" y="870120"/>
            <a:ext cx="8915400" cy="498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6C88-F480-4772-AE60-A16CFFA75618}" type="slidenum">
              <a:t>4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019FE7-360C-4B2D-8C00-7EB2D5BF65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3520" y="169920"/>
            <a:ext cx="8153280" cy="658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D1D3-F0DC-4FED-8F44-60F7CF826E35}" type="slidenum">
              <a:t>4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948C27-B670-4D1F-ABFC-61118177D5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76320"/>
            <a:ext cx="8534160" cy="6413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F68D-3F97-4F63-B8FB-AE37E643504E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94A60B-DE6C-401B-B04B-4E05C792E1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6320" y="853920"/>
            <a:ext cx="8915400" cy="501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0867-A0B0-4A11-ADBE-C62B8859EF70}" type="slidenum">
              <a:t>5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C96C9-6686-4CA6-8D99-93CD969A55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8839440" cy="530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4779-0CA3-44B6-8E58-11D1BBBF06FB}" type="slidenum">
              <a:t>5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81D055-5BA5-4BBE-8DE4-5F788E8B92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52280" y="341280"/>
            <a:ext cx="8839440" cy="617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7825-36F8-4DBC-B61C-CDE4105FA36C}" type="slidenum">
              <a:t>5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627E15-B1E9-457D-8C93-ACCD73110B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763120" cy="526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9533-1DBE-4F11-8546-2C09D58E4AEE}" type="slidenum">
              <a:t>5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5FDB91-CCBB-481D-8FCC-3096FF5F9C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6172200" cy="4865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761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cholar.google.com.ua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itations?hl=uk&amp;user=Ha_d_VEAAAAJ&amp;view_op=list_works&amp;sortby=pubdat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41400" y="1370880"/>
            <a:ext cx="7279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Decision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making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in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condition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of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multi-alternativenes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and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uncertaint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C810-6A57-4F48-9F49-0E0B04754482}" type="slidenum">
              <a:t>5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85AD8E-0B97-47BA-8224-5318BFC235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8763120" cy="5643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E45B-2F5C-4E57-B145-7F217AC27433}" type="slidenum">
              <a:t>5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093DD8-444C-4770-83A5-DC55542E60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55440"/>
            <a:ext cx="7696080" cy="668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8D6B-88EC-4758-B464-5BF4BE13FA38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7EFD0-8649-421F-B82E-3396B68CF7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236520"/>
            <a:ext cx="8763120" cy="644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63BF-89CB-46B4-9E76-2767D5CE3467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712557-B858-44DE-A832-F48E7EB927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06200"/>
            <a:ext cx="8153280" cy="658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D29E-7B8F-4628-9076-F726F2D5D13E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4F60F4-D5BB-4E99-B80B-DA429BCDF3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163440"/>
            <a:ext cx="7315200" cy="652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EB47-F117-4589-971B-4DB91F5E301F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21C8BC-8764-49A2-B8E2-FF41D1678C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дрей</cp:lastModifiedBy>
  <dcterms:modified xsi:type="dcterms:W3CDTF">2019-10-03T18:33:4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