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1F3-CE6D-4162-9E3C-76EC8462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E42-ED56-4038-998A-21EC89F1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D49-6E8B-4816-A8C7-C7ECB4CB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42C-756F-4467-875D-C906C5F4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246C-1F25-4BF5-8B2B-397CB23D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3BA8-36BA-45B9-82D2-E10CE55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6BDB-AE2D-4453-9D6B-3136481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6BB1-5F6C-4F1F-A817-09D8D58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3EE2-CAC6-4535-9934-906D5FF6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0E0C-7CCB-4960-BDC4-5EDD882A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24FD-D787-4A43-8020-0AF0E87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A68-9DB6-44A1-9D8E-EFF7952B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E7C7-0576-43ED-9254-CCAF330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E5E4-C445-484C-AD5C-15B9D528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A4FE-55E4-4764-B057-01BD9C81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512F-45D5-4C20-88C3-DFBE7CB2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3C17-43E2-4019-B840-F759FDCF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A771-4BED-4BD7-B1BB-35083F34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FE83-0AF2-43D3-8A95-CDE55681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73EC-FD7E-487A-B0C0-57CE4C4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1E6A-5726-474C-B65B-19F00870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DD36-07A6-4188-940C-EE659A33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56A-3186-4E4E-AC4C-B8432FBF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C6CD-B011-4949-B600-6F8220EA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B6C1-8AEE-4DF1-8A1E-65B10F2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CDC5-32D3-4DC4-9178-A1FEBF0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3802-88C9-4128-804E-FB57433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9253-5019-4C23-AE90-C728701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8568-6A95-4414-8F0C-D90C4EB2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6C22-41F0-4F6C-8B26-D5FB2D76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0604D-53D8-4B3D-B83D-54A6FDCA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2F69-623B-4063-8A25-8A5D3538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600B-7568-43C4-992C-8DFC552F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97C-ADBE-4EE6-B53C-7D98DA6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3B10-B5FE-4F02-8ADF-FB94BB9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EC9B-584B-4B9B-867F-7E981BAE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5957-BE95-417E-AC25-AF00AF85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5589-0D3F-4542-85AD-52B57B5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75C6E-2A07-4AC2-898C-BD986E9B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4D3F8-E696-45B9-AC94-D13A8C04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55C5-1E2B-414B-8FD5-596562B6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6B93-0D2C-4647-93D2-9FB2D602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96F3C-92B8-4318-B662-5E3B8F34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A8E-CD24-49DA-BAF6-0528DB24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A76-89FA-4AAC-823C-4AC8C9F4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76F-F1C7-4802-855E-CE73072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A32-0E47-49B3-8009-2601242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F0A-644F-4F38-BBF6-0CF0C57D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128-B661-459A-A5F5-294AEB6DC803}" type="datetime">
              <a:rPr b="0" lang="uk-UA" sz="1000" spc="-1" strike="noStrike">
                <a:solidFill>
                  <a:srgbClr val="0a304a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C7D-2833-4FDF-BBBE-6D6029765DE2}" type="slidenum">
              <a:rPr b="0" lang="uk-UA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0FBC-EEE0-4A63-BE26-74F4B69D3CA1}" type="datetime">
              <a:rPr b="0" lang="uk-UA" sz="1000" spc="-1" strike="noStrike">
                <a:solidFill>
                  <a:srgbClr val="0a304a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E29E-C651-4DBC-8811-D4D68EE86B23}" type="slidenum">
              <a:rPr b="0" lang="uk-UA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1CD6-3921-4BD2-8B87-B5841D6FC7AD}" type="datetime">
              <a:rPr b="0" lang="uk-UA" sz="1000" spc="-1" strike="noStrike">
                <a:solidFill>
                  <a:srgbClr val="0a304a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C1DB-DF13-4302-98FB-D8B6D4D1371F}" type="slidenum">
              <a:rPr b="0" lang="uk-UA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A890-451C-4F30-9E19-3E9C195B276E}" type="datetime">
              <a:rPr b="0" lang="uk-UA" sz="1000" spc="-1" strike="noStrike">
                <a:solidFill>
                  <a:srgbClr val="0a304a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D422-38BB-4F96-846F-40B950F42E37}" type="slidenum">
              <a:rPr b="0" lang="uk-UA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676440" y="676440"/>
            <a:ext cx="11260080" cy="29937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997520" y="413028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100" spc="-1" strike="noStrike">
                <a:solidFill>
                  <a:srgbClr val="052f61"/>
                </a:solidFill>
                <a:latin typeface="Century Gothic"/>
              </a:rPr>
              <a:t>Виконала студентка другого курсу ФК-215 групи</a:t>
            </a:r>
            <a:endParaRPr b="0" lang="en-US" sz="21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100" spc="-1" strike="noStrike">
                <a:solidFill>
                  <a:srgbClr val="052f61"/>
                </a:solidFill>
                <a:latin typeface="Century Gothic"/>
              </a:rPr>
              <a:t>Гулаткан Тетяна Юріївна</a:t>
            </a:r>
            <a:endParaRPr b="0" lang="en-US" sz="21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100" spc="-1" strike="noStrike">
                <a:solidFill>
                  <a:srgbClr val="052f61"/>
                </a:solidFill>
                <a:latin typeface="Century Gothic"/>
              </a:rPr>
              <a:t>Керівник: Рибак Олена Миколаївна</a:t>
            </a:r>
            <a:endParaRPr b="0" lang="en-US" sz="21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0840" y="355680"/>
            <a:ext cx="9771120" cy="1063440"/>
          </a:xfrm>
          <a:prstGeom prst="rect">
            <a:avLst/>
          </a:prstGeom>
          <a:gradFill rotWithShape="0">
            <a:gsLst>
              <a:gs pos="0">
                <a:srgbClr val="b6bdc6"/>
              </a:gs>
              <a:gs pos="100000">
                <a:srgbClr val="677394"/>
              </a:gs>
            </a:gsLst>
            <a:lin ang="5400000"/>
          </a:gradFill>
          <a:ln cap="rnd" w="9360">
            <a:solidFill>
              <a:srgbClr val="87919c">
                <a:alpha val="60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ЧАСТКА НЕПРАЦЮЮЧИХ КРЕДИТІВ У ПОРТФЕЛЯХ БАНКІ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4" name="Объект 6" descr=""/>
          <p:cNvPicPr/>
          <p:nvPr/>
        </p:nvPicPr>
        <p:blipFill>
          <a:blip r:embed="rId1"/>
          <a:srcRect l="23723" t="30113" r="23635" b="37042"/>
          <a:stretch/>
        </p:blipFill>
        <p:spPr>
          <a:xfrm>
            <a:off x="1050840" y="1541520"/>
            <a:ext cx="9771120" cy="4554360"/>
          </a:xfrm>
          <a:prstGeom prst="rect">
            <a:avLst/>
          </a:prstGeom>
          <a:ln w="0">
            <a:noFill/>
          </a:ln>
        </p:spPr>
      </p:pic>
      <p:sp>
        <p:nvSpPr>
          <p:cNvPr id="195" name="Номер слайда 3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3FDF-D0D1-40BF-B648-29E1E622FE6A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Заголовок 1"/>
          <p:cNvGrpSpPr/>
          <p:nvPr/>
        </p:nvGrpSpPr>
        <p:grpSpPr>
          <a:xfrm>
            <a:off x="822240" y="285840"/>
            <a:ext cx="10436400" cy="1377720"/>
            <a:chOff x="822240" y="285840"/>
            <a:chExt cx="10436400" cy="1377720"/>
          </a:xfrm>
        </p:grpSpPr>
        <p:pic>
          <p:nvPicPr>
            <p:cNvPr id="1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22240" y="285840"/>
              <a:ext cx="1043640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35200" y="299880"/>
              <a:ext cx="104104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entury Gothic"/>
                </a:rPr>
                <a:t>ВІДСОТКОВІ СТАВКИ ЗА НОВИМИ КРЕДИТАМИ</a:t>
              </a:r>
              <a:endParaRPr b="0" lang="en-US" sz="36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99" name="Объект 3" descr=""/>
          <p:cNvPicPr/>
          <p:nvPr/>
        </p:nvPicPr>
        <p:blipFill>
          <a:blip r:embed="rId2"/>
          <a:srcRect l="24603" t="53258" r="24307" b="10276"/>
          <a:stretch/>
        </p:blipFill>
        <p:spPr>
          <a:xfrm>
            <a:off x="835200" y="1870200"/>
            <a:ext cx="10410480" cy="4667040"/>
          </a:xfrm>
          <a:prstGeom prst="rect">
            <a:avLst/>
          </a:prstGeom>
          <a:ln w="0">
            <a:noFill/>
          </a:ln>
        </p:spPr>
      </p:pic>
      <p:sp>
        <p:nvSpPr>
          <p:cNvPr id="200" name="Номер слайда 4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FE68-A1AC-4FFE-97AA-BCFCA87D3B68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pull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0" y="17748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ДИНАМІКА АКТИВІВ БАНКІВСЬКОЇ СИСТЕМИ УКРАЇНИ В 2014-2016 РР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Объект 3" descr=""/>
          <p:cNvPicPr/>
          <p:nvPr/>
        </p:nvPicPr>
        <p:blipFill>
          <a:blip r:embed="rId1"/>
          <a:srcRect l="30250" t="20212" r="31219" b="50054"/>
          <a:stretch/>
        </p:blipFill>
        <p:spPr>
          <a:xfrm>
            <a:off x="1843200" y="1297080"/>
            <a:ext cx="8556480" cy="32209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" descr=""/>
          <p:cNvPicPr/>
          <p:nvPr/>
        </p:nvPicPr>
        <p:blipFill>
          <a:blip r:embed="rId2"/>
          <a:srcRect l="25746" t="53735" r="26902" b="22377"/>
          <a:stretch/>
        </p:blipFill>
        <p:spPr>
          <a:xfrm>
            <a:off x="2149560" y="4654440"/>
            <a:ext cx="7942320" cy="1760760"/>
          </a:xfrm>
          <a:prstGeom prst="rect">
            <a:avLst/>
          </a:prstGeom>
          <a:ln w="0">
            <a:noFill/>
          </a:ln>
        </p:spPr>
      </p:pic>
      <p:sp>
        <p:nvSpPr>
          <p:cNvPr id="204" name="Номер слайда 4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BF6C-7CA0-439D-AFBC-7E61AC87D6D3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7400" y="132840"/>
            <a:ext cx="853452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ДИНАМІКА ПОКАЗНИКІВ ЯКОСТІ КРЕДИТНОГО ПОРТФЕЛЯ БАНКІВ УКРАЇНИ В 2014–2016 РР., МЛН. ГРН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Объект 3" descr=""/>
          <p:cNvPicPr/>
          <p:nvPr/>
        </p:nvPicPr>
        <p:blipFill>
          <a:blip r:embed="rId1"/>
          <a:srcRect l="29553" t="37766" r="30444" b="21654"/>
          <a:stretch/>
        </p:blipFill>
        <p:spPr>
          <a:xfrm>
            <a:off x="873000" y="1255680"/>
            <a:ext cx="9588600" cy="34765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"/>
          <p:cNvPicPr/>
          <p:nvPr/>
        </p:nvPicPr>
        <p:blipFill>
          <a:blip r:embed="rId2"/>
          <a:srcRect l="25297" t="49355" r="27016" b="26358"/>
          <a:stretch/>
        </p:blipFill>
        <p:spPr>
          <a:xfrm>
            <a:off x="1104840" y="4818240"/>
            <a:ext cx="9595080" cy="1884240"/>
          </a:xfrm>
          <a:prstGeom prst="rect">
            <a:avLst/>
          </a:prstGeom>
          <a:ln w="0">
            <a:noFill/>
          </a:ln>
        </p:spPr>
      </p:pic>
      <p:sp>
        <p:nvSpPr>
          <p:cNvPr id="208" name="Номер слайда 4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B52A-CCB7-4146-A8A6-39D6F81C5E68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rcRect l="25206" t="21427" r="27458" b="6462"/>
          <a:stretch/>
        </p:blipFill>
        <p:spPr>
          <a:xfrm>
            <a:off x="1065240" y="600120"/>
            <a:ext cx="9948960" cy="5622840"/>
          </a:xfrm>
          <a:prstGeom prst="rect">
            <a:avLst/>
          </a:prstGeom>
          <a:ln w="9360">
            <a:solidFill>
              <a:srgbClr val="0f496f"/>
            </a:solidFill>
            <a:miter/>
          </a:ln>
        </p:spPr>
      </p:pic>
      <p:sp>
        <p:nvSpPr>
          <p:cNvPr id="211" name="Номер слайда 4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B4A8-347C-4535-8CE2-43016CFF00D3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Объект 8" descr=""/>
          <p:cNvPicPr/>
          <p:nvPr/>
        </p:nvPicPr>
        <p:blipFill>
          <a:blip r:embed="rId1"/>
          <a:srcRect l="0" t="0" r="142" b="3406"/>
          <a:stretch/>
        </p:blipFill>
        <p:spPr>
          <a:xfrm>
            <a:off x="860400" y="685800"/>
            <a:ext cx="10507680" cy="5456160"/>
          </a:xfrm>
          <a:prstGeom prst="rect">
            <a:avLst/>
          </a:prstGeom>
          <a:ln w="0">
            <a:noFill/>
          </a:ln>
        </p:spPr>
      </p:pic>
      <p:sp>
        <p:nvSpPr>
          <p:cNvPr id="214" name="Номер слайда 3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71F3-BFE2-4C46-9FE4-CD538B2A29BC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6T15:17:44Z</dcterms:created>
  <dc:creator> Lenovo</dc:creator>
  <dc:description/>
  <dc:language>en-US</dc:language>
  <cp:lastModifiedBy>User</cp:lastModifiedBy>
  <dcterms:modified xsi:type="dcterms:W3CDTF">2018-03-14T14:11:06Z</dcterms:modified>
  <cp:revision>28</cp:revision>
  <dc:subject/>
  <dc:title>Особливості управління ресурсним потенціалом депозитних корпорацій</dc:title>
</cp:coreProperties>
</file>