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33BF-CED1-4A04-95E4-73B7B2CB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9165-2BBB-4F7C-BBB4-21484ECC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89E6-E628-47B8-AA34-69BBB1E7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2D28-A1FD-4414-AA50-4DF0058C7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8997-78E3-402E-BD24-8CE3A930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C1D6-D07E-41F9-939B-ABB36B4D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E208-A96B-4FFB-BA63-717C85FB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71DA-EE81-4C9A-8FA6-B0D69103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F6E5-E9CF-4546-BDA6-F67A1544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B40F-E3F8-46C0-81FC-032E4053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F8C5-00D1-4893-B55E-939BC2EA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421D-DF4B-46A7-8583-E548C2A7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EE6B-0173-46EE-9BAD-AC72215D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25D1-A552-4C64-ABDD-3945D66A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D33F-12F5-4C47-B249-22CF6B03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3614-23E3-407A-9106-BB5F56AB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5467-BAEE-4184-9C4A-2BF5EBE15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0C2CF-0D65-4296-A923-13A78C06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96752-2BB4-45D2-99F5-02055B9C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188E3-F60D-415D-8F94-7FF39396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904C6-CDBF-4C6D-A58F-569F7AD5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67703-97E2-4587-9AD4-2B85A181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12F3-196B-4965-9C7E-AEB1095D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11D66-4B6F-4C8C-9838-8BCAD2BC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D08E2-D96F-4DF9-8DCB-9F09D933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49936-E4B3-4C2A-B2EB-136DAF04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963C9-93F7-42C6-BCE0-BFE66110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27118-D433-47F6-BEE8-726A06BA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4F09F-EBD6-42BB-B1EB-8111DC76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56CA5-48A5-43B5-AD2D-8EA15DD0A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646FB-E567-4807-9B66-C43CE7B6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6F626-4638-4A6D-9958-08FFB36F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6D005-E425-4011-9D51-2F28AD73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C7ED-6D39-41E4-A5F5-F722820E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D257B-E397-4168-93C5-90C892F4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A880D-BF0C-46C5-AF0E-5A860343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54E2E-D9DE-4C74-A620-905B4128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84309-A74F-4AA9-BA61-9D26CE7B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41D82-9E18-470D-84ED-5C79778A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95EF4-C3AE-473C-AE24-9A702DEC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8BE0C-470F-4984-81DC-666C64A5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B3E91-7D56-4BCB-9D2A-CCC5D7A3D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B8BBF-6998-433F-A753-077AFC81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79A1-AC1F-47C5-99FE-BED2C571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B2B0-BFF1-4581-894D-EDDA815F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8F86-2C0B-48C4-A9C4-87A0F3AD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67B2-DEFA-4753-B5C3-9329F43D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87DD-5A1D-4BE0-BF75-9BDA683B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11275920" y="2963880"/>
              <a:ext cx="91260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10292400" y="3285360"/>
              <a:ext cx="1896480" cy="18961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10442880" y="3131280"/>
              <a:ext cx="1745640" cy="17452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10918800" y="3683160"/>
              <a:ext cx="1269720" cy="12697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D22C-FC7E-49C4-94B8-DDE4B2D26FA0}" type="datetime">
              <a:rPr b="0" lang="uk-UA" sz="1000" spc="-1" strike="noStrike">
                <a:solidFill>
                  <a:srgbClr val="0a304a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32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4A0D-A493-4F7F-9E66-E26AEC1D7554}" type="slidenum">
              <a:rPr b="0" lang="uk-UA" sz="32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 flipH="1">
            <a:off x="8227800" y="7920"/>
            <a:ext cx="3809880" cy="3809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Straight Connector 16"/>
          <p:cNvSpPr/>
          <p:nvPr/>
        </p:nvSpPr>
        <p:spPr>
          <a:xfrm flipH="1">
            <a:off x="6108480" y="92160"/>
            <a:ext cx="6080040" cy="60800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Straight Connector 18"/>
          <p:cNvSpPr/>
          <p:nvPr/>
        </p:nvSpPr>
        <p:spPr>
          <a:xfrm flipH="1">
            <a:off x="7236000" y="228600"/>
            <a:ext cx="4952880" cy="4952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Straight Connector 20"/>
          <p:cNvSpPr/>
          <p:nvPr/>
        </p:nvSpPr>
        <p:spPr>
          <a:xfrm flipH="1">
            <a:off x="7335360" y="31680"/>
            <a:ext cx="4853160" cy="485316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Straight Connector 22"/>
          <p:cNvSpPr/>
          <p:nvPr/>
        </p:nvSpPr>
        <p:spPr>
          <a:xfrm flipH="1">
            <a:off x="7845120" y="609480"/>
            <a:ext cx="4343400" cy="434340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1EF8-36B8-401A-99DF-A128A77F05B9}" type="datetime">
              <a:rPr b="0" lang="uk-UA" sz="1000" spc="-1" strike="noStrike">
                <a:solidFill>
                  <a:srgbClr val="0a304a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32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ABEC-5BAD-4F8F-9AA2-2EC655F471DA}" type="slidenum">
              <a:rPr b="0" lang="uk-UA" sz="32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94" name="Straight Connector 7"/>
            <p:cNvSpPr/>
            <p:nvPr/>
          </p:nvSpPr>
          <p:spPr>
            <a:xfrm flipH="1">
              <a:off x="11275920" y="2963880"/>
              <a:ext cx="91260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5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9"/>
            <p:cNvSpPr/>
            <p:nvPr/>
          </p:nvSpPr>
          <p:spPr>
            <a:xfrm flipH="1">
              <a:off x="10292400" y="3285360"/>
              <a:ext cx="1896480" cy="18961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10"/>
            <p:cNvSpPr/>
            <p:nvPr/>
          </p:nvSpPr>
          <p:spPr>
            <a:xfrm flipH="1">
              <a:off x="10442880" y="3131280"/>
              <a:ext cx="1745640" cy="17452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1"/>
            <p:cNvSpPr/>
            <p:nvPr/>
          </p:nvSpPr>
          <p:spPr>
            <a:xfrm flipH="1">
              <a:off x="10918800" y="3683160"/>
              <a:ext cx="1269720" cy="12697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99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93E7-67F2-4170-9C3F-347059E34C48}" type="datetime">
              <a:rPr b="0" lang="uk-UA" sz="1000" spc="-1" strike="noStrike">
                <a:solidFill>
                  <a:srgbClr val="0a304a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32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C78B-A993-4D66-8965-2E5B9CDEE902}" type="slidenum">
              <a:rPr b="0" lang="uk-UA" sz="32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43" name="Straight Connector 7"/>
            <p:cNvSpPr/>
            <p:nvPr/>
          </p:nvSpPr>
          <p:spPr>
            <a:xfrm flipH="1">
              <a:off x="11275920" y="2963880"/>
              <a:ext cx="91260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4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9"/>
            <p:cNvSpPr/>
            <p:nvPr/>
          </p:nvSpPr>
          <p:spPr>
            <a:xfrm flipH="1">
              <a:off x="10292400" y="3285360"/>
              <a:ext cx="1896480" cy="18961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10"/>
            <p:cNvSpPr/>
            <p:nvPr/>
          </p:nvSpPr>
          <p:spPr>
            <a:xfrm flipH="1">
              <a:off x="10442880" y="3131280"/>
              <a:ext cx="1745640" cy="17452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1"/>
            <p:cNvSpPr/>
            <p:nvPr/>
          </p:nvSpPr>
          <p:spPr>
            <a:xfrm flipH="1">
              <a:off x="10918800" y="3683160"/>
              <a:ext cx="1269720" cy="12697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8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727F-FEDE-4553-B42A-8E220663DD11}" type="datetime">
              <a:rPr b="0" lang="uk-UA" sz="1000" spc="-1" strike="noStrike">
                <a:solidFill>
                  <a:srgbClr val="0a304a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32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2CF5-CC77-44EF-905E-D9C7E2100EFC}" type="slidenum">
              <a:rPr b="0" lang="uk-UA" sz="32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Заголовок 1" descr=""/>
          <p:cNvPicPr/>
          <p:nvPr/>
        </p:nvPicPr>
        <p:blipFill>
          <a:blip r:embed="rId1"/>
          <a:stretch/>
        </p:blipFill>
        <p:spPr>
          <a:xfrm>
            <a:off x="676440" y="676440"/>
            <a:ext cx="11260080" cy="29937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997520" y="4130280"/>
            <a:ext cx="6400800" cy="19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100" spc="-1" strike="noStrike">
                <a:solidFill>
                  <a:srgbClr val="052f61"/>
                </a:solidFill>
                <a:latin typeface="Century Gothic"/>
              </a:rPr>
              <a:t>Виконала студентка другого курсу ФК-215 групи</a:t>
            </a:r>
            <a:endParaRPr b="0" lang="en-US" sz="2100" spc="-1" strike="noStrike">
              <a:solidFill>
                <a:srgbClr val="0f496f"/>
              </a:solidFill>
              <a:latin typeface="Century Gothic"/>
            </a:endParaRPr>
          </a:p>
          <a:p>
            <a:pPr algn="r"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100" spc="-1" strike="noStrike">
                <a:solidFill>
                  <a:srgbClr val="052f61"/>
                </a:solidFill>
                <a:latin typeface="Century Gothic"/>
              </a:rPr>
              <a:t>Гулаткан Тетяна Юріївна</a:t>
            </a:r>
            <a:endParaRPr b="0" lang="en-US" sz="2100" spc="-1" strike="noStrike">
              <a:solidFill>
                <a:srgbClr val="0f496f"/>
              </a:solidFill>
              <a:latin typeface="Century Gothic"/>
            </a:endParaRPr>
          </a:p>
          <a:p>
            <a:pPr algn="r"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100" spc="-1" strike="noStrike">
                <a:solidFill>
                  <a:srgbClr val="052f61"/>
                </a:solidFill>
                <a:latin typeface="Century Gothic"/>
              </a:rPr>
              <a:t>Керівник: Рибак Олена Миколаївна</a:t>
            </a:r>
            <a:endParaRPr b="0" lang="en-US" sz="21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0840" y="355680"/>
            <a:ext cx="9771120" cy="1063440"/>
          </a:xfrm>
          <a:prstGeom prst="rect">
            <a:avLst/>
          </a:prstGeom>
          <a:gradFill rotWithShape="0">
            <a:gsLst>
              <a:gs pos="0">
                <a:srgbClr val="b6bdc6"/>
              </a:gs>
              <a:gs pos="100000">
                <a:srgbClr val="677394"/>
              </a:gs>
            </a:gsLst>
            <a:lin ang="5400000"/>
          </a:gradFill>
          <a:ln cap="rnd" w="9360">
            <a:solidFill>
              <a:srgbClr val="87919c">
                <a:alpha val="60000"/>
              </a:srgbClr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Gothic"/>
              </a:rPr>
              <a:t>ЧАСТКА НЕПРАЦЮЮЧИХ КРЕДИТІВ У ПОРТФЕЛЯХ БАНКІВ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4" name="Объект 6" descr=""/>
          <p:cNvPicPr/>
          <p:nvPr/>
        </p:nvPicPr>
        <p:blipFill>
          <a:blip r:embed="rId1"/>
          <a:srcRect l="23723" t="30113" r="23635" b="37042"/>
          <a:stretch/>
        </p:blipFill>
        <p:spPr>
          <a:xfrm>
            <a:off x="1050840" y="1541520"/>
            <a:ext cx="9771120" cy="4554360"/>
          </a:xfrm>
          <a:prstGeom prst="rect">
            <a:avLst/>
          </a:prstGeom>
          <a:ln w="0">
            <a:noFill/>
          </a:ln>
        </p:spPr>
      </p:pic>
      <p:sp>
        <p:nvSpPr>
          <p:cNvPr id="195" name="Номер слайда 3"/>
          <p:cNvSpPr/>
          <p:nvPr/>
        </p:nvSpPr>
        <p:spPr>
          <a:xfrm>
            <a:off x="10363320" y="5578560"/>
            <a:ext cx="1143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BEF5-7A06-4537-920E-3D9F522E7C03}" type="slidenum">
              <a:rPr b="0" lang="uk-UA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Заголовок 1"/>
          <p:cNvGrpSpPr/>
          <p:nvPr/>
        </p:nvGrpSpPr>
        <p:grpSpPr>
          <a:xfrm>
            <a:off x="822240" y="285840"/>
            <a:ext cx="10436400" cy="1377720"/>
            <a:chOff x="822240" y="285840"/>
            <a:chExt cx="10436400" cy="1377720"/>
          </a:xfrm>
        </p:grpSpPr>
        <p:pic>
          <p:nvPicPr>
            <p:cNvPr id="19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822240" y="285840"/>
              <a:ext cx="10436400" cy="13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835200" y="299880"/>
              <a:ext cx="104104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uk-UA" sz="3600" spc="-1" strike="noStrike">
                  <a:solidFill>
                    <a:srgbClr val="ffffff"/>
                  </a:solidFill>
                  <a:latin typeface="Century Gothic"/>
                </a:rPr>
                <a:t>ВІДСОТКОВІ СТАВКИ ЗА НОВИМИ КРЕДИТАМИ</a:t>
              </a:r>
              <a:endParaRPr b="0" lang="en-US" sz="36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99" name="Объект 3" descr=""/>
          <p:cNvPicPr/>
          <p:nvPr/>
        </p:nvPicPr>
        <p:blipFill>
          <a:blip r:embed="rId2"/>
          <a:srcRect l="24603" t="53258" r="24307" b="10276"/>
          <a:stretch/>
        </p:blipFill>
        <p:spPr>
          <a:xfrm>
            <a:off x="835200" y="1870200"/>
            <a:ext cx="10410480" cy="4667040"/>
          </a:xfrm>
          <a:prstGeom prst="rect">
            <a:avLst/>
          </a:prstGeom>
          <a:ln w="0">
            <a:noFill/>
          </a:ln>
        </p:spPr>
      </p:pic>
      <p:sp>
        <p:nvSpPr>
          <p:cNvPr id="200" name="Номер слайда 4"/>
          <p:cNvSpPr/>
          <p:nvPr/>
        </p:nvSpPr>
        <p:spPr>
          <a:xfrm>
            <a:off x="10363320" y="5578560"/>
            <a:ext cx="1143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83C3-A989-4CC5-83D5-9FA47BFB7C45}" type="slidenum">
              <a:rPr b="0" lang="uk-UA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pull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43200" y="17748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Gothic"/>
              </a:rPr>
              <a:t>ДИНАМІКА АКТИВІВ БАНКІВСЬКОЇ СИСТЕМИ УКРАЇНИ В 2014-2016 РР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2" name="Объект 3" descr=""/>
          <p:cNvPicPr/>
          <p:nvPr/>
        </p:nvPicPr>
        <p:blipFill>
          <a:blip r:embed="rId1"/>
          <a:srcRect l="30250" t="20212" r="31219" b="50054"/>
          <a:stretch/>
        </p:blipFill>
        <p:spPr>
          <a:xfrm>
            <a:off x="1843200" y="1297080"/>
            <a:ext cx="8556480" cy="322092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2" descr=""/>
          <p:cNvPicPr/>
          <p:nvPr/>
        </p:nvPicPr>
        <p:blipFill>
          <a:blip r:embed="rId2"/>
          <a:srcRect l="25746" t="53735" r="26902" b="22377"/>
          <a:stretch/>
        </p:blipFill>
        <p:spPr>
          <a:xfrm>
            <a:off x="2149560" y="4654440"/>
            <a:ext cx="7942320" cy="1760760"/>
          </a:xfrm>
          <a:prstGeom prst="rect">
            <a:avLst/>
          </a:prstGeom>
          <a:ln w="0">
            <a:noFill/>
          </a:ln>
        </p:spPr>
      </p:pic>
      <p:sp>
        <p:nvSpPr>
          <p:cNvPr id="204" name="Номер слайда 4"/>
          <p:cNvSpPr/>
          <p:nvPr/>
        </p:nvSpPr>
        <p:spPr>
          <a:xfrm>
            <a:off x="10363320" y="5578560"/>
            <a:ext cx="1143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F0F3-53A4-43EF-A797-15D91AB6D8C1}" type="slidenum">
              <a:rPr b="0" lang="uk-UA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47400" y="132840"/>
            <a:ext cx="8534520" cy="126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Gothic"/>
              </a:rPr>
              <a:t>ДИНАМІКА ПОКАЗНИКІВ ЯКОСТІ КРЕДИТНОГО ПОРТФЕЛЯ БАНКІВ УКРАЇНИ В 2014–2016 РР., МЛН. ГРН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6" name="Объект 3" descr=""/>
          <p:cNvPicPr/>
          <p:nvPr/>
        </p:nvPicPr>
        <p:blipFill>
          <a:blip r:embed="rId1"/>
          <a:srcRect l="29553" t="37766" r="30444" b="21654"/>
          <a:stretch/>
        </p:blipFill>
        <p:spPr>
          <a:xfrm>
            <a:off x="873000" y="1255680"/>
            <a:ext cx="9588600" cy="347652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2" descr=""/>
          <p:cNvPicPr/>
          <p:nvPr/>
        </p:nvPicPr>
        <p:blipFill>
          <a:blip r:embed="rId2"/>
          <a:srcRect l="25297" t="49355" r="27016" b="26358"/>
          <a:stretch/>
        </p:blipFill>
        <p:spPr>
          <a:xfrm>
            <a:off x="1104840" y="4818240"/>
            <a:ext cx="9595080" cy="1884240"/>
          </a:xfrm>
          <a:prstGeom prst="rect">
            <a:avLst/>
          </a:prstGeom>
          <a:ln w="0">
            <a:noFill/>
          </a:ln>
        </p:spPr>
      </p:pic>
      <p:sp>
        <p:nvSpPr>
          <p:cNvPr id="208" name="Номер слайда 4"/>
          <p:cNvSpPr/>
          <p:nvPr/>
        </p:nvSpPr>
        <p:spPr>
          <a:xfrm>
            <a:off x="10363320" y="5578560"/>
            <a:ext cx="1143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69C7-D941-47EA-A210-81A7CBB8B6BF}" type="slidenum">
              <a:rPr b="0" lang="uk-UA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0" name="Объект 3" descr=""/>
          <p:cNvPicPr/>
          <p:nvPr/>
        </p:nvPicPr>
        <p:blipFill>
          <a:blip r:embed="rId1"/>
          <a:srcRect l="25206" t="21427" r="27458" b="6462"/>
          <a:stretch/>
        </p:blipFill>
        <p:spPr>
          <a:xfrm>
            <a:off x="1065240" y="600120"/>
            <a:ext cx="9948960" cy="5622840"/>
          </a:xfrm>
          <a:prstGeom prst="rect">
            <a:avLst/>
          </a:prstGeom>
          <a:ln w="9360">
            <a:solidFill>
              <a:srgbClr val="0f496f"/>
            </a:solidFill>
            <a:miter/>
          </a:ln>
        </p:spPr>
      </p:pic>
      <p:sp>
        <p:nvSpPr>
          <p:cNvPr id="211" name="Номер слайда 4"/>
          <p:cNvSpPr/>
          <p:nvPr/>
        </p:nvSpPr>
        <p:spPr>
          <a:xfrm>
            <a:off x="10363320" y="5578560"/>
            <a:ext cx="1143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389B-F099-4762-9C29-55735BF537F8}" type="slidenum">
              <a:rPr b="0" lang="uk-UA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3" name="Объект 8" descr=""/>
          <p:cNvPicPr/>
          <p:nvPr/>
        </p:nvPicPr>
        <p:blipFill>
          <a:blip r:embed="rId1"/>
          <a:srcRect l="0" t="0" r="142" b="3406"/>
          <a:stretch/>
        </p:blipFill>
        <p:spPr>
          <a:xfrm>
            <a:off x="860400" y="685800"/>
            <a:ext cx="10507680" cy="5456160"/>
          </a:xfrm>
          <a:prstGeom prst="rect">
            <a:avLst/>
          </a:prstGeom>
          <a:ln w="0">
            <a:noFill/>
          </a:ln>
        </p:spPr>
      </p:pic>
      <p:sp>
        <p:nvSpPr>
          <p:cNvPr id="214" name="Номер слайда 3"/>
          <p:cNvSpPr/>
          <p:nvPr/>
        </p:nvSpPr>
        <p:spPr>
          <a:xfrm>
            <a:off x="10363320" y="5578560"/>
            <a:ext cx="1143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ECC4-8D86-40FD-BA92-BA1BCA39ADF0}" type="slidenum">
              <a:rPr b="0" lang="uk-UA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6T15:17:44Z</dcterms:created>
  <dc:creator> Lenovo</dc:creator>
  <dc:description/>
  <dc:language>en-US</dc:language>
  <cp:lastModifiedBy>User</cp:lastModifiedBy>
  <dcterms:modified xsi:type="dcterms:W3CDTF">2018-03-14T14:11:06Z</dcterms:modified>
  <cp:revision>28</cp:revision>
  <dc:subject/>
  <dc:title>Особливості управління ресурсним потенціалом депозитних корпорацій</dc:title>
</cp:coreProperties>
</file>