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A2AC-D4D2-462A-B3AA-76DB01DD6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D9D-3A6A-4F58-B9A0-7944079FF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DA5-2043-40AB-B470-17AADC3A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8B6-663C-44FA-83C8-1500507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744-654C-4516-B7A1-257225D0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852-1C22-40F0-AF28-517099F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1C7-5164-4681-9D3F-72FE025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AFD-2913-43BF-B1CD-60857E3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CF45-80B7-420A-85F4-27F7501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B17-32E3-4A19-9AA2-8706A55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4C0-F315-4FEC-96A2-FD23499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38D-8653-4A10-810C-9B93C90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6AD1-27A5-42E6-82C8-59F788E3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94D-59D6-4E69-BEF1-8A9D8FB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BF9-E0F5-4AB7-8E1E-1ABE228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37F-0CFF-4945-B92E-C33EAF0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9F64-8378-4D61-9C1E-0E2105C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549-766E-4BA0-BD2C-45D165A5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0413-6F80-467B-9A9B-1F6E2C51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D44-826C-4666-869F-13A4255E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EE2-F75B-4611-83BA-7C2DEC5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210-48A1-47EC-BDBE-BFD88A0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B4A-4921-4419-B943-1C74E9F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63A-CCF0-4F6D-BD4B-E047C29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3E7-7D17-4F7F-ACE1-4F076B5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BA0-9024-4701-B42D-137DBAC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B20-2981-4660-9A89-953E79928E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82E0-C7A9-4BA5-91AF-895FE07E5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997-69B1-4362-A455-3D1F6011DC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5E0-82D9-44FE-A14D-8F1B1476E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3600" y="1044360"/>
            <a:ext cx="1084104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цінка інвестиційної привабливості авіакомпаній України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1098720" y="4086360"/>
            <a:ext cx="310968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2"/>
          <p:cNvSpPr/>
          <p:nvPr/>
        </p:nvSpPr>
        <p:spPr>
          <a:xfrm>
            <a:off x="9186840" y="4853160"/>
            <a:ext cx="283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віда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ка ФК-4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вриленко Валерія Романі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69A-6DE5-434A-84CE-508780D33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1682640" y="1878120"/>
            <a:ext cx="953928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4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701B-DA0D-4062-8DBC-34A86F901E02}" type="slidenum">
              <a:rPr b="0" lang="ru-RU" sz="24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-203760" y="0"/>
            <a:ext cx="1239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іка пасажирообороту залізничного і авіаційного транспорту, </a:t>
            </a:r>
            <a:r>
              <a:rPr b="1" lang="uk-UA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пас.к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8" descr=""/>
          <p:cNvPicPr/>
          <p:nvPr/>
        </p:nvPicPr>
        <p:blipFill>
          <a:blip r:embed="rId1"/>
          <a:stretch/>
        </p:blipFill>
        <p:spPr>
          <a:xfrm>
            <a:off x="1292400" y="1041480"/>
            <a:ext cx="970884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20600" y="973080"/>
          <a:ext cx="11926800" cy="5848560"/>
        </p:xfrm>
        <a:graphic>
          <a:graphicData uri="http://schemas.openxmlformats.org/drawingml/2006/table">
            <a:tbl>
              <a:tblPr/>
              <a:tblGrid>
                <a:gridCol w="3338640"/>
                <a:gridCol w="1355760"/>
                <a:gridCol w="1123920"/>
                <a:gridCol w="1253880"/>
                <a:gridCol w="1457640"/>
                <a:gridCol w="1341360"/>
                <a:gridCol w="1122120"/>
                <a:gridCol w="933480"/>
              </a:tblGrid>
              <a:tr h="31500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  т. ч.  міжнарод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19116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езено пасажи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ч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і пасажиро-кіломе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пас.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езено вантажів та пош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т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і тонно-кілометри (вантажі+пош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т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 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о комерційних рейс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регуляр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5440" y="200160"/>
            <a:ext cx="10580400" cy="5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4e79"/>
                </a:solidFill>
                <a:latin typeface="Calibri Light"/>
              </a:rPr>
              <a:t>Основні показники діяльн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9448920" y="921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405-06BC-44F7-893E-FB5B0569D3AC}" type="slidenum"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5880" y="365040"/>
            <a:ext cx="11728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e79"/>
                </a:solidFill>
                <a:latin typeface="Calibri Light"/>
              </a:rPr>
              <a:t>Основні показники діяльності аеропортів України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24A-3481-41A8-A541-F04D9866189A}" type="slidenum"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0320" y="1428840"/>
          <a:ext cx="11959920" cy="4884480"/>
        </p:xfrm>
        <a:graphic>
          <a:graphicData uri="http://schemas.openxmlformats.org/drawingml/2006/table">
            <a:tbl>
              <a:tblPr/>
              <a:tblGrid>
                <a:gridCol w="3690720"/>
                <a:gridCol w="1684440"/>
                <a:gridCol w="1096920"/>
                <a:gridCol w="1098720"/>
                <a:gridCol w="1096920"/>
                <a:gridCol w="1096920"/>
                <a:gridCol w="1098360"/>
                <a:gridCol w="1096920"/>
              </a:tblGrid>
              <a:tr h="5443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  т. ч.  міжнарод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42048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яльність аеропор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равлено та прибуло 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ажиропот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ч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9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4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7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товантажопот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т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ы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204720" cy="687096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D78-5864-415F-9211-B91B98946F5E}" type="slidenum"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965-9280-441F-A357-08BC8C45A30A}" type="slidenum"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"/>
          <p:cNvSpPr/>
          <p:nvPr/>
        </p:nvSpPr>
        <p:spPr>
          <a:xfrm flipV="1">
            <a:off x="0" y="1135800"/>
            <a:ext cx="56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5760" y="444600"/>
          <a:ext cx="6049800" cy="6431040"/>
        </p:xfrm>
        <a:graphic>
          <a:graphicData uri="http://schemas.openxmlformats.org/drawingml/2006/table">
            <a:tbl>
              <a:tblPr/>
              <a:tblGrid>
                <a:gridCol w="3645000"/>
                <a:gridCol w="1185840"/>
                <a:gridCol w="1218960"/>
              </a:tblGrid>
              <a:tr h="727920"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іальні актив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засоб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інвестиції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а дебіторська заборгова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3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9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2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фінансові інвести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 та їх еквівал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ки в бан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майбутніх період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4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1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44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Необоротні активи, утримувані для продажу, та групи вибу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9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4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386400" y="444600"/>
          <a:ext cx="5805720" cy="6305400"/>
        </p:xfrm>
        <a:graphic>
          <a:graphicData uri="http://schemas.openxmlformats.org/drawingml/2006/table">
            <a:tbl>
              <a:tblPr/>
              <a:tblGrid>
                <a:gridCol w="3732480"/>
                <a:gridCol w="1079280"/>
                <a:gridCol w="993960"/>
              </a:tblGrid>
              <a:tr h="697320"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ий (пайовий)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72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озподілений прибуток (непокритий зби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47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59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90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5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6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6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кредити ба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селі вида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кредиторська заборгова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4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0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3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3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60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V. Зобов’язання, пов’язані з необоротними активами, утримуваними для продажу, та групам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72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Чиста вартість активів недержавного пенсій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9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4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Заголовок 1"/>
          <p:cNvSpPr/>
          <p:nvPr/>
        </p:nvSpPr>
        <p:spPr>
          <a:xfrm>
            <a:off x="1031760" y="0"/>
            <a:ext cx="99568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5597"/>
                </a:solidFill>
                <a:latin typeface="Calibri Light"/>
              </a:rPr>
              <a:t>ПРИКЛАД АГРЕГОВАНОГО БАЛАНСУ АВІАКОМПАНІЇ УКРАЇ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2A0-75C8-4754-8FF9-36880B12097A}" type="slidenum"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76280"/>
          <a:ext cx="5965920" cy="6234120"/>
        </p:xfrm>
        <a:graphic>
          <a:graphicData uri="http://schemas.openxmlformats.org/drawingml/2006/table">
            <a:tbl>
              <a:tblPr/>
              <a:tblGrid>
                <a:gridCol w="3781440"/>
                <a:gridCol w="1197000"/>
                <a:gridCol w="88920"/>
                <a:gridCol w="898560"/>
              </a:tblGrid>
              <a:tr h="7891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Необорот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іальні акти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засоб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 фінансові інвести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а дебіторська заборгова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фінансові інвести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 та їх еквівал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ки в бан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майбутніх пері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борот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Необоротні активи, утримувані для продажу, та груп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Заголовок 1"/>
          <p:cNvSpPr/>
          <p:nvPr/>
        </p:nvSpPr>
        <p:spPr>
          <a:xfrm>
            <a:off x="776160" y="0"/>
            <a:ext cx="99568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5597"/>
                </a:solidFill>
                <a:latin typeface="Calibri Light"/>
              </a:rPr>
              <a:t>ПРИКЛАД АГРЕГОВАНОГО БАЛАНСУ КОМПАНІЇ СФЕРИ 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29280" y="457200"/>
          <a:ext cx="6162840" cy="6438960"/>
        </p:xfrm>
        <a:graphic>
          <a:graphicData uri="http://schemas.openxmlformats.org/drawingml/2006/table">
            <a:tbl>
              <a:tblPr/>
              <a:tblGrid>
                <a:gridCol w="4287960"/>
                <a:gridCol w="922320"/>
                <a:gridCol w="115920"/>
                <a:gridCol w="836640"/>
              </a:tblGrid>
              <a:tr h="694440">
                <a:tc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Влас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21600" rIns="21600" tIns="21600" bIns="21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1600" marR="2160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ий (пайовий)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озподілений прибуток (непокритий зби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кредити ба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кредиторська заборговані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и майбутніх пері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08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V. Зобов’язання, пов’язані з необоротними активами, утримуваними для продажу, та групам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Чиста вартість активів недержавного пенсій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1712880" y="1017720"/>
            <a:ext cx="9051840" cy="5943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3040" y="-138600"/>
            <a:ext cx="1150632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03864"/>
                </a:solidFill>
                <a:latin typeface="Calibri Light"/>
              </a:rPr>
              <a:t>Послідовність оцінки інвестиційної приваблив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940284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506-0C23-4E30-9826-1E41EFA7CFFB}" type="slidenum">
              <a:rPr b="0" lang="ru-RU" sz="2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4917960" y="2681280"/>
            <a:ext cx="1074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"/>
          <p:cNvPicPr/>
          <p:nvPr/>
        </p:nvPicPr>
        <p:blipFill>
          <a:blip r:embed="rId2"/>
          <a:srcRect l="31376" t="27323" r="27124" b="9980"/>
          <a:stretch/>
        </p:blipFill>
        <p:spPr>
          <a:xfrm>
            <a:off x="2638440" y="866880"/>
            <a:ext cx="7542360" cy="5991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-138600"/>
            <a:ext cx="1150632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03864"/>
                </a:solidFill>
                <a:latin typeface="Calibri Light"/>
              </a:rPr>
              <a:t>Послідовність оцінки інвестиційної приваблив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940284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3195-002F-4BDD-A473-97AF15EDE8EC}" type="slidenum">
              <a:rPr b="0" lang="ru-RU" sz="2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19:15:27Z</dcterms:created>
  <dc:creator>RePack by Diakov</dc:creator>
  <dc:description/>
  <dc:language>en-US</dc:language>
  <cp:lastModifiedBy>User</cp:lastModifiedBy>
  <dcterms:modified xsi:type="dcterms:W3CDTF">2018-04-05T08:56:39Z</dcterms:modified>
  <cp:revision>45</cp:revision>
  <dc:subject/>
  <dc:title>Презентация PowerPoint</dc:title>
</cp:coreProperties>
</file>