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F40F-291E-4859-AD69-1374482944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69CE-8103-4135-9C81-1CFAED7BD8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90C-EC01-48E3-9E0B-185EBB57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69D-A577-4EA7-9867-E0364B62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087-689D-43B5-8844-E4B4E413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9E5-4AAA-413C-9494-58E11A07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BE1C-8F36-4194-8F1D-B3D7DA49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6615-24D6-4CBF-A736-EBD910A6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758B-B3F3-4C19-86E9-1306DDA1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EC5E-8318-4018-ACB0-BB8526F2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337E-B2C5-424A-955C-7AE9AAEA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2E1C-E314-4C4F-A7E5-0EF3EEC2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3EDC-0A95-469D-ABAD-CC3C150C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BEC-F97B-4352-AD27-29830A6C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31B1-4EB3-49B4-B9C8-88F0736C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4126-4B08-4ECB-AB54-EC3B9830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8B25-FD92-4CE7-919F-9BF54407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A665-EB7E-4EF5-857B-AD3D945A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B9FF-8903-4E86-AD68-6DBC78BA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704-4815-417E-AADB-DDBB7F81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A91-E5F3-434D-9C09-E14F15D4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CA5-3D69-45EE-B53E-65DE28D5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A6F-8584-4433-B746-4FE646A6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B35-5E08-498C-B762-2446C2F3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E00-1066-45CC-9DB3-6379EEAE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4ED-FD57-4C76-AADF-04E5FC0B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D7FA-20FE-4EF9-838C-FB7809F39B5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184C-DA62-44CA-9944-F78714463D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7DF4-4DF2-4F31-8D60-7455C814D68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A438-346F-41B9-A4BD-973E15C900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3600" y="1044360"/>
            <a:ext cx="1084104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Оцінка інвестиційної привабливості авіакомпаній України</a:t>
            </a:r>
            <a:br>
              <a:rPr sz="54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Рисунок 5" descr=""/>
          <p:cNvPicPr/>
          <p:nvPr/>
        </p:nvPicPr>
        <p:blipFill>
          <a:blip r:embed="rId1"/>
          <a:stretch/>
        </p:blipFill>
        <p:spPr>
          <a:xfrm>
            <a:off x="1098720" y="4086360"/>
            <a:ext cx="3109680" cy="25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TextBox 2"/>
          <p:cNvSpPr/>
          <p:nvPr/>
        </p:nvSpPr>
        <p:spPr>
          <a:xfrm>
            <a:off x="9186840" y="4853160"/>
            <a:ext cx="283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овідач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удентка ФК-4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вриленко Валерія Романі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34F3-101A-426A-B0F9-6E9ACA2FC0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Прямоугольник 1" descr=""/>
          <p:cNvPicPr/>
          <p:nvPr/>
        </p:nvPicPr>
        <p:blipFill>
          <a:blip r:embed="rId1"/>
          <a:stretch/>
        </p:blipFill>
        <p:spPr>
          <a:xfrm>
            <a:off x="1682640" y="1878120"/>
            <a:ext cx="9539280" cy="1749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4"/>
          <p:cNvSpPr/>
          <p:nvPr/>
        </p:nvSpPr>
        <p:spPr>
          <a:xfrm>
            <a:off x="944892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9992-0893-4976-9891-9B70A5D1613A}" type="slidenum">
              <a:rPr b="0" lang="ru-RU" sz="24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"/>
          <p:cNvSpPr/>
          <p:nvPr/>
        </p:nvSpPr>
        <p:spPr>
          <a:xfrm flipH="1">
            <a:off x="-203760" y="0"/>
            <a:ext cx="1239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наміка пасажирообороту залізничного і авіаційного транспорту, </a:t>
            </a:r>
            <a:r>
              <a:rPr b="1" lang="uk-UA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н.пас.км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Объект 8" descr=""/>
          <p:cNvPicPr/>
          <p:nvPr/>
        </p:nvPicPr>
        <p:blipFill>
          <a:blip r:embed="rId1"/>
          <a:stretch/>
        </p:blipFill>
        <p:spPr>
          <a:xfrm>
            <a:off x="1292400" y="1041480"/>
            <a:ext cx="9708840" cy="581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20600" y="973080"/>
          <a:ext cx="11926800" cy="5848560"/>
        </p:xfrm>
        <a:graphic>
          <a:graphicData uri="http://schemas.openxmlformats.org/drawingml/2006/table">
            <a:tbl>
              <a:tblPr/>
              <a:tblGrid>
                <a:gridCol w="3338640"/>
                <a:gridCol w="1355760"/>
                <a:gridCol w="1123920"/>
                <a:gridCol w="1253880"/>
                <a:gridCol w="1457640"/>
                <a:gridCol w="1341360"/>
                <a:gridCol w="1122120"/>
                <a:gridCol w="933480"/>
              </a:tblGrid>
              <a:tr h="31500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мі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  т. ч.  міжнарод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17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17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191160"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езено пасажи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ч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5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 регулярних ліні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3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6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і пасажиро-кіломет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пас.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 регулярних ліні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езено вантажів та пош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то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 регулярних ліні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870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і тонно-кілометри (вантажі+пош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т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  регулярних рей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о комерційних рейс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регуляр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1f4e79"/>
                      </a:solidFill>
                    </a:lnL>
                    <a:lnR w="9360">
                      <a:solidFill>
                        <a:srgbClr val="1f4e79"/>
                      </a:solidFill>
                    </a:lnR>
                    <a:lnT w="9360">
                      <a:solidFill>
                        <a:srgbClr val="1f4e79"/>
                      </a:solidFill>
                    </a:lnT>
                    <a:lnB w="9360">
                      <a:solidFill>
                        <a:srgbClr val="1f4e7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5440" y="200160"/>
            <a:ext cx="10580400" cy="51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f4e79"/>
                </a:solidFill>
                <a:latin typeface="Calibri Light"/>
              </a:rPr>
              <a:t>Основні показники діяльності авіакомпаній України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Номер слайда 5"/>
          <p:cNvSpPr/>
          <p:nvPr/>
        </p:nvSpPr>
        <p:spPr>
          <a:xfrm>
            <a:off x="9448920" y="921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9D4C-DBCF-422F-AECD-E7E739448541}" type="slidenum"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5880" y="365040"/>
            <a:ext cx="1172844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f4e79"/>
                </a:solidFill>
                <a:latin typeface="Calibri Light"/>
              </a:rPr>
              <a:t>Основні показники діяльності аеропортів України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944892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B0BD-3210-475D-BB99-4153C9D9A2B2}" type="slidenum"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0320" y="1428840"/>
          <a:ext cx="11959920" cy="4884480"/>
        </p:xfrm>
        <a:graphic>
          <a:graphicData uri="http://schemas.openxmlformats.org/drawingml/2006/table">
            <a:tbl>
              <a:tblPr/>
              <a:tblGrid>
                <a:gridCol w="3690720"/>
                <a:gridCol w="1684440"/>
                <a:gridCol w="1096920"/>
                <a:gridCol w="1098720"/>
                <a:gridCol w="1096920"/>
                <a:gridCol w="1096920"/>
                <a:gridCol w="1098360"/>
                <a:gridCol w="1096920"/>
              </a:tblGrid>
              <a:tr h="54432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мі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  т. ч.  міжнарод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17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17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420480"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яльність аеропорт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равлено та прибуло 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 регулярних рей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„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ажиропот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ч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9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9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9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 регулярних рей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„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7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4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7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7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товантажопот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то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на регулярных рей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„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4472c4"/>
                      </a:solidFill>
                    </a:lnL>
                    <a:lnR w="9360">
                      <a:solidFill>
                        <a:srgbClr val="4472c4"/>
                      </a:solidFill>
                    </a:lnR>
                    <a:lnT w="9360">
                      <a:solidFill>
                        <a:srgbClr val="4472c4"/>
                      </a:solidFill>
                    </a:lnT>
                    <a:lnB w="9360">
                      <a:solidFill>
                        <a:srgbClr val="4472c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Объект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2204720" cy="687096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944892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510B-4C6E-4B8E-8A41-129F30FC29BB}" type="slidenum"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944892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F84C-B2B0-47D0-87B1-E861D91951AE}" type="slidenum"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"/>
          <p:cNvSpPr/>
          <p:nvPr/>
        </p:nvSpPr>
        <p:spPr>
          <a:xfrm flipV="1">
            <a:off x="0" y="1135800"/>
            <a:ext cx="56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5760" y="444600"/>
          <a:ext cx="6049800" cy="6431040"/>
        </p:xfrm>
        <a:graphic>
          <a:graphicData uri="http://schemas.openxmlformats.org/drawingml/2006/table">
            <a:tbl>
              <a:tblPr/>
              <a:tblGrid>
                <a:gridCol w="3645000"/>
                <a:gridCol w="1185840"/>
                <a:gridCol w="1218960"/>
              </a:tblGrid>
              <a:tr h="727920">
                <a:tc>
                  <a:txBody>
                    <a:bodyPr lIns="70560" rIns="70560" tIns="70560" bIns="70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очаток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інець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еріальні актив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6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і засоб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5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інвестиції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6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а дебіторська заборгова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3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іторська заборговані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9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2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і фінансові інвести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і та їх еквівален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1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5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хунки в бан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майбутніх період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оборотні акт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7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47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1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44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Необоротні активи, утримувані для продажу, та групи вибу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96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0560" rIns="70560" tIns="70560" bIns="70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44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0560" marR="7056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386400" y="444600"/>
          <a:ext cx="5805720" cy="6305400"/>
        </p:xfrm>
        <a:graphic>
          <a:graphicData uri="http://schemas.openxmlformats.org/drawingml/2006/table">
            <a:tbl>
              <a:tblPr/>
              <a:tblGrid>
                <a:gridCol w="3732480"/>
                <a:gridCol w="1079280"/>
                <a:gridCol w="993960"/>
              </a:tblGrid>
              <a:tr h="697320"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очаток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інець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єстрований (пайовий)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ий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ий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72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озподілений прибуток (непокритий збито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747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359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590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85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зобов’яз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6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6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кредити ба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селі вида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7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кредиторська заборгован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44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03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І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337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53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560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V. Зобов’язання, пов’язані з необоротними активами, утримуваними для продажу, та групами вибутт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72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. Чиста вартість активів недержавного пенсійного фон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55800" rIns="55800" tIns="55800" bIns="558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96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55800" bIns="558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44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5800" marR="55800">
                    <a:lnL w="5760">
                      <a:solidFill>
                        <a:srgbClr val="9d9d9d"/>
                      </a:solidFill>
                    </a:lnL>
                    <a:lnR w="5760">
                      <a:solidFill>
                        <a:srgbClr val="9d9d9d"/>
                      </a:solidFill>
                    </a:lnR>
                    <a:lnT w="5760">
                      <a:solidFill>
                        <a:srgbClr val="9d9d9d"/>
                      </a:solidFill>
                    </a:lnT>
                    <a:lnB w="5760">
                      <a:solidFill>
                        <a:srgbClr val="9d9d9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Заголовок 1"/>
          <p:cNvSpPr/>
          <p:nvPr/>
        </p:nvSpPr>
        <p:spPr>
          <a:xfrm>
            <a:off x="1031760" y="0"/>
            <a:ext cx="99568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5597"/>
                </a:solidFill>
                <a:latin typeface="Calibri Light"/>
              </a:rPr>
              <a:t>ПРИКЛАД АГРЕГОВАНОГО БАЛАНСУ АВІАКОМПАНІЇ УКРАЇ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944892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592D-9FDA-4CB4-B6F8-119BC9C56673}" type="slidenum"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476280"/>
          <a:ext cx="5965920" cy="6234120"/>
        </p:xfrm>
        <a:graphic>
          <a:graphicData uri="http://schemas.openxmlformats.org/drawingml/2006/table">
            <a:tbl>
              <a:tblPr/>
              <a:tblGrid>
                <a:gridCol w="3781440"/>
                <a:gridCol w="1197000"/>
                <a:gridCol w="88920"/>
                <a:gridCol w="898560"/>
              </a:tblGrid>
              <a:tr h="7891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очаток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інець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gridSpan="4"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Необоротні акти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еріальні актив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і засоб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 фінансові інвести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а дебіторська заборгован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іторська заборговані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і фінансові інвести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і та їх еквівал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2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хунки в бан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майбутніх періо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оборотні акти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Необоротні активи, утримувані для продажу, та групи вибутт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2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" name="Заголовок 1"/>
          <p:cNvSpPr/>
          <p:nvPr/>
        </p:nvSpPr>
        <p:spPr>
          <a:xfrm>
            <a:off x="776160" y="0"/>
            <a:ext cx="99568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f5597"/>
                </a:solidFill>
                <a:latin typeface="Calibri Light"/>
              </a:rPr>
              <a:t>ПРИКЛАД АГРЕГОВАНОГО БАЛАНСУ КОМПАНІЇ СФЕРИ ПОСЛ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29280" y="457200"/>
          <a:ext cx="6162840" cy="6438960"/>
        </p:xfrm>
        <a:graphic>
          <a:graphicData uri="http://schemas.openxmlformats.org/drawingml/2006/table">
            <a:tbl>
              <a:tblPr/>
              <a:tblGrid>
                <a:gridCol w="4287960"/>
                <a:gridCol w="922320"/>
                <a:gridCol w="115920"/>
                <a:gridCol w="836640"/>
              </a:tblGrid>
              <a:tr h="694440">
                <a:tc>
                  <a:txBody>
                    <a:bodyPr lIns="54360" rIns="54360" tIns="54360" bIns="543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очаток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інець звіт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Власний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21600" rIns="21600" tIns="21600" bIns="21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1600" marR="2160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єстрований (пайовий)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ий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ий капі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озподілений прибуток (непокритий збито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зобов’яз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кредити ба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кредиторська заборгованіс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и майбутніх періо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розділом IІ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08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V. Зобов’язання, пов’язані з необоротними активами, утримуваними для продажу, та групами вибутт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. Чиста вартість активів недержавного пенсійного фон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54360" bIns="54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4360" marR="54360">
                    <a:lnL w="5760">
                      <a:solidFill>
                        <a:srgbClr val="767171"/>
                      </a:solidFill>
                    </a:lnL>
                    <a:lnR w="5760">
                      <a:solidFill>
                        <a:srgbClr val="767171"/>
                      </a:solidFill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3" descr=""/>
          <p:cNvPicPr/>
          <p:nvPr/>
        </p:nvPicPr>
        <p:blipFill>
          <a:blip r:embed="rId2"/>
          <a:stretch/>
        </p:blipFill>
        <p:spPr>
          <a:xfrm>
            <a:off x="1712880" y="1017720"/>
            <a:ext cx="9051840" cy="59436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3040" y="-138600"/>
            <a:ext cx="1150632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03864"/>
                </a:solidFill>
                <a:latin typeface="Calibri Light"/>
              </a:rPr>
              <a:t>Послідовність оцінки інвестиційної привабливості авіакомпаній України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940284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01F5-45C4-4A06-9823-A2BBDD8F6F9A}" type="slidenum">
              <a:rPr b="0" lang="ru-RU" sz="2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ая соединительная линия 6"/>
          <p:cNvSpPr/>
          <p:nvPr/>
        </p:nvSpPr>
        <p:spPr>
          <a:xfrm>
            <a:off x="4917960" y="2681280"/>
            <a:ext cx="1074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" descr=""/>
          <p:cNvPicPr/>
          <p:nvPr/>
        </p:nvPicPr>
        <p:blipFill>
          <a:blip r:embed="rId2"/>
          <a:srcRect l="31376" t="27323" r="27124" b="9980"/>
          <a:stretch/>
        </p:blipFill>
        <p:spPr>
          <a:xfrm>
            <a:off x="2638440" y="866880"/>
            <a:ext cx="7542360" cy="5991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3040" y="-138600"/>
            <a:ext cx="1150632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03864"/>
                </a:solidFill>
                <a:latin typeface="Calibri Light"/>
              </a:rPr>
              <a:t>Послідовність оцінки інвестиційної привабливості авіакомпаній України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Номер слайда 4"/>
          <p:cNvSpPr/>
          <p:nvPr/>
        </p:nvSpPr>
        <p:spPr>
          <a:xfrm>
            <a:off x="9402840" y="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0660-0AA2-4790-BE9A-60B5CBE2F777}" type="slidenum">
              <a:rPr b="0" lang="ru-RU" sz="2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19:15:27Z</dcterms:created>
  <dc:creator>RePack by Diakov</dc:creator>
  <dc:description/>
  <dc:language>en-US</dc:language>
  <cp:lastModifiedBy>User</cp:lastModifiedBy>
  <dcterms:modified xsi:type="dcterms:W3CDTF">2018-04-05T08:56:39Z</dcterms:modified>
  <cp:revision>45</cp:revision>
  <dc:subject/>
  <dc:title>Презентация PowerPoint</dc:title>
</cp:coreProperties>
</file>