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7B66-1CCF-4415-8D7F-7D4A55F4B9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8CEB-94B7-4416-8866-0EDC557237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1D2-5197-4BA8-A6B5-5054FFDB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84E5-1D28-45EF-B781-AC9E9968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370-66AF-4188-89CE-8182FED7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F8A-94AC-4522-B013-D8BAC3C6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AD91-4F02-4FAF-A570-353B3037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41E-1A46-48BE-8DA6-72096552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AFC-9FF5-4401-9C3E-FB3CD73C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D24C-47FC-427C-9712-0D0F703D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EB2-A489-4E0B-9351-97054821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AAA-8387-451A-AEA9-7B51A9F1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EFA-704E-4C1F-B83D-A74F5656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285-F162-4F05-8E08-33252E74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DE1C-102C-465A-B789-F7720E073A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ціональний авіаційний університет</a:t>
            </a:r>
            <a:br>
              <a:rPr sz="3200"/>
            </a:b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акультет економіки та бізнес-адмініструванн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4533840"/>
            <a:ext cx="7561440" cy="14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:\КЕПТ\NAU.png"/>
          <p:cNvPicPr/>
          <p:nvPr/>
        </p:nvPicPr>
        <p:blipFill>
          <a:blip r:embed="rId2"/>
          <a:stretch/>
        </p:blipFill>
        <p:spPr>
          <a:xfrm>
            <a:off x="468360" y="1916280"/>
            <a:ext cx="29512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0ec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ая соединительная линия 1" descr=""/>
          <p:cNvPicPr/>
          <p:nvPr/>
        </p:nvPicPr>
        <p:blipFill>
          <a:blip r:embed="rId1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  <p:sp>
        <p:nvSpPr>
          <p:cNvPr id="91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179280" y="1052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бутні фахівці з економіки підприємства детально вивчають такі дисциплі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2"/>
          <a:stretch/>
        </p:blipFill>
        <p:spPr>
          <a:xfrm>
            <a:off x="128520" y="2030400"/>
            <a:ext cx="9015480" cy="4194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D:\КЕПТ\weltmaerkte_gr.jpg"/>
          <p:cNvPicPr/>
          <p:nvPr/>
        </p:nvPicPr>
        <p:blipFill>
          <a:blip r:embed="rId3"/>
          <a:stretch/>
        </p:blipFill>
        <p:spPr>
          <a:xfrm>
            <a:off x="5796000" y="4929120"/>
            <a:ext cx="3024000" cy="17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ая соединительная линия 1" descr=""/>
          <p:cNvPicPr/>
          <p:nvPr/>
        </p:nvPicPr>
        <p:blipFill>
          <a:blip r:embed="rId2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  <p:sp>
        <p:nvSpPr>
          <p:cNvPr id="96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2906640" y="981000"/>
            <a:ext cx="611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пускники спеціальності «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ка підприємств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можуть працювати у структурах підприємств, пов’язаних з економічною діяльністю (фінансовою, інноваційною,    інвестиційною,    збутовою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" descr="D:\КЕПТ\Macroeconomics-Finance.jpg"/>
          <p:cNvPicPr/>
          <p:nvPr/>
        </p:nvPicPr>
        <p:blipFill>
          <a:blip r:embed="rId3"/>
          <a:srcRect l="9198" t="0" r="5788" b="0"/>
          <a:stretch/>
        </p:blipFill>
        <p:spPr>
          <a:xfrm>
            <a:off x="108000" y="1125360"/>
            <a:ext cx="2798640" cy="1582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D:\КЕПТ\14988124475956101f717e84.23204161.jpg"/>
          <p:cNvPicPr/>
          <p:nvPr/>
        </p:nvPicPr>
        <p:blipFill>
          <a:blip r:embed="rId4"/>
          <a:stretch/>
        </p:blipFill>
        <p:spPr>
          <a:xfrm>
            <a:off x="5580000" y="4336920"/>
            <a:ext cx="3440160" cy="22431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108000" y="2766960"/>
            <a:ext cx="89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их організаціях, авіапідприємствах (авіабудівних і авіаремонтних підприємствах, авіакомпаніях та їх іноземних представництвах, аеропортах), науково-дослідних організаціях, вищих навчальних заклад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160200" y="4221000"/>
            <a:ext cx="541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пускники отримують комплекс знань з основ організації і ведення бізнесу, управління його виробничою, комерційною, збутовою, фінансовою, інвестиційною діяльністю, що допоможе започаткувати власний бізне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250920" y="333360"/>
            <a:ext cx="8785080" cy="63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на інформація для абітурієнт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nau.edu.ua/ua/menu/ab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u/pamyatka-vstupnuka-2018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а, 03058, м. Киї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-т Космонавта Комарова,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пус 2, каб. 4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 кафедри: +38 (044) 406-79-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nau.kept@gmail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.edu.u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facebook.com/nau.ke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"/>
          <p:cNvSpPr/>
          <p:nvPr/>
        </p:nvSpPr>
        <p:spPr>
          <a:xfrm>
            <a:off x="395280" y="134136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узь знань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 «Соціальні та поведінкові  нау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ьність: 051 «Економі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ізація: «Міжнародна економі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іфікація: бакалавр/магістр з міжнародної економі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ітній ступінь: бакалавр/магі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навчання: денна/заоч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КЕПТ\0000061473-mirovaya-ekonomika.jpg"/>
          <p:cNvPicPr/>
          <p:nvPr/>
        </p:nvPicPr>
        <p:blipFill>
          <a:blip r:embed="rId2"/>
          <a:srcRect l="0" t="0" r="14693" b="0"/>
          <a:stretch/>
        </p:blipFill>
        <p:spPr>
          <a:xfrm>
            <a:off x="5724360" y="4149720"/>
            <a:ext cx="3168720" cy="247644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ая соединительная линия 7" descr=""/>
          <p:cNvPicPr/>
          <p:nvPr/>
        </p:nvPicPr>
        <p:blipFill>
          <a:blip r:embed="rId3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0ec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ая соединительная линия 1" descr=""/>
          <p:cNvPicPr/>
          <p:nvPr/>
        </p:nvPicPr>
        <p:blipFill>
          <a:blip r:embed="rId1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  <p:sp>
        <p:nvSpPr>
          <p:cNvPr id="56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173240" y="1125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ПЕЦІАЛІЗАЦІЯ «МІЖНАРОДНА ЕКОНОМІ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250920" y="1649160"/>
            <a:ext cx="8713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КОНКУРСНІ ПРЕДМЕ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Times New Roman"/>
                <a:ea typeface="宋体"/>
              </a:rPr>
              <a:t>на бакалавр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на базі середньої освіти (термін навчання – 4 роки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) українська мова та літерату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) математи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) географія або іноземна м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на базі диплому «молодший спеціаліст» (термін навчання – 2 або 3 роки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) вступне фахове випроб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Times New Roman"/>
                <a:ea typeface="宋体"/>
              </a:rPr>
              <a:t>на магістратуру</a:t>
            </a:r>
            <a:r>
              <a:rPr b="0" lang="uk-UA" sz="2000" spc="-1" strike="noStrike">
                <a:solidFill>
                  <a:srgbClr val="376092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термін навчання – 1,5 роки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) іноземна мова (сертифікат ЗНО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) вступне фахове випроб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D:\КЕПТ\politica.jpg"/>
          <p:cNvPicPr/>
          <p:nvPr/>
        </p:nvPicPr>
        <p:blipFill>
          <a:blip r:embed="rId2"/>
          <a:stretch/>
        </p:blipFill>
        <p:spPr>
          <a:xfrm>
            <a:off x="5364000" y="438948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ая соединительная линия 1" descr=""/>
          <p:cNvPicPr/>
          <p:nvPr/>
        </p:nvPicPr>
        <p:blipFill>
          <a:blip r:embed="rId2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  <p:sp>
        <p:nvSpPr>
          <p:cNvPr id="61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503280" y="981000"/>
            <a:ext cx="8137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ьність, яка має практичну спрямованість і дозволить вільно орієнтуватися у сфері міжнародної економічної діяльності, - це «Міжнародна економік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хівець спеціальності «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жнародна економі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підготовлений до професійної діяльності в фінансовій, кредитній, виробничій діяльності з акцентом на особливості міжнародної торгівлі, в сфері дослідження ринку, консультацій з питань комерційної діяльності та управління, реклами та інших послуг в організаціях усіх форм власності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539640" y="4869000"/>
            <a:ext cx="521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им в роботі майбутнього фахівця буде розробка міжнародних стратегій з використанням сучасних інформаційних технологі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D:\КЕПТ\shutterstock_107571698.jpg"/>
          <p:cNvPicPr/>
          <p:nvPr/>
        </p:nvPicPr>
        <p:blipFill>
          <a:blip r:embed="rId3"/>
          <a:stretch/>
        </p:blipFill>
        <p:spPr>
          <a:xfrm>
            <a:off x="5757840" y="4616280"/>
            <a:ext cx="304812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1" descr=""/>
          <p:cNvPicPr/>
          <p:nvPr/>
        </p:nvPicPr>
        <p:blipFill>
          <a:blip r:embed="rId2"/>
          <a:stretch/>
        </p:blipFill>
        <p:spPr>
          <a:xfrm>
            <a:off x="487440" y="2189160"/>
            <a:ext cx="8656560" cy="4119480"/>
          </a:xfrm>
          <a:prstGeom prst="rect">
            <a:avLst/>
          </a:prstGeom>
          <a:ln w="0">
            <a:noFill/>
          </a:ln>
        </p:spPr>
      </p:pic>
      <p:sp>
        <p:nvSpPr>
          <p:cNvPr id="66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Прямая соединительная линия 3" descr=""/>
          <p:cNvPicPr/>
          <p:nvPr/>
        </p:nvPicPr>
        <p:blipFill>
          <a:blip r:embed="rId3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179280" y="1197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бутні фахівці з міжнародної економіки детально вивчають такі дисциплі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D:\КЕПТ\saupload_world_with_money.jpg"/>
          <p:cNvPicPr/>
          <p:nvPr/>
        </p:nvPicPr>
        <p:blipFill>
          <a:blip r:embed="rId4"/>
          <a:srcRect l="0" t="9117" r="0" b="0"/>
          <a:stretch/>
        </p:blipFill>
        <p:spPr>
          <a:xfrm>
            <a:off x="5600880" y="4581360"/>
            <a:ext cx="3219120" cy="20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ая соединительная линия 1" descr=""/>
          <p:cNvPicPr/>
          <p:nvPr/>
        </p:nvPicPr>
        <p:blipFill>
          <a:blip r:embed="rId2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  <p:sp>
        <p:nvSpPr>
          <p:cNvPr id="71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3419640" y="1057320"/>
            <a:ext cx="55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пускники спеціальності «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жнародна економі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можуть працювати в міжнародних організаціях, інноваційно-інвестиційних проектах, транснаціональних             корпораціях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" descr="D:\КЕПТ\images (2).jpg"/>
          <p:cNvPicPr/>
          <p:nvPr/>
        </p:nvPicPr>
        <p:blipFill>
          <a:blip r:embed="rId3"/>
          <a:stretch/>
        </p:blipFill>
        <p:spPr>
          <a:xfrm>
            <a:off x="5796000" y="4741920"/>
            <a:ext cx="3024000" cy="1886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D:\КЕПТ\1014153792.jpg"/>
          <p:cNvPicPr/>
          <p:nvPr/>
        </p:nvPicPr>
        <p:blipFill>
          <a:blip r:embed="rId4"/>
          <a:stretch/>
        </p:blipFill>
        <p:spPr>
          <a:xfrm>
            <a:off x="250920" y="1185840"/>
            <a:ext cx="3168720" cy="16668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179280" y="2884320"/>
            <a:ext cx="878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тчизняних і зарубіжних комерційних підприємствах, українських державних структурах, фінансових установах (банках, кредитних організаціях, інвестиційних фондах, спеціалізованих фінансових компаніях, страхових компаніях), торгівельно-промислових палатах, авіапідприємствах (авіа-будівних і авіаремонтних підприємствах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іакомпаніях   та   їх   іноземн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ництвах,   аеропортах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о-дослідних  організаціях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щих  навчальних  закладах  тощ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5b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324000" y="143352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узь знань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 «Соціальні та поведінкові  нау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ьність: 051 «Економі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ізація: «Економіка підприємст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іфікація: бакалавр/магістр з економіки підприєм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ітній ступінь: бакалавр/магі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навчання: денна/заоч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D:\КЕПТ\920690356.jpg"/>
          <p:cNvPicPr/>
          <p:nvPr/>
        </p:nvPicPr>
        <p:blipFill>
          <a:blip r:embed="rId1"/>
          <a:stretch/>
        </p:blipFill>
        <p:spPr>
          <a:xfrm>
            <a:off x="5467320" y="4508640"/>
            <a:ext cx="3352680" cy="190152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ая соединительная линия 4" descr=""/>
          <p:cNvPicPr/>
          <p:nvPr/>
        </p:nvPicPr>
        <p:blipFill>
          <a:blip r:embed="rId2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ая соединительная линия 1" descr=""/>
          <p:cNvPicPr/>
          <p:nvPr/>
        </p:nvPicPr>
        <p:blipFill>
          <a:blip r:embed="rId2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  <p:sp>
        <p:nvSpPr>
          <p:cNvPr id="81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1173240" y="1125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ПЕЦІАЛІЗАЦІЯ «ЕКОНОМІКА ПІДПРИЄМСТ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250920" y="1649160"/>
            <a:ext cx="8713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КОНКУРСНІ ПРЕДМЕ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Times New Roman"/>
                <a:ea typeface="宋体"/>
              </a:rPr>
              <a:t>на бакалавр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на базі середньої освіти (термін навчання – 4 роки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) українська мова та літерату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) математи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) географія або іноземна м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на базі диплому «молодший спеціаліст» (термін навчання – 2 або 3 роки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) вступне фахове випроб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Times New Roman"/>
                <a:ea typeface="宋体"/>
              </a:rPr>
              <a:t>на магістратуру</a:t>
            </a:r>
            <a:r>
              <a:rPr b="0" lang="uk-UA" sz="2000" spc="-1" strike="noStrike">
                <a:solidFill>
                  <a:srgbClr val="376092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термін навчання – 1,5 роки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) іноземна мова (сертифікат ЗНО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003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) вступне фахове випроб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D:\КЕПТ\Без названия.jpg"/>
          <p:cNvPicPr/>
          <p:nvPr/>
        </p:nvPicPr>
        <p:blipFill>
          <a:blip r:embed="rId3"/>
          <a:stretch/>
        </p:blipFill>
        <p:spPr>
          <a:xfrm>
            <a:off x="4665600" y="4365720"/>
            <a:ext cx="4087800" cy="20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ая соединительная линия 1" descr=""/>
          <p:cNvPicPr/>
          <p:nvPr/>
        </p:nvPicPr>
        <p:blipFill>
          <a:blip r:embed="rId2"/>
          <a:stretch/>
        </p:blipFill>
        <p:spPr>
          <a:xfrm>
            <a:off x="189000" y="523800"/>
            <a:ext cx="8699400" cy="165240"/>
          </a:xfrm>
          <a:prstGeom prst="rect">
            <a:avLst/>
          </a:prstGeom>
          <a:ln w="0">
            <a:noFill/>
          </a:ln>
        </p:spPr>
      </p:pic>
      <p:sp>
        <p:nvSpPr>
          <p:cNvPr id="86" name="Подзаголовок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федра економіки повітряного транспо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250920" y="1052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ьність, яка має практичну спрямованість і дозволить вільно орієнтуватися у сфері економіки та підприємництва або створити власний бізнес, - це «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ка підприєм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287280" y="242100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хівець спеціальності «</a:t>
            </a: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кономіка підприємств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отримає сучасні знання з економічного моделювання бізнес-процесів, управління ефективністю господарської діяльності, сталим розвитком підприємства, комерціалізацією інновацій, управління проектами, бізнес-діагностики, стратегічного планування і прогнозуванн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іння активами і вартіст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приємства, забезпеченн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оспроможності 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чної безпеки компані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D:\КЕПТ\Без названия (2).jpg"/>
          <p:cNvPicPr/>
          <p:nvPr/>
        </p:nvPicPr>
        <p:blipFill>
          <a:blip r:embed="rId3"/>
          <a:srcRect l="0" t="0" r="0" b="5499"/>
          <a:stretch/>
        </p:blipFill>
        <p:spPr>
          <a:xfrm>
            <a:off x="4788000" y="4354560"/>
            <a:ext cx="4016160" cy="2387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6T07:30:33Z</dcterms:created>
  <dc:creator>Admin</dc:creator>
  <dc:description/>
  <dc:language>en-US</dc:language>
  <cp:lastModifiedBy>user</cp:lastModifiedBy>
  <dcterms:modified xsi:type="dcterms:W3CDTF">2018-06-01T18:46:02Z</dcterms:modified>
  <cp:revision>13</cp:revision>
  <dc:subject/>
  <dc:title>Презентация PowerPoint</dc:title>
</cp:coreProperties>
</file>