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ED2A-009B-4149-BB10-07C8B48CE5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A008-B354-4015-9A8E-D951D1A73C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DDC-5DF8-4D21-985B-0B8694C5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7278-B614-4E01-809E-FD1F0B99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BF67-39F7-47DB-B15A-43DC5E69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1E5E-121E-4117-99A6-DC9EA600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A60-E541-471B-81FD-CA273FE7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C01C-88EF-4BD9-8AC1-9A61182C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413-656C-4C28-84EB-2AF0CE10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6BB-71E0-4F65-9650-B91382DB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5CA7-6C06-4D35-81D8-5A4FE268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6A9-6F01-43AC-8B6D-83DC91D0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83FF-4997-4FEF-BCDA-93B50BEB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7E0-C6C3-4898-87D5-40EA4172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C202-BDE6-4FD1-81A4-0647E12E32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аціональний авіаційний університет</a:t>
            </a:r>
            <a:br>
              <a:rPr sz="3200"/>
            </a:b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Факультет економіки та бізнес-адмініструванн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4533840"/>
            <a:ext cx="7561440" cy="14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федра економіки повітряного транспорт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:\КЕПТ\NAU.png"/>
          <p:cNvPicPr/>
          <p:nvPr/>
        </p:nvPicPr>
        <p:blipFill>
          <a:blip r:embed="rId2"/>
          <a:stretch/>
        </p:blipFill>
        <p:spPr>
          <a:xfrm>
            <a:off x="468360" y="1916280"/>
            <a:ext cx="29512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0ec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ая соединительная линия 1" descr=""/>
          <p:cNvPicPr/>
          <p:nvPr/>
        </p:nvPicPr>
        <p:blipFill>
          <a:blip r:embed="rId1"/>
          <a:stretch/>
        </p:blipFill>
        <p:spPr>
          <a:xfrm>
            <a:off x="189000" y="523800"/>
            <a:ext cx="8699400" cy="165240"/>
          </a:xfrm>
          <a:prstGeom prst="rect">
            <a:avLst/>
          </a:prstGeom>
          <a:ln w="0">
            <a:noFill/>
          </a:ln>
        </p:spPr>
      </p:pic>
      <p:sp>
        <p:nvSpPr>
          <p:cNvPr id="91" name="Подзаголовок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федра економіки повітряного транспор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179280" y="1052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бутні фахівці з економіки підприємства детально вивчають такі дисциплі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Прямоугольник 4" descr=""/>
          <p:cNvPicPr/>
          <p:nvPr/>
        </p:nvPicPr>
        <p:blipFill>
          <a:blip r:embed="rId2"/>
          <a:stretch/>
        </p:blipFill>
        <p:spPr>
          <a:xfrm>
            <a:off x="128520" y="2030400"/>
            <a:ext cx="9015480" cy="4194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D:\КЕПТ\weltmaerkte_gr.jpg"/>
          <p:cNvPicPr/>
          <p:nvPr/>
        </p:nvPicPr>
        <p:blipFill>
          <a:blip r:embed="rId3"/>
          <a:stretch/>
        </p:blipFill>
        <p:spPr>
          <a:xfrm>
            <a:off x="5796000" y="4929120"/>
            <a:ext cx="3024000" cy="17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ая соединительная линия 1" descr=""/>
          <p:cNvPicPr/>
          <p:nvPr/>
        </p:nvPicPr>
        <p:blipFill>
          <a:blip r:embed="rId2"/>
          <a:stretch/>
        </p:blipFill>
        <p:spPr>
          <a:xfrm>
            <a:off x="189000" y="523800"/>
            <a:ext cx="8699400" cy="165240"/>
          </a:xfrm>
          <a:prstGeom prst="rect">
            <a:avLst/>
          </a:prstGeom>
          <a:ln w="0">
            <a:noFill/>
          </a:ln>
        </p:spPr>
      </p:pic>
      <p:sp>
        <p:nvSpPr>
          <p:cNvPr id="96" name="Подзаголовок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федра економіки повітряного транспор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2906640" y="981000"/>
            <a:ext cx="611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пускники спеціальності «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іка підприємств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можуть працювати у структурах підприємств, пов’язаних з економічною діяльністю (фінансовою, інноваційною,    інвестиційною,    збутовою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" descr="D:\КЕПТ\Macroeconomics-Finance.jpg"/>
          <p:cNvPicPr/>
          <p:nvPr/>
        </p:nvPicPr>
        <p:blipFill>
          <a:blip r:embed="rId3"/>
          <a:srcRect l="9198" t="0" r="5788" b="0"/>
          <a:stretch/>
        </p:blipFill>
        <p:spPr>
          <a:xfrm>
            <a:off x="108000" y="1125360"/>
            <a:ext cx="2798640" cy="1582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D:\КЕПТ\14988124475956101f717e84.23204161.jpg"/>
          <p:cNvPicPr/>
          <p:nvPr/>
        </p:nvPicPr>
        <p:blipFill>
          <a:blip r:embed="rId4"/>
          <a:stretch/>
        </p:blipFill>
        <p:spPr>
          <a:xfrm>
            <a:off x="5580000" y="4336920"/>
            <a:ext cx="3440160" cy="22431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108000" y="2766960"/>
            <a:ext cx="891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их організаціях, авіапідприємствах (авіабудівних і авіаремонтних підприємствах, авіакомпаніях та їх іноземних представництвах, аеропортах), науково-дослідних організаціях, вищих навчальних заклад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160200" y="4221000"/>
            <a:ext cx="541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пускники отримують комплекс знань з основ організації і ведення бізнесу, управління його виробничою, комерційною, збутовою, фінансовою, інвестиційною діяльністю, що допоможе започаткувати власний бізне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>
            <a:off x="250920" y="333360"/>
            <a:ext cx="8785080" cy="63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на інформація для абітурієнті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nau.edu.ua/ua/menu/ab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u/pamyatka-vstupnuka-2018.htm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а, 03058, м. Киї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-т Космонавта Комарова,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пус 2, каб. 4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 кафедри: +38 (044) 406-79-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nau.kept@gmail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.edu.u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facebook.com/nau.ke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4"/>
          <p:cNvSpPr/>
          <p:nvPr/>
        </p:nvSpPr>
        <p:spPr>
          <a:xfrm>
            <a:off x="395280" y="134136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узь знань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 «Соціальні та поведінкові  нау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іальність: 051 «Економі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іалізація: «Міжнародна економі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іфікація: бакалавр/магістр з міжнародної економі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ітній ступінь: бакалавр/магіс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навчання: денна/заоч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федра економіки повітряного транспор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КЕПТ\0000061473-mirovaya-ekonomika.jpg"/>
          <p:cNvPicPr/>
          <p:nvPr/>
        </p:nvPicPr>
        <p:blipFill>
          <a:blip r:embed="rId2"/>
          <a:srcRect l="0" t="0" r="14693" b="0"/>
          <a:stretch/>
        </p:blipFill>
        <p:spPr>
          <a:xfrm>
            <a:off x="5724360" y="4149720"/>
            <a:ext cx="3168720" cy="247644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ая соединительная линия 7" descr=""/>
          <p:cNvPicPr/>
          <p:nvPr/>
        </p:nvPicPr>
        <p:blipFill>
          <a:blip r:embed="rId3"/>
          <a:stretch/>
        </p:blipFill>
        <p:spPr>
          <a:xfrm>
            <a:off x="189000" y="523800"/>
            <a:ext cx="8699400" cy="1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0ec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ая соединительная линия 1" descr=""/>
          <p:cNvPicPr/>
          <p:nvPr/>
        </p:nvPicPr>
        <p:blipFill>
          <a:blip r:embed="rId1"/>
          <a:stretch/>
        </p:blipFill>
        <p:spPr>
          <a:xfrm>
            <a:off x="189000" y="523800"/>
            <a:ext cx="8699400" cy="165240"/>
          </a:xfrm>
          <a:prstGeom prst="rect">
            <a:avLst/>
          </a:prstGeom>
          <a:ln w="0">
            <a:noFill/>
          </a:ln>
        </p:spPr>
      </p:pic>
      <p:sp>
        <p:nvSpPr>
          <p:cNvPr id="56" name="Подзаголовок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федра економіки повітряного транспор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1173240" y="1125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ПЕЦІАЛІЗАЦІЯ «МІЖНАРОДНА ЕКОНОМІ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250920" y="1649160"/>
            <a:ext cx="8713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КОНКУРСНІ ПРЕДМЕ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Times New Roman"/>
                <a:ea typeface="宋体"/>
              </a:rPr>
              <a:t>на бакалавр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на базі середньої освіти (термін навчання – 4 роки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) українська мова та літерату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) математи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) географія або іноземна м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на базі диплому «молодший спеціаліст» (термін навчання – 2 або 3 роки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) вступне фахове випробув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Times New Roman"/>
                <a:ea typeface="宋体"/>
              </a:rPr>
              <a:t>на магістратуру</a:t>
            </a:r>
            <a:r>
              <a:rPr b="0" lang="uk-UA" sz="2000" spc="-1" strike="noStrike">
                <a:solidFill>
                  <a:srgbClr val="376092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термін навчання – 1,5 роки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) іноземна мова (сертифікат ЗНО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) вступне фахове випробув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D:\КЕПТ\politica.jpg"/>
          <p:cNvPicPr/>
          <p:nvPr/>
        </p:nvPicPr>
        <p:blipFill>
          <a:blip r:embed="rId2"/>
          <a:stretch/>
        </p:blipFill>
        <p:spPr>
          <a:xfrm>
            <a:off x="5364000" y="438948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ая соединительная линия 1" descr=""/>
          <p:cNvPicPr/>
          <p:nvPr/>
        </p:nvPicPr>
        <p:blipFill>
          <a:blip r:embed="rId2"/>
          <a:stretch/>
        </p:blipFill>
        <p:spPr>
          <a:xfrm>
            <a:off x="189000" y="523800"/>
            <a:ext cx="8699400" cy="165240"/>
          </a:xfrm>
          <a:prstGeom prst="rect">
            <a:avLst/>
          </a:prstGeom>
          <a:ln w="0">
            <a:noFill/>
          </a:ln>
        </p:spPr>
      </p:pic>
      <p:sp>
        <p:nvSpPr>
          <p:cNvPr id="61" name="Подзаголовок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федра економіки повітряного транспор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503280" y="981000"/>
            <a:ext cx="8137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іальність, яка має практичну спрямованість і дозволить вільно орієнтуватися у сфері міжнародної економічної діяльності, - це «Міжнародна економік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хівець спеціальності «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жнародна економі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підготовлений до професійної діяльності в фінансовій, кредитній, виробничій діяльності з акцентом на особливості міжнародної торгівлі, в сфері дослідження ринку, консультацій з питань комерційної діяльності та управління, реклами та інших послуг в організаціях усіх форм власності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539640" y="4869000"/>
            <a:ext cx="521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им в роботі майбутнього фахівця буде розробка міжнародних стратегій з використанням сучасних інформаційних технологі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" descr="D:\КЕПТ\shutterstock_107571698.jpg"/>
          <p:cNvPicPr/>
          <p:nvPr/>
        </p:nvPicPr>
        <p:blipFill>
          <a:blip r:embed="rId3"/>
          <a:stretch/>
        </p:blipFill>
        <p:spPr>
          <a:xfrm>
            <a:off x="5757840" y="4616280"/>
            <a:ext cx="304812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1" descr=""/>
          <p:cNvPicPr/>
          <p:nvPr/>
        </p:nvPicPr>
        <p:blipFill>
          <a:blip r:embed="rId2"/>
          <a:stretch/>
        </p:blipFill>
        <p:spPr>
          <a:xfrm>
            <a:off x="487440" y="2189160"/>
            <a:ext cx="8656560" cy="4119480"/>
          </a:xfrm>
          <a:prstGeom prst="rect">
            <a:avLst/>
          </a:prstGeom>
          <a:ln w="0">
            <a:noFill/>
          </a:ln>
        </p:spPr>
      </p:pic>
      <p:sp>
        <p:nvSpPr>
          <p:cNvPr id="66" name="Подзаголовок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федра економіки повітряного транспор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Прямая соединительная линия 3" descr=""/>
          <p:cNvPicPr/>
          <p:nvPr/>
        </p:nvPicPr>
        <p:blipFill>
          <a:blip r:embed="rId3"/>
          <a:stretch/>
        </p:blipFill>
        <p:spPr>
          <a:xfrm>
            <a:off x="189000" y="523800"/>
            <a:ext cx="8699400" cy="165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179280" y="1197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бутні фахівці з міжнародної економіки детально вивчають такі дисциплі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D:\КЕПТ\saupload_world_with_money.jpg"/>
          <p:cNvPicPr/>
          <p:nvPr/>
        </p:nvPicPr>
        <p:blipFill>
          <a:blip r:embed="rId4"/>
          <a:srcRect l="0" t="9117" r="0" b="0"/>
          <a:stretch/>
        </p:blipFill>
        <p:spPr>
          <a:xfrm>
            <a:off x="5600880" y="4581360"/>
            <a:ext cx="3219120" cy="20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ая соединительная линия 1" descr=""/>
          <p:cNvPicPr/>
          <p:nvPr/>
        </p:nvPicPr>
        <p:blipFill>
          <a:blip r:embed="rId2"/>
          <a:stretch/>
        </p:blipFill>
        <p:spPr>
          <a:xfrm>
            <a:off x="189000" y="523800"/>
            <a:ext cx="8699400" cy="165240"/>
          </a:xfrm>
          <a:prstGeom prst="rect">
            <a:avLst/>
          </a:prstGeom>
          <a:ln w="0">
            <a:noFill/>
          </a:ln>
        </p:spPr>
      </p:pic>
      <p:sp>
        <p:nvSpPr>
          <p:cNvPr id="71" name="Подзаголовок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федра економіки повітряного транспор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3419640" y="1057320"/>
            <a:ext cx="55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пускники спеціальності «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жнародна економі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можуть працювати в міжнародних організаціях, інноваційно-інвестиційних проектах, транснаціональних             корпораціях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" descr="D:\КЕПТ\images (2).jpg"/>
          <p:cNvPicPr/>
          <p:nvPr/>
        </p:nvPicPr>
        <p:blipFill>
          <a:blip r:embed="rId3"/>
          <a:stretch/>
        </p:blipFill>
        <p:spPr>
          <a:xfrm>
            <a:off x="5796000" y="4741920"/>
            <a:ext cx="3024000" cy="1886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D:\КЕПТ\1014153792.jpg"/>
          <p:cNvPicPr/>
          <p:nvPr/>
        </p:nvPicPr>
        <p:blipFill>
          <a:blip r:embed="rId4"/>
          <a:stretch/>
        </p:blipFill>
        <p:spPr>
          <a:xfrm>
            <a:off x="250920" y="1185840"/>
            <a:ext cx="3168720" cy="16668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179280" y="2884320"/>
            <a:ext cx="878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тчизняних і зарубіжних комерційних підприємствах, українських державних структурах, фінансових установах (банках, кредитних організаціях, інвестиційних фондах, спеціалізованих фінансових компаніях, страхових компаніях), торгівельно-промислових палатах, авіапідприємствах (авіа-будівних і авіаремонтних підприємствах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іакомпаніях   та   їх   іноземн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ництвах,   аеропортах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о-дослідних  організаціях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щих  навчальних  закладах  тощ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324000" y="143352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узь знань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 «Соціальні та поведінкові  нау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іальність: 051 «Економі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іалізація: «Економіка підприємств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іфікація: бакалавр/магістр з економіки підприєм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ітній ступінь: бакалавр/магіс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навчання: денна/заоч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одзаголовок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федра економіки повітряного транспор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D:\КЕПТ\920690356.jpg"/>
          <p:cNvPicPr/>
          <p:nvPr/>
        </p:nvPicPr>
        <p:blipFill>
          <a:blip r:embed="rId1"/>
          <a:stretch/>
        </p:blipFill>
        <p:spPr>
          <a:xfrm>
            <a:off x="5467320" y="4508640"/>
            <a:ext cx="3352680" cy="190152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ая соединительная линия 4" descr=""/>
          <p:cNvPicPr/>
          <p:nvPr/>
        </p:nvPicPr>
        <p:blipFill>
          <a:blip r:embed="rId2"/>
          <a:stretch/>
        </p:blipFill>
        <p:spPr>
          <a:xfrm>
            <a:off x="189000" y="523800"/>
            <a:ext cx="8699400" cy="1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ая соединительная линия 1" descr=""/>
          <p:cNvPicPr/>
          <p:nvPr/>
        </p:nvPicPr>
        <p:blipFill>
          <a:blip r:embed="rId2"/>
          <a:stretch/>
        </p:blipFill>
        <p:spPr>
          <a:xfrm>
            <a:off x="189000" y="523800"/>
            <a:ext cx="8699400" cy="165240"/>
          </a:xfrm>
          <a:prstGeom prst="rect">
            <a:avLst/>
          </a:prstGeom>
          <a:ln w="0">
            <a:noFill/>
          </a:ln>
        </p:spPr>
      </p:pic>
      <p:sp>
        <p:nvSpPr>
          <p:cNvPr id="81" name="Подзаголовок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федра економіки повітряного транспор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1173240" y="1125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ПЕЦІАЛІЗАЦІЯ «ЕКОНОМІКА ПІДПРИЄМСТ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250920" y="1649160"/>
            <a:ext cx="8713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КОНКУРСНІ ПРЕДМЕ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Times New Roman"/>
                <a:ea typeface="宋体"/>
              </a:rPr>
              <a:t>на бакалавр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на базі середньої освіти (термін навчання – 4 роки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) українська мова та літерату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) математи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) географія або іноземна м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на базі диплому «молодший спеціаліст» (термін навчання – 2 або 3 роки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) вступне фахове випробув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Times New Roman"/>
                <a:ea typeface="宋体"/>
              </a:rPr>
              <a:t>на магістратуру</a:t>
            </a:r>
            <a:r>
              <a:rPr b="0" lang="uk-UA" sz="2000" spc="-1" strike="noStrike">
                <a:solidFill>
                  <a:srgbClr val="376092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термін навчання – 1,5 роки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) іноземна мова (сертифікат ЗНО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) вступне фахове випробув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D:\КЕПТ\Без названия.jpg"/>
          <p:cNvPicPr/>
          <p:nvPr/>
        </p:nvPicPr>
        <p:blipFill>
          <a:blip r:embed="rId3"/>
          <a:stretch/>
        </p:blipFill>
        <p:spPr>
          <a:xfrm>
            <a:off x="4665600" y="4365720"/>
            <a:ext cx="4087800" cy="20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ая соединительная линия 1" descr=""/>
          <p:cNvPicPr/>
          <p:nvPr/>
        </p:nvPicPr>
        <p:blipFill>
          <a:blip r:embed="rId2"/>
          <a:stretch/>
        </p:blipFill>
        <p:spPr>
          <a:xfrm>
            <a:off x="189000" y="523800"/>
            <a:ext cx="8699400" cy="165240"/>
          </a:xfrm>
          <a:prstGeom prst="rect">
            <a:avLst/>
          </a:prstGeom>
          <a:ln w="0">
            <a:noFill/>
          </a:ln>
        </p:spPr>
      </p:pic>
      <p:sp>
        <p:nvSpPr>
          <p:cNvPr id="86" name="Подзаголовок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федра економіки повітряного транспор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250920" y="1052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іальність, яка має практичну спрямованість і дозволить вільно орієнтуватися у сфері економіки та підприємництва або створити власний бізнес, - це «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іка підприєм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287280" y="242100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хівець спеціальності «</a:t>
            </a: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кономіка підприємств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отримає сучасні знання з економічного моделювання бізнес-процесів, управління ефективністю господарської діяльності, сталим розвитком підприємства, комерціалізацією інновацій, управління проектами, бізнес-діагностики, стратегічного планування і прогнозуванн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іння активами і вартістю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приємства, забезпеченн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оспроможності 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ічної безпеки компані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D:\КЕПТ\Без названия (2).jpg"/>
          <p:cNvPicPr/>
          <p:nvPr/>
        </p:nvPicPr>
        <p:blipFill>
          <a:blip r:embed="rId3"/>
          <a:srcRect l="0" t="0" r="0" b="5499"/>
          <a:stretch/>
        </p:blipFill>
        <p:spPr>
          <a:xfrm>
            <a:off x="4788000" y="4354560"/>
            <a:ext cx="4016160" cy="2387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6T07:30:33Z</dcterms:created>
  <dc:creator>Admin</dc:creator>
  <dc:description/>
  <dc:language>en-US</dc:language>
  <cp:lastModifiedBy>user</cp:lastModifiedBy>
  <dcterms:modified xsi:type="dcterms:W3CDTF">2018-06-01T18:46:02Z</dcterms:modified>
  <cp:revision>13</cp:revision>
  <dc:subject/>
  <dc:title>Презентация PowerPoint</dc:title>
</cp:coreProperties>
</file>