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376-1CFC-4372-8256-85DBF207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AD5-2D6C-48D5-9CFD-C981BCD9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A46-6306-4C8D-B242-20218A5B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C1F-D07D-4710-9D7D-3E4A6711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903-B975-45F2-9E5D-31BD61A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32F-EDA2-492B-8CE9-0AD9B55B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7DB-3167-429B-BE0D-ACA45EB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B0F-4008-4EA6-BFC7-799162D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F92-BBF1-406F-8557-C7358825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DD7-9E48-4B11-B4D3-F08F5D3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463-D28B-460C-B073-2BE96F6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0C6-DEEA-4E3F-AB38-E1459D2C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E97-88AE-4420-925A-C92DB36C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ДОСТУПНОСТЬ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NSS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ДЛЯ БЕСПИЛОТНОЙ АВИ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997360"/>
            <a:ext cx="8497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нализируется  пространственно-временной геометрический фактор полномасштабных спутниковых навигационных систе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ЛОНАСС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LILE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ASS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изменении углов маски от 5 до 45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268280"/>
            <a:ext cx="828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. Кони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доктор техн. наук (Национальный авиационный университ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краина, Киев), vkonin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I Международная научно-техническая конференция «АВИА-2013».- Киев,- Националь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иационный университет,- май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954-92E4-4E69-90F6-D9178923CD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829320" cy="287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828960" cy="287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382932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B39-0A6A-4C3A-AEA8-6389686D28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29320" cy="2876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3828960" cy="287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7040" y="350532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32360" y="3576600"/>
            <a:ext cx="382896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190-1C74-468C-9593-FF75C458AD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828960" cy="287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82932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82896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CE6-8202-4D6B-8AF7-FEC713AF0F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38680" cy="28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3838320" cy="288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981680" y="3357720"/>
            <a:ext cx="383832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09A-0202-46B5-B89F-2EBFA9C335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43236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ис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ЛОНАС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увеличить угол маски до 35°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  4 ÷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 40°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 5 ÷8. При угле маски 5° ÷ 20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 меньше 2. 5 в течение су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ких конфигурациях СНС возможно осуществление посадки БПЛА по сигнал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утниковой системы навиг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четырех систем уменьш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4 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гле маски 4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нужно планировать время полета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пасть в максиму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счет 150 на приведенном  граф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глах маски больше 40° ÷ 45° приемлемая доступ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вместном использовании трех /четырех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место в ограниченном временном интерв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6D4-79EE-4185-BCE5-6471FD60D3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Современное состояние развития СР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43040" y="1747800"/>
            <a:ext cx="5665680" cy="43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821-277D-43B0-AA6D-B1D93595E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Факторы ухудшения точности (геометрические фак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515960"/>
            <a:ext cx="763272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47640" y="2651040"/>
            <a:ext cx="6840720" cy="12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34560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407664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627280" y="5229360"/>
            <a:ext cx="3384720" cy="112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2480" y="5463360"/>
            <a:ext cx="2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D07-15A6-48BC-A7BE-61E9E923C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34640" cy="51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3524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путников 4, а навигации нет. Реальные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Можно проверить по альмана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DD0-E26D-4FFE-B711-420D84C6E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51280" cy="35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51280" cy="352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ГЕОМЕТРИЧЕСКИЙ ФАКТОР</a:t>
            </a:r>
            <a:br>
              <a:rPr sz="44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заимствованный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86360" y="172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лох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60360" y="1766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оро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81D-731E-47CB-95CC-1683A00EF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417000" cy="478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ОРБИТЫ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GALIL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3A0-0E98-47EC-8E96-D111CF228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80280" cy="4783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ЛЕД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GALIL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1160" y="1341360"/>
            <a:ext cx="26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жечком обознач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спутника в ту же точ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но, через трое с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C8D-53FF-44F2-B508-1C48E4F511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837240" cy="28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36880" cy="28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FD3-E41A-4B15-88E8-16DEFC5D5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3837240" cy="28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4DA-046B-4609-B8D0-A271AE4BF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8:38:53Z</dcterms:created>
  <dc:creator>admin</dc:creator>
  <dc:description/>
  <dc:language>en-US</dc:language>
  <cp:lastModifiedBy>Konin</cp:lastModifiedBy>
  <dcterms:modified xsi:type="dcterms:W3CDTF">2013-11-07T18:57:32Z</dcterms:modified>
  <cp:revision>15</cp:revision>
  <dc:subject/>
  <dc:title>ГЕОМЕТРИЧЕСКИЙ ФАКТОР</dc:title>
</cp:coreProperties>
</file>