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8B2-768C-45AF-B1A5-BE5203AE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6E7-7F8C-4D7E-BDDF-74675CA8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5AF-8BD0-4DA7-B4FA-8786A413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935-9B89-4257-9209-C56251E1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76D-FAE3-42C3-9896-D588E0D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D2E-8E5F-42FE-826F-25AC33D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0B7-0AB0-4609-8244-6F9080BF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8B7-8CC7-4744-A3AC-2567E50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637-6C58-48C8-BD8D-8059502C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B2F-BE7B-437F-B418-CFB24C7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E94-23EF-41BB-827E-4175EBF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B6B-0DEA-4C45-AEB9-4168CF4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BC5-50D6-4C63-9651-42352DD6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ДОСТУПНОСТЬ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NSS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ДЛЯ БЕСПИЛОТНОЙ АВИ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997360"/>
            <a:ext cx="8497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нализируется  пространственно-временной геометрический фактор полномасштабных спутниковых навигационных систе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ЛОНАСС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LILE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ASS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изменении углов маски от 5 до 45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268280"/>
            <a:ext cx="828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. Кони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доктор техн. наук (Национальный авиационный университ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краина, Киев), vkonin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I Международная научно-техническая конференция «АВИА-2013».- Киев,- Националь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иационный университет,- май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AF7-D3F2-42DC-BCD0-AA1BE2D6AF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829320" cy="287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828960" cy="287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382932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DCA-E5AE-407E-865D-EB5C652A13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29320" cy="2876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3828960" cy="287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7040" y="350532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32360" y="3576600"/>
            <a:ext cx="382896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C65-34CF-440B-9EDB-1B50E0C7B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828960" cy="287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828960" cy="287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82932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828960" cy="28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7DD-7A0F-460B-98AE-4A2AE8BBD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38680" cy="28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3838320" cy="288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981680" y="3357720"/>
            <a:ext cx="383832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F03-F41F-4941-A83A-AC597D2A1C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43236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ис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ЛОНАС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увеличить угол маски до 35°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  4 ÷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 40°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 5 ÷8. При угле маски 5° ÷ 20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 меньше 2. 5 в течение су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ких конфигурациях СНС возможно осуществление посадки БПЛА по сигнал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утниковой системы навиг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четырех систем уменьш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O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4 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гле маски 4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нужно планировать время полета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пасть в максиму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счет 150 на приведенном  граф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глах маски больше 40° ÷ 45° приемлемая доступ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вместном использовании трех /четырех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место в ограниченном временном интерв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291-6178-4257-997A-BF728EAC6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Современное состояние развития СР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43040" y="1747800"/>
            <a:ext cx="5665680" cy="43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34B-9164-400E-A39E-3D0B7CF43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Факторы ухудшения точности (геометрические фак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515960"/>
            <a:ext cx="763272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47640" y="2651040"/>
            <a:ext cx="6840720" cy="12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34560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407664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627280" y="5229360"/>
            <a:ext cx="3384720" cy="112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2480" y="5463360"/>
            <a:ext cx="2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F84-74F5-41FB-8C9A-53474538C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34640" cy="51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3524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путников 4, а навигации нет. Реальные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Можно проверить по альмана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20E-7363-4A74-94ED-705032833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51280" cy="35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51280" cy="352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ГЕОМЕТРИЧЕСКИЙ ФАКТОР</a:t>
            </a:r>
            <a:br>
              <a:rPr sz="44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заимствованный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86360" y="172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лох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60360" y="1766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оро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F15-FA6B-451E-8267-E3727C501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417000" cy="478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ОРБИТЫ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GALIL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D27-C196-4CFF-A4D4-60CA0AB46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80280" cy="4783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ЛЕД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GALIL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1160" y="1341360"/>
            <a:ext cx="265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жечком обознач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спутника в ту же точ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но, через трое с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49A-78A1-43B9-98CF-987332D3F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837240" cy="28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36880" cy="28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82-A6CD-4531-9224-71DC696F57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3836880" cy="28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3837240" cy="28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986-A9EA-4753-99BC-828863F28E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8:38:53Z</dcterms:created>
  <dc:creator>admin</dc:creator>
  <dc:description/>
  <dc:language>en-US</dc:language>
  <cp:lastModifiedBy>Konin</cp:lastModifiedBy>
  <dcterms:modified xsi:type="dcterms:W3CDTF">2013-11-07T18:57:32Z</dcterms:modified>
  <cp:revision>15</cp:revision>
  <dc:subject/>
  <dc:title>ГЕОМЕТРИЧЕСКИЙ ФАКТОР</dc:title>
</cp:coreProperties>
</file>