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A58-D028-493D-BE4B-5DD5662A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F87-326B-41C6-AB61-477BF0F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64E-7C33-445E-BE28-0A762E95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E67-27CD-46F6-AD1E-DCE0552A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EF9-1D33-4111-9112-61398C0B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5AA-E99F-42DE-B115-7CAB88B5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BE9-05F5-4E00-BE64-4D5E7919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E87-9E77-4715-9361-6C135F72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586-010D-4418-9340-D7744935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E95-F338-4610-BF0A-45E41DE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F1D-FADF-4BCB-AD5C-6AFC8BE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8BF-EC2B-4A38-8607-5825B78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E64C-83AC-4655-8010-E81B1BDE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p2FtNzohiD55SM&amp;tbnid=P1YxuuBNi5VkNM:&amp;ved=0CAUQjRw&amp;url=http%3A%2F%2Fwww.donjetsk.com%2Fretro%2F514-molodaja-juzovka-britanskijj-absoljutizm.html&amp;ei=-PCQUoCjCY_KsgaN9YDgBg&amp;bvm=bv.57127890,d.Yms&amp;psig=AFQjCNHaRzgYaBQPFYGuUOvdUBww0VGBnQ&amp;ust=138531688805867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LmookLam3RVsSM&amp;tbnid=Ee2_Phf6YrzalM:&amp;ved=0CAUQjRw&amp;url=http%3A%2F%2Fhistory-x.ru%2F02%2F27%2F004.htm&amp;ei=XfGQUqbhL4iTtAaWsoGoBQ&amp;bvm=bv.57127890,d.Yms&amp;psig=AFQjCNHaRzgYaBQPFYGuUOvdUBww0VGBnQ&amp;ust=138531688805867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.xvatit.com/images/0/07/&#1054;&#1089;&#1100;_&#1092;&#1086;&#1090;&#1086;.jpe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radyzk-gym.ucoz.ru/_si/0/778872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uk.wikipedia.org/wiki/&#1042;&#1059;&#1040;&#1053;" TargetMode="External"/><Relationship Id="rId3" Type="http://schemas.openxmlformats.org/officeDocument/2006/relationships/hyperlink" Target="http://uk.wikipedia.org/wiki/1928" TargetMode="External"/><Relationship Id="rId4" Type="http://schemas.openxmlformats.org/officeDocument/2006/relationships/hyperlink" Target="http://uk.wikipedia.org/wiki/1929" TargetMode="External"/><Relationship Id="rId5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6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7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8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9" Type="http://schemas.openxmlformats.org/officeDocument/2006/relationships/hyperlink" Target="http://uk.wikipedia.org/wiki/&#1030;&#1085;&#1089;&#1090;&#1080;&#1090;&#1091;&#1090;_&#1084;&#1110;&#1082;&#1088;&#1086;&#1073;&#1110;&#1086;&#1083;&#1086;&#1075;&#1110;&#1111;_&#1110;_&#1074;&#1110;&#1088;&#1091;&#1089;&#1086;&#1083;&#1086;&#1075;&#1110;&#1111;_&#1110;&#1084;&#1077;&#1085;&#1110;_&#1044;._&#1050;._&#1047;&#1072;&#1073;&#1086;&#1083;&#1086;&#1090;&#1085;&#1086;&#1075;&#1086;_&#1053;&#1040;&#1053;_&#1059;&#1082;&#1088;&#1072;&#1111;&#1085;&#1080;" TargetMode="External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Kimy8V8omrpcSM&amp;tbnid=cbRvOAf3F6cP3M:&amp;ved=0CAUQjRw&amp;url=http%3A%2F%2F67viktor.livejournal.com%2F22413.html&amp;ei=FguSUoSBHsjcsgb96YGwBg&amp;bvm=bv.57127890,d.Yms&amp;psig=AFQjCNF2igzFWPEFPwLQHaNgB96ezJ7Kjw&amp;ust=1385389026184669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c/&#1051;&#1080;&#1089;&#1077;&#1085;&#1082;&#1086;_&#1052;&#1080;&#1082;&#1086;&#1083;&#1072;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b/&#1057;&#1072;&#1076;&#1086;&#1074;&#1089;&#1100;&#1082;&#1080;&#1081;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italka.info/gp_07/gp_07index.htm" TargetMode="External"/><Relationship Id="rId2" Type="http://schemas.openxmlformats.org/officeDocument/2006/relationships/hyperlink" Target="http://chitalka.info/gp_07/gp_07index.htm" TargetMode="External"/><Relationship Id="rId3" Type="http://schemas.openxmlformats.org/officeDocument/2006/relationships/hyperlink" Target="http://chitalka.info/gp_07/gp_07index.htm" TargetMode="External"/><Relationship Id="rId4" Type="http://schemas.openxmlformats.org/officeDocument/2006/relationships/hyperlink" Target="http://chitalka.info/gp_07/gp_07index.htm" TargetMode="External"/><Relationship Id="rId5" Type="http://schemas.openxmlformats.org/officeDocument/2006/relationships/hyperlink" Target="http://www.nbuv.gov.ua/books/2009/09vojiuk.pdf" TargetMode="External"/><Relationship Id="rId6" Type="http://schemas.openxmlformats.org/officeDocument/2006/relationships/hyperlink" Target="http://www.nbuv.gov.ua/books/2009/09vojiuk.pdf" TargetMode="External"/><Relationship Id="rId7" Type="http://schemas.openxmlformats.org/officeDocument/2006/relationships/hyperlink" Target="http://www.nbuv.gov.ua/books/2009/09vojiuk.pdf" TargetMode="External"/><Relationship Id="rId8" Type="http://schemas.openxmlformats.org/officeDocument/2006/relationships/hyperlink" Target="http://www.nbuv.gov.ua/books/2009/09vojiuk.pdf" TargetMode="External"/><Relationship Id="rId9" Type="http://schemas.openxmlformats.org/officeDocument/2006/relationships/hyperlink" Target="http://www.nbuv.gov.ua/books/2009/09vojiuk.pdf" TargetMode="External"/><Relationship Id="rId10" Type="http://schemas.openxmlformats.org/officeDocument/2006/relationships/hyperlink" Target="http://www.nbuv.gov.ua/books/2009/09vojiuk.pdf" TargetMode="External"/><Relationship Id="rId11" Type="http://schemas.openxmlformats.org/officeDocument/2006/relationships/hyperlink" Target="http://nkckhust.dyndns.org/elibrary/library/books/40436/maket.pdf" TargetMode="External"/><Relationship Id="rId12" Type="http://schemas.openxmlformats.org/officeDocument/2006/relationships/hyperlink" Target="http://nkckhust.dyndns.org/elibrary/library/books/40436/maket.pdf" TargetMode="External"/><Relationship Id="rId13" Type="http://schemas.openxmlformats.org/officeDocument/2006/relationships/hyperlink" Target="http://nkckhust.dyndns.org/elibrary/library/books/40436/maket.pdf" TargetMode="External"/><Relationship Id="rId14" Type="http://schemas.openxmlformats.org/officeDocument/2006/relationships/hyperlink" Target="http://nkckhust.dyndns.org/elibrary/library/books/40436/maket.pdf" TargetMode="External"/><Relationship Id="rId15" Type="http://schemas.openxmlformats.org/officeDocument/2006/relationships/hyperlink" Target="http://nkckhust.dyndns.org/elibrary/library/books/40436/maket.pdf" TargetMode="External"/><Relationship Id="rId16" Type="http://schemas.openxmlformats.org/officeDocument/2006/relationships/hyperlink" Target="http://nkckhust.dyndns.org/elibrary/library/books/40436/maket.pdf" TargetMode="External"/><Relationship Id="rId17" Type="http://schemas.openxmlformats.org/officeDocument/2006/relationships/hyperlink" Target="http://nkckhust.dyndns.org/elibrary/library/books/40436/maket.pdf" TargetMode="External"/><Relationship Id="rId18" Type="http://schemas.openxmlformats.org/officeDocument/2006/relationships/hyperlink" Target="http://nkckhust.dyndns.org/elibrary/library/books/40436/maket.pdf" TargetMode="External"/><Relationship Id="rId19" Type="http://schemas.openxmlformats.org/officeDocument/2006/relationships/hyperlink" Target="http://nkckhust.dyndns.org/elibrary/library/books/40436/maket.pdf" TargetMode="External"/><Relationship Id="rId20" Type="http://schemas.openxmlformats.org/officeDocument/2006/relationships/hyperlink" Target="http://nkckhust.dyndns.org/elibrary/library/books/40436/maket.pdf" TargetMode="External"/><Relationship Id="rId21" Type="http://schemas.openxmlformats.org/officeDocument/2006/relationships/hyperlink" Target="http://nkckhust.dyndns.org/elibrary/library/books/40436/maket.pdf" TargetMode="External"/><Relationship Id="rId22" Type="http://schemas.openxmlformats.org/officeDocument/2006/relationships/hyperlink" Target="http://6201.org.ua/files/1/ukr_ta_zar_kulultura.zip" TargetMode="External"/><Relationship Id="rId2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uk/0/00/&#1050;&#1088;&#1072;&#1089;&#1080;&#1094;&#1100;&#1082;&#1080;&#1081;_&#1060;&#1057;_&#1043;&#1110;&#1089;&#1090;&#1100;_&#1110;&#1079;_&#1047;&#1072;&#1087;&#1086;&#1088;&#1110;&#1078;&#1078;&#1103;_1916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9/Alexander_archipenko.JPG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e/e1/Narbut_Eneida.jpg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docid=wDdLRG3iebqeKM&amp;tbnid=L98QyveloJFpIM:&amp;ved=0CAUQjRw&amp;url=http%3A%2F%2Fukrmap.su%2Fru-uh10%2F269.html&amp;ei=tuuQUr6OCIXasgaol4GYDw&amp;psig=AFQjCNHTUxJVQEQkMWVgZsN7ZXe6YUpJTA&amp;ust=138531562993597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0/&#1070;&#1079;&#1086;&#1074;&#1082;&#1072;._&#1053;&#1086;&#1074;&#1086;&#1088;&#1086;&#1089;&#1089;&#1080;&#1081;&#1089;&#1082;&#1086;&#1077;_&#1086;&#1073;&#1097;&#1077;&#1089;&#1090;&#1074;&#1086;._&#1062;&#1077;&#1085;&#1090;&#1088;&#1072;&#1083;&#1100;&#1085;&#1072;&#1103;_&#1080;_&#8470;4_&#1096;&#1072;&#1093;&#1090;&#1099;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Історія української культу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екція 7. Українська культура на шляху національного відро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(друга половина ХІХ ст. – перше двадцятиріччя ХХ с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3029040" cy="140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87640" y="549360"/>
            <a:ext cx="3029040" cy="140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3132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692280"/>
            <a:ext cx="5185080" cy="388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4653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мпоноси шахти “Бутов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836640"/>
            <a:ext cx="5977080" cy="4390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19280" y="5445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зівка, шахтарські жи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чатку ХХ ст. суспільне життя дедалі більше набуває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 масовост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що зумовлює концентрацію робочої сили в економіці та формування масових суспільно-політичних рухів у політичній сфер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уюча соціально-економічна диференціація спричиняє зростання політизації суспільного життя, появу на історичній сцен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ітичних парті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які активно претендують на вла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і ці процеси світового масштабу доповнюються специфічними і значною мірою несприятливими умовами, в яких розвивається українська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33600" y="436680"/>
          <a:ext cx="6076800" cy="598464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ько-українсь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Радикальн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арт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(189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дь 70-х ро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- соціальне визволення селян та робітників і незалежність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національно-демократична партія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8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. Романчук, Кость і Євген Левицькі, Є. Олесницький, І. Франко, М. Грушевс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- єдність, соборність всіх українських земель та незалежність української держа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волюційн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українськ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арт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(19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ток студентів Харкова, очолюваний Д. Антонович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– одна, єдина, нероздільна, вільна, самостійна Україна від Карпат аж по Кавказ (М. Міхновсь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соціал-демократична парт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народна парт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радикально-демократична партія (поч. ХХ с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ілились з Революційної української парт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нцева ціль – впровадження автономії, самоврядування, української школи та суду тощ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21440" cy="354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4797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ське свято на Румунському фронті,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5184720" cy="373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4000" y="479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тьман Павло Скоропадський, 19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чаток ХХ століт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чаток ХХ століття відмічений поворотними соціально-політичними подіями, що змінили культурно-освітницький фон України на користь української мови та української школи. З 1905 року на території України 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вляється мережа «Просвіт» у Києві, Одесі, Львові, Миколаєв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вдання товариства «Просвіт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) розгортання мережі початкових шкі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) після початкова осві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) загальноосвітня діяльність в широких масах насел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Файл:Ось фото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сві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ягом 1897-1911 рр. кількість початкових шкіл зросла з 13 570до 18 719. У 1914-1915 рр. в Україні було 26 тис. загальноосвітніх шкіл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2,6 млн. учні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 понад 60 професійно-технічних училищ, у яких навчалося відповідно 12,5 тис. та 5 тис. осі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у 27 вузах — 35,2 тис. студент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628640"/>
            <a:ext cx="38098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454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417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ундуклеївська жіноча гімназія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193080" cy="4422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35280" y="522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ститут шляхетних дівчат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обливості розвитку культури України на рубежі ХІХ –ХХ ст. Роль суспільно-політичного руху в процесі поширення української національної іде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1.Демократичні тенденції розвитку освіти на початку ХХ с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2.Українська наука початку ХХ ст. Нові технічні відкриття, та їхнє впровадження в Украї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Нові тенденції українського мистецтва на початку ХХ ст. (неоромантизм, експресіонізм, авангард). Революційно-демократичний напрям в українській літерату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Мистецтво України к. ХІХ- поч. ХХ ст.: театр, музика, образотворче мистецтво та архіте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1971720" cy="667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1971720" cy="66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35640" y="404640"/>
            <a:ext cx="1971720" cy="6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72280" y="404640"/>
            <a:ext cx="197172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745080" cy="3606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56000" y="4797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мназистка Н. Полонська-Василенк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144600" cy="4768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558972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мназистка, Надія Хазіна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7514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92360" y="51577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ївський політехнічний інститут, 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165640" cy="4054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472428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вробітники Новоросійського університету. Перший ліворуч – О.Богомолец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центрі – М.Ушин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о відкрито 8 учительських інститутів, 10 духовних семінарій. Вищу освіту надавали три університети: Київський, Харківський, Новоросійський (Одеса), Історично-філологічний інститут в Ніжині (в 1875 р. перетворений з ліцею), політехнічний інститут у Києві (1898 р.), технологічний та ветеринарний інститути, вищі жіночі курси (1907 р), жіночий медичний інститут (1910 р.) у Харкові, Гірничий інститут (1912 р.) у Катеринославі (1912 р.) та і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цювало понад 140 бібліотек для насел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1914-1915 рр. У Наддніпрянщині функціонувало 452 середні школи, в яких навчалися 140 тис. учнів, та 19 вищих навчальних закладів, з 26,7 тис. студентів. У 1917 році вищих навчальних закладів було вже 27 і в них навчалося 35 тис. студ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664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51228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і статті українського вчителя та письменника С.Васильченка (1911 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з нерідною мовою, чужими по духу вчителями тільки за великим непорозумінням може називатися народною …. цілком зрозуміло, чому наші люди дивляться на свою школу в основному як на стежку до всіляких посад, або, як то кажуть, до «легкого хліба», а не як на установу, яка повинна обслуговувати їх щонайперші духовні потреби. Тільки після того, коли б зазвучала в наших школах рідна мова … всім би стало видно, через що наш народ «двічі неграмот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421080" cy="253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35640" y="3789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няття в народній школі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 Київ,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543640" cy="391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19280" y="486900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нівецький університет, 1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Центральна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активною  участю  Генерального  секретаріату  освіти  Центральної  Ради здійснювалося  переведення  шкіл  на  українську  мову  викладання,  в  різних регіонах України було створено понад 80 українських гімназій. Почала працювати Українська  педагогічна  академія. Зокрема, накреслюєть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 створення  єдиної  безкоштовної  школи  з  наступним  продовж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вчання у середніх спеціальних і вищих навчальних заклад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демократизація й українізація системи осві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ідкриття гуманітарних вузів і педучилищ для підготовки кадрів педагогі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організація Педагогічної академії, Української Академії наук, біблі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2732040" cy="4226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95640" y="5084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лодимир Вернад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ло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літика «культурної революції», модернізм, авангардизм, «Гарт», «Плуг», «Пролеткульт», «Ланка», ВАПЛІТЕ, неокласики, футуристи, символісти, неоромантики, модерн, необароко, конструктивізм, експериментальний теа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сифікація, національно-культурне відродження, громади, просвіти, народовство; парафіяльні школи, гімназії, університети; романтизм, критичний реалізм, неоренесанс, еклетизм, передвижники, українська оп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12000" y="476280"/>
            <a:ext cx="197136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172280" y="476280"/>
            <a:ext cx="1971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виток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90-1910 pp. позначені дальшим розвитк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Україні. Радикальні зміни в економіці, позитивні зрушення в освіті зумовили інтенсивний розвиток науки. Основними осередками, які продукували та популяризували наукові знання, були університ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ночас з метою концентрації інтелектуального потенціалу, координації досліджень, організації ефективного обміну науковою інформацією було створено низку наукових товариств – Харківське, Київське, Одеське товариства дослідників природи; Харківське математичне, Київське фізико-математичне товариства; Історичне товариство Нестора Літописця в Києві, історико-філологічні товариства в Харков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1968840" cy="2697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867280" y="4221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. Заболот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ило Кирилович Заболотний український мікробіолог, епідеміолог, Президен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У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2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2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засновни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Інституту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ікробіології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та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епідеміологі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иєв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Ігор Сікорський (1889-19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іаконструктор, один з піонерів авіації. Народився в Києві. Під час навчання в Київському політехнічному інституті спроектував та побудував кілька вертольотів. У 1911 р. на літаку власної конструкції встановив світовий рекорд швидкості з екіпаж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ід його керівництвом збудовані перші у світі багатомоторні літаки «Русский витязь» та «Илья Муромец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1918 p. емігрував до Франції, потім до США, де працював над конструюванням літаків. У 1939 р. піднявся в повітря перший у світі вертоліт VC—300, який спроектував І. Сікорський. До 1939 р. збудував близько 15 типів літаків. На його вертольотах уперше здійснено переліт через Атлантику. Помер в Істоні (США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63376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3911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4581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уський віт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129800" cy="429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32000" y="465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ля Муроме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186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сторіограф В.Біднов про вихід у світ «Історії Русі» М.Арк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 Ні одна українська книжка, крім «Кобзаря», не мала такого успіху, який випав на долю труда М.Аркаса; його купували, читали; питали з захопленням і щиро дякували авторові за його книгу, надсилаючи до нього лист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но було, що М. Аркас зрозумів ту велику потребу в популярній історії України, котра почувалася в широких колах нашого громадянства... книжка Аркасова поширювалась серед робітництва і селянства Катеринославщини, роблячи скрізь надзвичайно велике враження на своїх читачів і пробуджуючи в них національну свідоміст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її, безумовно, зробив велику послугу нашому національному рухові; наукові та художні хиби не заважали їй робити свій вплив на ті кола, серед котрих книга розповсюджувалася. Досвід наших днів дає нам яскраві докази того, що не науковість захоплює громадянство, а щось інше, протилежне перші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913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атангел Кримський (1871-19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з найвидатніших учених світу. Сфера його наукової діяльності надзвичайно широка й різноманітна, він відомий як історик, письменник, науковець. Вільно володіючи майже шістдесятьма мовами, а також знаючи всі діалектні особливості української мови, зробив значний внесок в українське й російське сходознавство та україністику. Унікальність А. Кримського як феномена у світовій культурі відзначено рішенням ЮНЕСКО про вшанування 100-літнього ювілею великого вченого й митц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23810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гортає свою діяльні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кове товариство імені Шевченка (НТШ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творене у 1892 р. внаслідок реорганізації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ітературного товариства ім. Т. Г. Шевч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нованого в 1873 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а його передбачала наукові дослідження з українського та слов’янського мовознавства, літератури, мистецтва, з історії та археології України, а також із проблем суспільних дисциплін, математики, природознавства, медицини, для чого створювалися історико-філософічна, філологічна, математично-природнича і лікарська секц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24360" y="1125360"/>
            <a:ext cx="2608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  листопада 1918 р.  було  засновано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країнську  академію  нау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 яка  мала три  відділи:  історико-філологічний,  фізико-математичний  та  соціально-економічний. Створюючи Всеукраїнську Академію Наук (ВУАН), В.І.Вернадський і його соратники Д.І.Багалій, А.Є.Кримський, В.І.Липський визначали для неї наступні ціл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національне відродження України, піднесення її науки й культур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розвиток економіки та продуктивних си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забезпечення  українському  народові  гідного  місця  в  культурному  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уковому житті всього людст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енсивний  обмін  науковими  досягненнями  між  Російською  й Українською  Академіями  наук,  піднесення  культурної  єдності  українського  й російського народів, зміцнення союзу України й Росії в межах єдиної держа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39960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459080" y="379440"/>
          <a:ext cx="6227640" cy="6099120"/>
        </p:xfrm>
        <a:graphic>
          <a:graphicData uri="http://schemas.openxmlformats.org/drawingml/2006/table">
            <a:tbl>
              <a:tblPr/>
              <a:tblGrid>
                <a:gridCol w="1325520"/>
                <a:gridCol w="49021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класиц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Филипович, О. Бургардт, М. Зеров  М. Драй-Хмара, М. Рильський. Пропонували свій варіант поєднання світової культури з національною традицією. Жанри, в який працювали укр. неокласики, - здебільшого сонети та переклади з інших м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омант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Кобилянська, М. Вороний, М. Коцюбинський. Поєднували в своїй творчості реалістичне зображення життя з романтизмо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і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Олесь, М. Філянський, С. Черкасенко, Г. Чуприна, Г. Михайличенко, А. Заливчий, М. Хвильовий, ранній А. Головко. Ускладненість, зашифрованість форми, обірвані зв’язки між деталями і цілим, фрагментарність натяків і недомовленостей, екзотизм, звукова гра і т.д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ур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Семенко, Гео Шкурупій, В. Поліщук, О. Слісаренко, Ю. Шпол (М. Яловий), Ю. Яновський, М. Бажан, М. Терещенко, О. Влизько, Д. Бузько, Л. Зимний, О. Мар’янов, О. Полторацький та ін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глядали себе як «революцію в мистецтві», після якої починатиметься нова колективна мораль, «комуна духа», заперечення «я», «футур-комуна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пресіоні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 Чехов, М. Коцюбинський, В. Стефаник, О. Кобилянська, М. Руданський, ранній М. Ірчан, В. Чумак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ними рисами імпресіонізму були психологізм у змалюванні персонажів, прагнення відтворити найтонші зміни в настроях, схопити миттєве враженн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ресіоні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лементи експресіонізму використовували Л. Курбас, М. Хвильовий, О. Довженко, В. Підмогильний, М. Бажан, Т. Осьмачка, О. Влизько. Свої почуття, світогляд на установки, враження від буремних подій і спосіб художнього відчуття вони намагались донести з максимальною виразністю, гостротою, наполегливістю - з найбільшою експресивністю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сновна лі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торія української культури: Курс лекцій / Л. В. Анучина, О. В. Бурлака, О. А. Лисенко та ін. – Х.: Вид-во «ФІНН», 2010. – 4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торія української культури: Навч. посіб. / О. Ю. Павлова, Т. Ф. Мельничук, І. В. Грищенко; за ред. О. Ю. Павлової. – К.: Центр учбової літератури, 2012. – 4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ейко В. М., Білоцерківський В. Я. Історія української культури: Навчальний посібник. – К.: Знання, 2010. – 271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ейко В. М., Тишевська К. Г. Історія української культури: Навч. посіб. – К.: Кондор, 2010. – 26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йцева З. І. Український науковий рух: інституціональні аспекти розвитку (кінець ХІХ – початок ХХ ст.). – Київ: КНЕУ, 2006. – 36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1763640" cy="66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17636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 Україні  теоретиками  й  активними  пропагандистам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леткультівських  теорій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були  В.Блакитний,  Г.Михайличенко,  М.Семенко, М.Хвильов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  теорії  були  досить  суперечливі.  Так,  деякі  лідери  українських пролеткультівців (М.Хвильовий,  В.Сосюра,  М.Іогансен),  з  одного  боку, проголошували  ідеї,  які  можна  назвати  космополітичними,  а  з  іншого, підкреслювали  особливе  значення  використання  й  розвитку  української  мови, виступали проти насильної русифіка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27280" y="475920"/>
            <a:ext cx="2890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І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блю мідяні звуки оркес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чуваю здал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рми рев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ярнети розмовля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ма шуму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ерши капелю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ілотом стеж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анн дивлю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міхи струять вес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міхи очей хвилю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мі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іхострум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а в сонечних стру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ій і к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екоче пестить м’я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мі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жур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асливим бути як ю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ає ні до чого ді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твопетлює авіятор в хмар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Михайль Семенк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14605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 КЛЮ ВЛЮ П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—IV. 914. Ки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О ЛЬО Т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 РІО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РЮ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О КВАЛЬО 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V. 914. Ки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ізноманітність  пошуків  шляхів  ідейної  художньої  виразності  вилилася  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никненні  цілого  ряду  літературно-художніх  об'єднань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самперед  це  Спілка селянських письменників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"Плуг"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А.Головко, О.Копиленко, П.Панч, П.Усенко). У своїй  платформі  ця  Спілка  ставила  завдання  спрямовувати  творчість  на організацію  психіки  і  свідомості  селянської  маси,  сільської  інтеліґенції  в  дусі пролетарської революції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часники  Спілки  пролетарських  письменників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"Гарт"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серед  яких  були В.Сосюра,  І.Кулик,  М.Хвильовий,  П.Тичина,  Ю.Смолич,  підкреслювали  свою підтримку комуністичної партійності, а, з іншого боку, головний теоретик "Гарту" -  В.Блакитний - говорив  про  створення "комуністичної  культури,  культури загальнолюдської,  інтернаціональної  і  безкласової".  Лідери "Гарту",  виходячи  з того,  що  культура - явище  цілісне,  вважали,  що  їх  організація  повинна об'єднувати  діячів  музики,  театру,  живопису. "Гарт"  розпався  в 1925 р.,  коли помер його головний організатор В.Блакит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1927 р.  був  створений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УСПП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Всеукраїнська  спілка  пролетарських письменників).  Помітну  роль  у  розвитку  художньої  культури  відіграла  Спілка письменників "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хідна Україна"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М.Ірчан, Ф.Малицький, А.Турчинська). Гострій  критиці  в  офіційній  пресі,  літературознавстві  була  піддана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АПЛІТЕ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Вільна  Академія  Пролетарської  Літератури, 1925-28 рр.),  яка  була створена  з  ініціативи  М.Хвильового  як  альтернатива  масовим  і  підлеглим  владі офіційним  організаціям.  Вона  виступала  проти  примітивізації  літературної творчості  і  культури  заг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енко Микола В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талій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42 -1912) — український композитор, піаніст, диригент, педагог, збирач пісенного фольклору, громадський дія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найвідоміших творів Лисенка належать, зокрема, гімн «Боже великий, єдиний, нам Україну храни» (на слова Олександра Кониського), опери «Тарас Бульба», «Наталка Полтавка» й інші, його Друга фортепіанна рапсодія, Елегія для фортепіано, кантати «Б'ють пороги», «Радуйся, ниво неполитая» (на слова Тараса Шевченка) й інш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Файл:Лисенко Микола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76280"/>
            <a:ext cx="36003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211720" cy="4106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0920" y="501336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ладачі та учні відділу української драми Музично-драматичної школи М.Лисин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.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омія Крушельницька (1872-19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івачка. Закінчила Львівську консерваторію, вдосконалювала майстерність у Мілан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а світову славу як майстер співу бельканто. Співала на сценах провідних театрів світу: в Одесі, Петербурзі, Варшаві, Римі, Парижі, Мілані та ін. У її творчому доробку понад 60 оперних партій. Пропагувала за кордоном українські народні пісні, твори українських композиторів. З концертами виступала у Львові, Тернополі, Чернівцях. У 1939 р. повернулася до Львова, де викладала в консерватор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0068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о́ла Ка́рпович Сад́овсь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правжнє прізвище Тобілевич; 1856-1933) — актор, режисер і громадський діяч. Корифей українського побутового театру; брат І. Карпенка-Карого, П. Саксаганського й М. Садовської-Барілот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Файл:Садовський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76280"/>
            <a:ext cx="31338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0920" y="1413000"/>
            <a:ext cx="55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ж Лиф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ергій Михайлович Лиф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. Serge Lifar, 1905 -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етний танцівник та хореогра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їнського походже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омий як один із найвидатні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цівників XX сторічч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часники називали й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огом танцю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брим генієм балету XX столітт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381040" cy="3191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322360" cy="316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059280" y="1989000"/>
            <a:ext cx="3492360" cy="248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84360" y="494172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. Тру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Додаткова лі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окань В., Польовий Л. Історія культури України: Навч. посіб. — К.: МАУП, 2002. — 3-тє вид., стереотип. — 256 с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 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lka.info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gp_07/gp_07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соцький О. Ю. Історія української культури: Навчальний посібник. — Дніпропетровськ : НМетАУ, 2009. – 130 c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 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nbuv.gov.ua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ooks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2009/09vojiuk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нисов Я.Я., Макарчук О.Г. Українська та зарубіжна культура: Навчально-методичний посібник. – Львів: Вид-во Національного університету «Львівська політехніка», 2004. – 176 с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 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kckhust.dyndns.org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elibrary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library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books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40436/</a:t>
            </a:r>
            <a:r>
              <a:rPr b="0" lang="uk-UA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maket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їнська та зарубіжна культура: Навч.-метод.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ібни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ля самостійного вивчення дисциплі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– К.: КНЕУ, 2003. – 367 с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[Електронний ресур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– Режим доступу до джерела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6201.org.ua/files/1/ukr_ta_zar_kulultura.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єломєсяцев А. Архітектура Києва кінця ХІХ – початку ХХ століття. Теоретико-методологічні передумови та реалії архітектурної практики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http://archive.nbuv.gov.ua/portal/soc_gum/Spdr/2012_8/007-24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Файл:Красицький ФС Гість із Запоріжжя 19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20640"/>
            <a:ext cx="7620120" cy="5191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71640" y="587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сть із Запоріжжя” Ф. Красиц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848560" cy="6181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68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. Мура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Файл:Alexander archipenk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3336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87640" y="6165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. Архипенко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Жінка, що вкладає волосс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Файл:Narbut Enei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89000"/>
            <a:ext cx="451512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40000" y="6021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.Нарбут, ілюстрація до “Енеїд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Файл:Grand&amp;Great (75)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76360" y="63086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 Жук, Біле і чо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898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силь Кричевський (1872-19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жник, архітектор, графік. Автор архітектурних проектів в оригінальному стилі українського модерну в Полтавській області, проекту й художнього оформлення Канівського музею-заповідника «Могила Т, Шевченка». Писав пейзажі та жанрові картини, працював у галузі книжкової графіки, над художнім оформленням вистав для театру М. Садовського, кінофільмів «Тарас Шевченко», «Сорочинський ярмарок» та ін. Брав участь у створенні державної символіки УНР. Викладав у Київському художньому інститут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Кричевський Василь.jpg"/>
          <p:cNvPicPr/>
          <p:nvPr/>
        </p:nvPicPr>
        <p:blipFill>
          <a:blip r:embed="rId1"/>
          <a:stretch/>
        </p:blipFill>
        <p:spPr>
          <a:xfrm>
            <a:off x="5435640" y="1197000"/>
            <a:ext cx="28209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Файл:KraevedMuz Poltava.jpg"/>
          <p:cNvPicPr/>
          <p:nvPr/>
        </p:nvPicPr>
        <p:blipFill>
          <a:blip r:embed="rId1"/>
          <a:stretch/>
        </p:blipFill>
        <p:spPr>
          <a:xfrm>
            <a:off x="1908000" y="765000"/>
            <a:ext cx="5832720" cy="437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8000" y="530064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инок Полтавського зе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Файл:Школа імені Котляревського.jpg"/>
          <p:cNvPicPr/>
          <p:nvPr/>
        </p:nvPicPr>
        <p:blipFill>
          <a:blip r:embed="rId1"/>
          <a:stretch/>
        </p:blipFill>
        <p:spPr>
          <a:xfrm>
            <a:off x="1692360" y="1052640"/>
            <a:ext cx="5438520" cy="358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19280" y="472428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Школа імені І. Котляревського в Полта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587920" cy="4059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95640" y="5300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кзал м. Ль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329080" cy="3409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84360" y="5013360"/>
            <a:ext cx="43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ий ринок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ультурний процес в українських землях в кінці ХІХ – початку ХХ ст. стимулював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ціально-економічною модернізаці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ктивізацією суспільно-політичного життя і національно-визвольного рух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е глибшим проникненням національних ідей в народні ма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твердженням національної самосвідомості українц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00080" y="800280"/>
            <a:ext cx="7143840" cy="5257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79640" y="616572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инок з химерами, м. Київ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х. В. Городец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24000" y="587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вний банк (архітектори О.Вербицький і О.Кабелєв) у Киє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лів українського історика О.Бойка про український модернізм: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«Своєрідність українського варіанту модернізму полягає і в тім, що він із естетичного феномена перетворився на культурно-історичне явище, став спробою подолання провінційності, другорядності, вторинності української національної культури, формою залучення до надбань світової цивілізації. Він ніби символізував перехід українського суспільства від етнографічно-побутової самоідентифікації, тобто виокремлення себе з-поміж інших, до національного самоусвідомлення — визначення свого місця і ролі в сучасному світі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Файл:Gosprom 1 May.jpg"/>
          <p:cNvPicPr/>
          <p:nvPr/>
        </p:nvPicPr>
        <p:blipFill>
          <a:blip r:embed="rId1"/>
          <a:stretch/>
        </p:blipFill>
        <p:spPr>
          <a:xfrm>
            <a:off x="762120" y="1266840"/>
            <a:ext cx="7619760" cy="432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19280" y="5516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івля Харківського держпр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Дякую за ува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5240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Економічний розвиток українських  земель на початку ХХ ст."/>
          <p:cNvPicPr/>
          <p:nvPr/>
        </p:nvPicPr>
        <p:blipFill>
          <a:blip r:embed="rId1"/>
          <a:stretch/>
        </p:blipFill>
        <p:spPr>
          <a:xfrm>
            <a:off x="-190440" y="-128520"/>
            <a:ext cx="952488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6880" y="1343160"/>
            <a:ext cx="5610240" cy="417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63640" y="566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чі заводу “Арсенал”, м. 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ile:Юзовка. Новороссийское общество. Центральная и №4 шахты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300320"/>
            <a:ext cx="7344000" cy="4257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47640" y="57340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зівка, Новоросійське товариство, центральна і №4 шах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7:34:44Z</dcterms:created>
  <dc:creator>Владимир</dc:creator>
  <dc:description/>
  <dc:language>en-US</dc:language>
  <cp:lastModifiedBy>Владимир</cp:lastModifiedBy>
  <dcterms:modified xsi:type="dcterms:W3CDTF">2013-11-26T19:48:01Z</dcterms:modified>
  <cp:revision>8</cp:revision>
  <dc:subject/>
  <dc:title>Історія української культури</dc:title>
</cp:coreProperties>
</file>