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59.wmf" ContentType="image/x-wmf"/>
  <Override PartName="/ppt/media/image56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40.wmf" ContentType="image/x-wmf"/>
  <Override PartName="/ppt/media/image38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13.wmf" ContentType="image/x-wmf"/>
  <Override PartName="/ppt/media/image1.wmf" ContentType="image/x-wmf"/>
  <Override PartName="/ppt/media/image5.png" ContentType="image/png"/>
  <Override PartName="/ppt/media/image47.wmf" ContentType="image/x-wmf"/>
  <Override PartName="/ppt/media/image1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4.png" ContentType="image/png"/>
  <Override PartName="/ppt/media/image28.wmf" ContentType="image/x-wmf"/>
  <Override PartName="/ppt/media/image70.wmf" ContentType="image/x-wmf"/>
  <Override PartName="/ppt/media/image65.wmf" ContentType="image/x-wmf"/>
  <Override PartName="/ppt/media/image66.wmf" ContentType="image/x-wmf"/>
  <Override PartName="/ppt/media/image26.png" ContentType="image/png"/>
  <Override PartName="/ppt/media/image67.wmf" ContentType="image/x-wmf"/>
  <Override PartName="/ppt/media/image27.png" ContentType="image/png"/>
  <Override PartName="/ppt/media/image30.wmf" ContentType="image/x-wmf"/>
  <Override PartName="/ppt/media/image85.wmf" ContentType="image/x-wmf"/>
  <Override PartName="/ppt/media/image73.wmf" ContentType="image/x-wmf"/>
  <Override PartName="/ppt/media/image69.wmf" ContentType="image/x-wmf"/>
  <Override PartName="/ppt/media/image79.wmf" ContentType="image/x-wmf"/>
  <Override PartName="/ppt/media/image80.wmf" ContentType="image/x-wmf"/>
  <Override PartName="/ppt/media/image78.wmf" ContentType="image/x-wmf"/>
  <Override PartName="/ppt/media/image41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2.wmf" ContentType="image/x-wmf"/>
  <Override PartName="/ppt/media/image68.wmf" ContentType="image/x-wmf"/>
  <Override PartName="/ppt/media/image31.wmf" ContentType="image/x-wmf"/>
  <Override PartName="/ppt/media/image82.wmf" ContentType="image/x-wmf"/>
  <Override PartName="/ppt/media/image17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29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12.wmf" ContentType="image/x-wmf"/>
  <Override PartName="/ppt/media/image54.wmf" ContentType="image/x-wmf"/>
  <Override PartName="/ppt/media/image2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AC2-E472-4DAC-ABD3-31AAD515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F00-BC94-4DE4-90EF-01E49766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C0A-FD45-4CF4-808D-523D12F1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399-7401-49D1-BCED-F18BA378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E44-CAEF-400F-B481-F4179AC7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08F-9A1F-4029-8088-8684946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45D-3E98-4011-B932-42954CDD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98A-600A-4B7F-A06E-1968825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0A8-E2E1-416A-A833-B98985E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CED-2E33-443C-BA48-9300E6A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4B1-A76D-491C-9F52-9748B26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4E8-561B-4FBA-897D-20C93DF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DDB-CF58-4E00-A780-33931D41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ститут комп’ютерних інформацій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афедра комп’ютеризованих систем управл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авчальна дисциплі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СИСТЕМНИЙ АНАЛІ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ІМІТАЦІЙНЕ МОДЕЛЮВАН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прям пі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050102 «Комп’ютерна інженері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 3                              Семестр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екцій –                          18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бораторних занять –  36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а робота –      72 го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ього –                          126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2 (6 с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ференційований залік  6 сем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ЛЕННЯ РІШЕНЬ НА ОСНОВІ ЕКСПЕРТНОЇ МОД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41480" y="2681280"/>
            <a:ext cx="57913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900000" y="2133720"/>
          <a:ext cx="7453440" cy="33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45344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СИСТЕМНОГО АНАЛІ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лідження реальних об'єктів як сист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ідовний перехід від загального до окре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нові дослідження об'єкту лежить його м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іонування об'єкту розглядається у взаємодії із зовнішнім середовищ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ЗНАЧ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іліс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овнішнє серед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н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ункціонування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руктура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ЛАСТИВОСТІ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є щось ціле, що не зводиться до простої сукупності еле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-яка система є елементом масштабнішої системи - мета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ен елемент досліджуваної системи є системою нижчого рі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більш суттєві властивості системи як цілого визначаються її структу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НІ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ЄК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ілі функціонування сист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и, що призводять до досягнення цілей, які стоять перед систем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и і виходи сист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ії сист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ії оцінки ефективності функціонування сис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АЛЬНИЙ ОПИС СИСТЕ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42920" y="1557360"/>
          <a:ext cx="729288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292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АЛЬНИЙ ОПИС СИСТЕ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16000" y="1413000"/>
          <a:ext cx="7381800" cy="47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38180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ГАЛЬНА СХ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47720" y="1914480"/>
            <a:ext cx="6434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ЕТЕРМІНОВАНІ МОДЕ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26920" y="1895400"/>
          <a:ext cx="7848720" cy="37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5400"/>
                    <a:ext cx="784872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ТОХАСТИЧНІ МОДЕ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58920" y="1844640"/>
          <a:ext cx="734544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7345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йтингова система оцінювання зн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11280" y="1268280"/>
          <a:ext cx="7993080" cy="482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79930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руктура кібернетичної систе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1627200"/>
          <a:ext cx="74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7200"/>
                    <a:ext cx="74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ластивості кібернетични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явність управляючої та керованої підсисте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явність зворотних зв'язкі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користання інформації для вироблення управлінських рішень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Основні поняття теорії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ь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 об'єкту на формальній мові, що дозволяє виводити судження про його властивості і поведінку за допомогою формальних процед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вчення властивостей реальних об'єктів шляхом побудови і дослідження ї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декв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и моделю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аналітич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імітаці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И ДОСЛІД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АЛІТІЧНИХ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332000" y="1628640"/>
          <a:ext cx="705636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7056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МІТАЦІНЕ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ізація моделюючого алгоритму, який формально відтворює процес функціонування реального об'єк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ементарні явища, що становлять цей процес, імітуються із збереженням логічної структури їх взаємодії і послідовності протікання в час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падкові явища імітуються за допомогою випадкових чисел з необхідними імовірнісними характерис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мання об'єктивних і стійких характеристик модельованого процесу потребує його багатократне відтворення для різних початкових даних з наступною статистичною обробкою отриманих результа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КЛАД ІМІТАЦІЙНОГО МОДЕЛ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84280"/>
          <a:ext cx="770580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7705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ХЕМА МОДЕЛЮЮЧ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ПОЧА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2200" y="1639800"/>
            <a:ext cx="435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ХЕМА МОДЕЛЮЮЧ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кінец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33440" y="1600200"/>
            <a:ext cx="46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ЛУЗІ ЗАСТОСУВА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ІВ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42920" y="1557360"/>
          <a:ext cx="734544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 Моделювання випадкових яви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1484280"/>
          <a:ext cx="734544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7345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МІСТ ДИСЦИПЛІ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Основні положення системного аналі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Основні поняття теорії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Моделювання випадкових яв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Технологія імітаційного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Обробка результатів імітаційного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900000" y="404640"/>
            <a:ext cx="5759280" cy="6201000"/>
            <a:chOff x="900000" y="404640"/>
            <a:chExt cx="5759280" cy="6201000"/>
          </a:xfrm>
        </p:grpSpPr>
        <p:sp>
          <p:nvSpPr>
            <p:cNvPr id="107" name=""/>
            <p:cNvSpPr/>
            <p:nvPr/>
          </p:nvSpPr>
          <p:spPr>
            <a:xfrm>
              <a:off x="1609920" y="2708280"/>
              <a:ext cx="29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108520" y="7650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103920" y="3933360"/>
              <a:ext cx="0" cy="23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21640" y="5877000"/>
              <a:ext cx="39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3400" y="40464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96120" y="25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7880" y="357336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03600" y="573408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7880" y="587700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2708280"/>
              <a:ext cx="3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05320" y="270828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43640" y="5877000"/>
              <a:ext cx="28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8800" y="501336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3400" y="177336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8520" y="198900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8800" y="1989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03920" y="515772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4080" y="5157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103920" y="5157720"/>
              <a:ext cx="709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4200" y="5157720"/>
              <a:ext cx="12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3500280"/>
              <a:ext cx="12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ahoma"/>
                </a:rPr>
                <a:t>Рис. 3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2240" y="6237360"/>
              <a:ext cx="11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ahoma"/>
                </a:rPr>
                <a:t>Рис. 3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ЕДСТАВЛЕННЯ ЗНА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1197000"/>
          <a:ext cx="792000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92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МОВІРНІСНІ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1640" y="1268280"/>
          <a:ext cx="7416720" cy="48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41672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ОСОБИ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послідовностей випадкових чисел, рівномірно розподілених в інтервал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2060640"/>
          <a:ext cx="7632720" cy="33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632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ЛГОРИТМІЧНІ МЕТОД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вання послідовностей псевдовипадкових чисел в інтервалі [0,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плікативний метод (метод вирахуван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підсумову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усік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переміш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УЛЬТИПЛІКАТИВНИЙ МЕТО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1484280"/>
          <a:ext cx="7488360" cy="44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74883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УЛЬТИПЛІКАТИВНОГО МЕТ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056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 ПІДСУМОВ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42920" y="1484280"/>
          <a:ext cx="7416720" cy="42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741672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ЕТОДУ ПІДСУМОВ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857240"/>
            <a:ext cx="72007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 УСІК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484280"/>
          <a:ext cx="7488360" cy="42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74883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та викладання дисципліни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воєння основ системного аналізу та методів імітаційного моделювання складни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зн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і принципи системного аналіз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 імітаційного моделювання випадкових явищ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и побудови моделюючих алгоритм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 обробки та інтерпретації результатів імітаційних експеримент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вмі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алізувати процес функціонування складних 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числювати кількісні характеристики випадкових явищ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робляти результати імітаційних експеримен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аховувати необхідну кількість реалізацій моделюючого алгорит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ЕТОДУ УСІКАННЯ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568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ЕТОДУ УСІКАННЯ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480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ГРАМНІ ЗАС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послідов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севдовипадкових чис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++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 result=min+double(rand()) / RAND_MAX * (max - m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#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=min+randomNumber.NextDouble()*(max-m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Jav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 result=min+Math.random()*(max-m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ЕРЕВІРКА ЯК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ідовностей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сев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падкових чисе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отриманих алгоритмичними мет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частот – перевірка рівномір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зподілу псевдовипадкових чисел в інтервалі [0, 1]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пар – перевір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залеж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севдовипадков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ЧАСТОТ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42920" y="1628640"/>
          <a:ext cx="72010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20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ЧАСТО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557360"/>
          <a:ext cx="734364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3436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55640" y="620640"/>
          <a:ext cx="7704000" cy="5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20640"/>
                    <a:ext cx="7704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84360" y="1197000"/>
          <a:ext cx="7920000" cy="468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197000"/>
                    <a:ext cx="7920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СТ П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2133720"/>
          <a:ext cx="7704000" cy="302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7040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ПАР (1 спосі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03280" y="1268280"/>
          <a:ext cx="662472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268280"/>
                    <a:ext cx="66247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ПАР (2 спосі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42920" y="1341360"/>
          <a:ext cx="72928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7292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33360"/>
            <a:ext cx="842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ыжиков Ю.И. Имитационное моделирование. Теория и технологии. – СПб.: Корона принт. – М.: Альтек – А, 2004. – 38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ветов В.Я., Яковлев С.А. Моделирование систем: Учебник для вузов. – М.: Высшая школа, 1985. – 271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цкер А. Введение в имитационное моделирование и язык СЛАМ П. –  М.: Мир, 1987. – 64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усленко Н.П. Моделирование систем. – М.: Наука, 1978. – 40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твиненко А.Е. Моделирование производственных процессов в автоматизированных системах управления гражданской авиации: Учебное пособие. – Киев: КИИГА, 1988. – 72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ВИПАДКОВОЇ ПОД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26920" y="1844640"/>
          <a:ext cx="7777440" cy="34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77744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ГРУПИ ВИПАДКОВИХ ПОД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87280" y="1341360"/>
          <a:ext cx="720108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72010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ЗАЛЕЖНИХ ВИПАДКОВИХ ПОДІ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спосіб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00000" y="1413000"/>
          <a:ext cx="7488360" cy="49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4883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ЗАЛЕЖНИХ ВИПАДКОВИХ ПОДІ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спосіб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201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МАРКІВСЬКИХ ЛАНЦЮГІВ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71640" y="1413000"/>
          <a:ext cx="756108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561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МАРКІВСЬКИХ ЛАНЦЮГІВ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00000" y="1341360"/>
          <a:ext cx="7417080" cy="46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41708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ВИПАДКОВ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4360" y="1989000"/>
          <a:ext cx="8064360" cy="28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06436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ДИСКРЕТНИХ ВИПАДКОВ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00000" y="1844640"/>
          <a:ext cx="74883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4883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МОДЕЛЮВАННЯ БЕЗПЕРЕРВНИХ ВИПАДКОВИ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ямого перетворення (зворотній функції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скової апроксимації функції щі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іювання (виключенн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умов граничних теорем теорії вірогі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ПРЯМОГО ПЕРЕТВ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71640" y="1557360"/>
          <a:ext cx="7272360" cy="42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2723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ЛОБАЛЬНА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1479600"/>
            <a:ext cx="54054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 ЗАСТОСУВАННЯ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У ПРЯМОГО ПЕРЕТВ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00000" y="2133720"/>
          <a:ext cx="7435800" cy="36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435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КУСКОВОЇ АПРОКСИ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00000" y="1628640"/>
          <a:ext cx="7559640" cy="43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5596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СКОВО-ПОСТІЙНА АПРОКСИМ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628640" y="544680"/>
          <a:ext cx="5869080" cy="63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544680"/>
                    <a:ext cx="58690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600200" y="1700280"/>
          <a:ext cx="6500880" cy="417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700280"/>
                    <a:ext cx="65008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СКОВО-ЛІНІЙНА АПРОКСИМ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434880"/>
          <a:ext cx="8229600" cy="82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880"/>
                    <a:ext cx="82296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600200" y="1704960"/>
          <a:ext cx="5942160" cy="431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704960"/>
                    <a:ext cx="594216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ДСІЮВАННЯ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87280" y="1413000"/>
          <a:ext cx="691380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38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ДСІЮВАННЯ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14600" y="1268280"/>
          <a:ext cx="655776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268280"/>
                    <a:ext cx="65577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ДСІЮВАННЯ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700280"/>
          <a:ext cx="6859440" cy="352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00280"/>
                    <a:ext cx="68594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НОРМАЛЬНОГО РОЗПОДІЛУ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87280" y="1413000"/>
          <a:ext cx="684072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84072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ХОДИ ДО ВИРОБЛЕННЯ РІШ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Основ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чна модель задачі прийняття рішень (ЗПР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мітаційна модель керованого процесу (систе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спертна модель прийняття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НОРМОВАНОЇ ВЕЛИ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16000" y="1484280"/>
          <a:ext cx="7272360" cy="42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727236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НОРМАЛЬНОГО РОЗПОДІЛ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1628640"/>
          <a:ext cx="7632720" cy="43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763272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РОЗПОДІЛУ ПУАСС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042920" y="1413000"/>
          <a:ext cx="7489800" cy="43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7489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ВЕКТОРІВ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00000" y="1557360"/>
          <a:ext cx="763272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632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ВЕКТОРІВ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0000" y="1628640"/>
          <a:ext cx="755964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559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ВЕКТОРІ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71640" y="1413000"/>
          <a:ext cx="734544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34544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ФУНКЦІЙ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26920" y="1268280"/>
          <a:ext cx="7632720" cy="45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63272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ФУНКЦІЙ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5640" y="1557360"/>
          <a:ext cx="77040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70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СТАЦІОНАРНИХ ВИПАДКОВИХ ФУНКЦІЙ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71640" y="1557360"/>
          <a:ext cx="741672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416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СТАЦІОНАРНИХ ВИПАДКОВИХ ФУНКЦІ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00000" y="1557360"/>
          <a:ext cx="748836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88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ЛЕННЯ РІШЕНЬ НА ОСНОВІ МАТЕМАТИЧНОЇ МОД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08508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ТЕХНОЛОГІЯ ІМІТАЦІЙНОГО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ТАПИ ІМІТАЦІЙНОГО МОДЕЛ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будова математичної моделі процесу функціонування об'є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’ютерна реалізація моделюючого алгорит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истична обробка результатів моделю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БУДОВА МАТЕМАТИЧНОЇ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тановка задачі моделю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бір незалежних і залежних змінних, характеристик станів і шуканих характеристик процесу функціонування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бір необхідної інформації про систему і зовнішнє середовище, визначення параметрів системи і обурюючих дій,  оцінка їх впливу на процес функціонування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сунення гіпотез про властивості і характеристики системи; прийняття припущень, що дозволяють спростити математичну модель відповідно до вибраного рівня моделювання; апроксимація реальних процесів, що протікають в модельованій систем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алізація функціональних залежностей між змінними, параметрами і характеристиками станів системи; виведення співвідношень для шуканих характеристик модельованого процесу як функцій характеристик станів, змінних і параметрів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П’ЮТЕРНА РЕАЛІЗАЦІЯ МОДЕЛЮЮЧОГО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будова логічної схеми моделюючого алгорит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ування моделюючого алгорит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необхідної кількості реалізацій моделюючого алгоритму, що забезпечують необхідну точність і достовірність результатів моделю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ведення робочих розрахун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ПОБУДОВИ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ЮЧИХ АЛГОРИТМ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55640" y="3068640"/>
          <a:ext cx="7632720" cy="122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068640"/>
                    <a:ext cx="7632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600200" y="714240"/>
          <a:ext cx="5942160" cy="26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14240"/>
                    <a:ext cx="5942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71640" y="1413000"/>
          <a:ext cx="7272360" cy="429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413000"/>
                    <a:ext cx="727236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600200" y="693720"/>
          <a:ext cx="5942160" cy="30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93720"/>
                    <a:ext cx="5942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900000" y="1700280"/>
          <a:ext cx="7559640" cy="388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75596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ОБРОБКА РЕЗУЛЬТАТІВ ЕКСПЕРИМЕНТ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84360" y="1700280"/>
          <a:ext cx="77752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7752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середнього значення випадкової вели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8360" y="1795320"/>
          <a:ext cx="792000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95320"/>
                    <a:ext cx="79200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кореляційного моменту двох випадкови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2289240"/>
          <a:ext cx="8136000" cy="31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89240"/>
                    <a:ext cx="81360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випадкового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187280" y="1798560"/>
          <a:ext cx="7056720" cy="41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98560"/>
                    <a:ext cx="705672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ЛЕННЯ РІШЕНЬ НА ОСНОВІ ІМІТАЦІЙНОЇ МОД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41480" y="2681280"/>
            <a:ext cx="57913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стаціонарного випадкового процесу, що має ергодичну властив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2133720"/>
          <a:ext cx="7921440" cy="30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921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кореляційної функції стаціонарного випадкового процесу, що має ергодичну власт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826920" y="1849320"/>
          <a:ext cx="777744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9320"/>
                    <a:ext cx="777744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2 Перевірка статистичних гіпо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32000" y="1341360"/>
          <a:ext cx="695628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56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точності результа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ксперименталь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26920" y="1590840"/>
          <a:ext cx="7632720" cy="43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90840"/>
                    <a:ext cx="76327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11280" y="1700280"/>
          <a:ext cx="792144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921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ВІРОГІД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55640" y="1371600"/>
          <a:ext cx="77040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71600"/>
                    <a:ext cx="7704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ДИСПЕРС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55640" y="1413000"/>
          <a:ext cx="799308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68360" y="1773360"/>
          <a:ext cx="8064360" cy="340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06436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ЕКСПЕРИМЕН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 ВІДНОСНІЙ ТОЧ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11280" y="1725480"/>
          <a:ext cx="784836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5480"/>
                    <a:ext cx="784836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476360" y="1484280"/>
          <a:ext cx="662472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6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0:10:39Z</dcterms:created>
  <dc:creator>Admin</dc:creator>
  <dc:description/>
  <dc:language>en-US</dc:language>
  <cp:lastModifiedBy>shef</cp:lastModifiedBy>
  <dcterms:modified xsi:type="dcterms:W3CDTF">2002-01-03T03:08:23Z</dcterms:modified>
  <cp:revision>301</cp:revision>
  <dc:subject/>
  <dc:title>Слайд 1</dc:title>
</cp:coreProperties>
</file>