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D44-BE3B-4D50-ADD2-299148F4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C87-7ABA-4366-8D9B-A1884831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13C-3E34-4741-BFA8-520349CE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1F7-07DC-4327-90A5-626D736E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53D-FD30-44A2-9B09-E0B3B4BF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7D1-1188-4985-A3BA-55795A27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D1B-0CD6-4AAE-8504-476022FF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A5B-BC90-4E7D-8CF6-EB543318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6FD-16FD-4781-8873-96DC5C2D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3D9-154E-4977-8738-19ECB116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7DB-7681-4295-84BA-80AEA34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C29-EB9D-46B6-94C4-C61E125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D3EA-3CF5-45EC-9ABB-82059B56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ститут комп’ютерних інформаційних технолог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Кафедра комп’ютеризованих систем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вчальна дисциплі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НОВИ НАУКОВИХ ДОСЛІДЖЕН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спеціаль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.05010202 «Системне програмуван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урс 5                              Семестр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екцій –                          17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бораторних занять –  17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дивідуальних занять –  2 го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стійна робота –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ього –                          108 г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1 (9 семес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иференційований залік  9 семе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АУКОВІ СПЕЦІАЛЬНОСТІ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ля ІТ-фахівців за переліком ДАК МОН Украї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1.05.02 – Математичне моделювання та обчислювальні мет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1.05.03 – Математичне та програмне забезпечення обчислювальних машин і сист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5.12.02 – Телекомунікаційні системи та мереж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5.13.05 – Комп’ютерні системи та компонен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5.13.06 – Інформаційні технолог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5.13.21 – Системи захисту інформ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5.13.23 – Системи та засоби штучного інтел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1.05.01 – Інформаційна безпека держа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2. НАУКОВЕ ДОСЛІДЖЕ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форма існування і розвитку нау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діяльність, спрямована на отримання і застосування нових зн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діяльність, спрямована на усебічне вивчення об’єкта, процесу або явища, його структури і зв'язків, а також отримання і впровадження в практику корисних для людини результаті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НАУКОВИХ ДОСЛІДЖ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ундаменталь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клад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шуков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НАУКОВИХ ДОСЛІДЖ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ежно від джерела фінанс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нувані по господарських договорах і фінансовані замовниками (підприємствами і організаціям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інансовані із коштів державного бюдже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іціативні (нефінансовані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ІВНІ НАУКОВОГО ДОСЛІДЖ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оретич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мпірич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0686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ТРУКТУРНІ КОМПОНЕН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93372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оретичного пізнанн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бле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поте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ор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ТРУКТУРНІ ЕЛЕМЕНТИ ТЕОР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чаткові підстав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'єкт, що ідеалізується, тобто теоретична модель якої-небудь частини дійсності, істотних властивостей і зв'язків явищ, що вивчаються, та предмет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огіка теорії - сукупність певних правил і способів доказ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ілософські установки і соціальні цін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купність законів і положень, виведених як наслідки з цієї теор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ЧАТКОВІ ПІДСТАВИ ТЕОР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нятт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атегор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ові термі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ж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де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нцип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сіо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ко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кономір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ож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вч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49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цеп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ТРУКТУРНІ КОМПОНЕН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мпіричного пізн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ак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мпіричні узагальне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мпіричні закони (залежності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3. ЕТАПИ НАУКОВОГО ДОСЛІДЖ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Вибір теми дослідж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Обґрунтування необхідності дослідже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обґрунтування актуаль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формулювання мети і завдань дослідж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визначення об'єкту і предмета дослідж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формулювання наукової новизни очікуваних результа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формулювання практичної цінності очікуваних результа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визначення очікуваного ефекту від впровадження результатів дослідж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Вибір методів дослідж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Проведення теоретичних і експериментальних дослідж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. Аналіз і інтерпретація отриманих результа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. Оформлення результатів дослідж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. Впровадження результатів дослідження в прак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КУМЕНТАЦ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сподарський договір на створення (передачу) науково-технічної продук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пит на виконання науково-дослідної роботи за кошти державного бюдже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хнічне завд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лендарний пл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віт про науково-дослідну робо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т здачі-приймання результатів робі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т впровадження результатів робі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исертація і і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57200" y="274680"/>
          <a:ext cx="8229600" cy="6291360"/>
        </p:xfrm>
        <a:graphic>
          <a:graphicData uri="http://schemas.openxmlformats.org/drawingml/2006/table">
            <a:tbl>
              <a:tblPr/>
              <a:tblGrid>
                <a:gridCol w="5194440"/>
                <a:gridCol w="828360"/>
                <a:gridCol w="1187640"/>
                <a:gridCol w="1019160"/>
              </a:tblGrid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ова система оцінювання зна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вчальної робо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лабораторної роботи  № 1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та захист домашнього завданн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опуску до виконання модульної контрольної роботи №1 студент має набрати не менше 44 бал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модульної контрольної роботи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модулем №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овий диференційований зал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ього за 9 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ЕТАПИ ВИКОНАННЯ СТУДЕНТСЬКИХ ДОСЛІДЖ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готовч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ведення теоретичних і емпіричних дослідж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бота над рукописом і її оформле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провадження результатів наукового дослідж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4. МЕТОДОЛОГІЯ НАУКОВОГО ДОСЛІДЖ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вчення про метод наукового пізнання і перетворення сві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система принципів і способів організації і побудови теоретичної і практичної діяльності, а також вчення про цю сис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сукупність методів, способів, прийомів, їх певна послідовність, схема, прийнята при виконанні наукового дослідж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початкові керівні принципи розвитку наукового дослідж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НІ ВИЗНАЧ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спосіб  досягнення певної  м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сукупність  прийомів  і  операцій  практичного  або теоретичного освоєння дійс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 наукового дослідженн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спосіб пізнання об'єктивної дійс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шлях дослідження, шлях пізнання, який дослідник прокладає до свого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осіб 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е дія або система дій, вживаних при виконанні якої-небудь роботи, при здійсненні чого-небу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дика 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купність способів і прийомів пізн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НАУКОВИХ МЕТОД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ологічні (аналіз, синтез, індукція, дедукція, аналогі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мпіричні (спостереження, опис, порівняння, рахунок, вимір, тестування, експеримент, моделюванн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оретичні (аксіоматичний, гіпотетичний, формалізація, абстрагуван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ГАЛЬНОЛОГІЧНІ МЕТ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налі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нт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дук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дук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496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налог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МПІРИЧНІ МЕТ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постереж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ах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мі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02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елю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ОРЕТИЧНІ МЕТ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сіомати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іпотети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алізац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бстраг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анжир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загальн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ходження від абстрактного до конкрет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5. ПЛАНУВАННЯ НАУКОВОЇ ДІЯЛЬН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и управління науковою діяльніст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6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ністерство освіти і науки Украї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6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ржавне агентство з питань на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новацій та інформатизації Украї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ЛОЖЕНН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організацію наукової, науково-технічної діяльності у вищих навчальних закладах III–IV рівнів акредит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тверджено наказом Міністерства освіти і науки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01.06.2006 року №4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труктура системи управління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ауковими дослідженн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71640" y="1627200"/>
          <a:ext cx="74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7200"/>
                    <a:ext cx="74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МІСТ ДИСЦИПЛІ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Поняття науки. Класифікація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Понятие наукового дослідження. Класифікаці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Рівні і компоненти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Етапи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Методологі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. Плануванн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. Технологі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. Обробка результатів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9. Оформлення наукових дослідж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ТАНОВКА ЗАДАЧІ ОПТИМАЛЬНОГО ПЛАНУВАННЯ НАУКОВИХ ДОСЛІДЖЕН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«портфель» науково-дослідних проектів (НДП), кожен з яких характеризує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) допустимим діапазоном часу початку реаліз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) обсягом необхідних фінансових вкладень на етапах виконання проек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) величиною очікуваних прибутків на кожній стадії здійснення про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Необхід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вибрати і так розподілити в часі проекти, що приймаються до реалізації, щоб добитися найкращого фінансового результату науково-дослідної діяльності з урахуванням початкових та поточних фінансових можливостей, що динамічно змінюються у часі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ХІДНІ ДАНІ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133720"/>
          <a:ext cx="7848360" cy="264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84836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ХІДНІ ДАНІ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1360440"/>
          <a:ext cx="7704000" cy="40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60440"/>
                    <a:ext cx="770400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ХІДНІ ДАНІ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916280"/>
          <a:ext cx="7958160" cy="324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795816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ХІДНІ ДАНІ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1844640"/>
          <a:ext cx="8064720" cy="30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06472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рафік реалізації НД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1301760"/>
            <a:ext cx="75596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ШУКАНІ ЗМІН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8360" y="1585800"/>
          <a:ext cx="8136000" cy="35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5800"/>
                    <a:ext cx="813600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ІЛЬОВА ФУНКЦ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87280" y="1542960"/>
          <a:ext cx="7310520" cy="31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42960"/>
                    <a:ext cx="731052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ОБМЕ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1916280"/>
          <a:ext cx="7921440" cy="294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7921440" cy="29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ЗНАЧЕННЯ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0000" y="1341360"/>
          <a:ext cx="734400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734400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62064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ета викладання дисципліни: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володіння методикою та організацією науково-дослідницької діяльності, розвиток уявлення про науку і основні її понятт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удент повинен зн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новні поняття і класифікацію нау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тапи наукового дослідженн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няття методу і методології наукових дослідже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нципи планування і організації науково-дослідної робо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вила оформлення результатів наукових дослідж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удент повинен вмі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ланувати науково-дослідну робот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дійснювати наукові дослідження в межах професійної підгото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формлювати результати наукових досліджень згідно існуючих вимо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ЗНАЧЕНН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26920" y="1557360"/>
          <a:ext cx="7705800" cy="42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058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ЗНАЧЕННЯ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1413000"/>
          <a:ext cx="7777440" cy="43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77774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КЛАД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26920" y="1494000"/>
          <a:ext cx="7777440" cy="383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94000"/>
                    <a:ext cx="777744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КЛ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. ТЕХНОЛОГІ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ворчий підхід до постановки та вирішенн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ове мис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лано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инаміч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лектив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організ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кономіч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ритичність і самокритич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іловит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нергій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актичн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ИЛА НАУКОВО-ДОСЛІДН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стійно розмірковувати про предмет дослідж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цювати згідно з пла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 виконанні першочергової роботи відкидати другорядні справ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тимально розподіляти сили та ча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здалегідь готувати все необхід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 робити кілька справ одночас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ворчу роботу виконувати перед технічною, а складну – перед просто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одити розпочате до кінц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стійно контролювати свою ро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часно вносити коректив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бмежувати ширину і глибину дослідж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ОБИСТІСНІ ЯКОСТІ ДОСЛІ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ійна підго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пит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остереж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іціатив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чуття нов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цікавленість у результатах дослід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унктуальність, ретельність, обов’язко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альність і надій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торські здіб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мунікабе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брозичл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080" indent="36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дорове честолюб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ХНІКА СПІЛК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еність, тобто чітке обмеження предмета спілкування (обговорення), його мети, формулювання питань, можливих варіантів виріш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ґрунтованість, тобто максимальна аргументованість своєї точки зору, визначення системи доказів, логічність викладення власної пози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лідовність у відстоюванні власної точки зору, поглядів, думок, несуперечність тверджень, доказів, готовність до зміни своєї позиції лише за наявності вагомих аргументів опон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. ОБРОБКА РЕЗУЛЬТАТІВ ЕКСПЕРИМЕНТ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1700280"/>
          <a:ext cx="777528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7752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середнього значення випадкової велич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95320"/>
          <a:ext cx="792000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95320"/>
                    <a:ext cx="79200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333360"/>
            <a:ext cx="842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І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Ковальчук В.В., Моїсєєв Л.М. Основи наукових досліджень // Навчальний посібник. – К.: ВД «Професіонал», 2004. – 20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Філіпенко А.С. Основи наукових досліджень // Конспект лекцій. – К.: Академвидав, 2004. – 20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Черній А.М. Дисертація як кваліфікаційна наукова праця // Посібник для магістрів, аспірантів і здобувачів наук. ступеня / За ред. І.І.Ібатуліна.– К.: Арістей, 2004. – 2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Правила складання і подання заявки на винахід та заявки на корисну модель //  Затверджено наказом МОН України від 22 січня 2001 р. № 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. Положення про дипломні роботи (проекти) випускників НАУ // Затверджено наказом ректора від 3.11.2006 № 178/од. – К.: Вид-во НАУ, 2006. – 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. Ишнякова Н.С., Шешкиль Н.В. Основы научных исследований // Курс лекцій. – Усть-Каменогорск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. Сабитова Р.Г. Основы научных исследований. – Владивосток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кореляційного моменту двох випадкових вел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640" y="2289240"/>
          <a:ext cx="8136000" cy="311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89240"/>
                    <a:ext cx="813600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математичного очікування випадкового проц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87280" y="1798560"/>
          <a:ext cx="7056720" cy="41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98560"/>
                    <a:ext cx="705672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математичного очікування стаціонарного випадкового процесу, що має ергодичну властив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4360" y="2133720"/>
          <a:ext cx="7921440" cy="30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9214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цінка кореляційної функції стаціонарного випадкового процесу, що має ергодичну власти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26920" y="1849320"/>
          <a:ext cx="7777440" cy="38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9320"/>
                    <a:ext cx="777744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.2 Перевірка статистичних гіпо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32000" y="1341360"/>
          <a:ext cx="6956280" cy="45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56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точності результатів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кспериментальн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1590840"/>
          <a:ext cx="7632720" cy="43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90840"/>
                    <a:ext cx="763272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АХУНОК КІЛЬКОСТІ ЕКСПЕРИМЕНТІ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700280"/>
          <a:ext cx="792144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921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ВІРОГІД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1371600"/>
          <a:ext cx="7704000" cy="40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71600"/>
                    <a:ext cx="77040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ДИСПЕРС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55640" y="1413000"/>
          <a:ext cx="799308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993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А КІЛЬКІСТЬ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8360" y="1773360"/>
          <a:ext cx="8064360" cy="340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06436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 ПОНЯТТЯ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ера людської діяльності, спрямованої на вироблення і систематизацію нових знань про природу, суспільство, мислення і пізнання навколишнього сві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 цієї діяльності, тобто система отриманих наукових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дна з форм суспільної свідомості, соціальний інститут, система взаємозв'язків між науковими організаціями і членами наукового співтовариства, система наукової інформації, норм і цінностей нау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значення окремих галузей наукового зн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алузь куль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ЛЬКІСТЬ ЕКСПЕРИМЕНТІВ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 ВІДНОСНІЙ ТОЧ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11280" y="1725480"/>
          <a:ext cx="7848360" cy="34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25480"/>
                    <a:ext cx="784836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АХУНОК КІЛЬКОСТІ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476360" y="1484280"/>
          <a:ext cx="6624720" cy="49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6247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А КІЛЬКІСТЬ ЕКСПЕРИ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0000" y="2133720"/>
          <a:ext cx="7453440" cy="331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745344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. ОФОРМЛЕННЯ НАУКОВ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ди наукових дослідж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сподарсько-договірні (госпдоговірні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ржбюджет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іціатив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вчаль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КУМЕНТАЛЬНЕ СУПРОВОДЖЕННЯ ГОСПДОГОВІРН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) договір на створення (передачу) науково-технічної продук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) технічне завд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) календарний пл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) протокол про договірну ці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) планова калькуляція кошторисної вартості робі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) звіти про виконану роботу (проміжні і завершальн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) акт здачі-приймання робі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) акт впровадження результатів роботи у виробниц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) акт впровадження результатів роботи у навчальний проце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ГОВІР №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створення (передачу) науково-технічної продук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«__» ________201 __ р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м. Киї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_____________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назва підприємства – замов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далі – Замовник) в особі _________________ , який діє на підставі Статуту, з одного боку, і Національний авіаційний університет (далі – Виконавець) в особі __________________ , який діє на підставі Статуту, з іншого боку, уклали цей договір про нижчевиклад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Предмет дого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 Вартість робіт і порядок розрахун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 Порядок здачі і приймання робі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 Відповідальність сторі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 Інші ум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 Термін дії договору і реквізити сторі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ХНІЧНЕ 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науково-дослідну (дослідно-конструкторську) ро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Підстава для проведення робі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Мета та вхідні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ані для проведення робі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Виконавці 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Вимоги до виконання 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. Етапи та порядок виконання робі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. Очікувані наукові і науково-технічні результ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а порядок їх реаліз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. Показники результативності виконання 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.1. Вимоги до результатів виконання 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.2. Реалізація результатів та ефектив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. Матеріали, які подають  по закінченню НДР та її етап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8. Порядок приймання НДР та її етап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9. Додаткові ви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ЛЕНДАРНИЙ ПЛАН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нання робі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4360" y="1413000"/>
          <a:ext cx="792000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7920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згодження договірної ціни на науково-дослід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 дослідно-конструкторську робот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те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договором №___ від «__» __________ 201__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,  які нижче підписалися, від Замовника ____________________ та від Виконавця  ____________________ засвідчуємо, що сторонами досягнуто узгодження ціни на виконання робіт у сумі ___________________ г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ний протокол є підставою для проведення взаєм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ахунків між Виконавцем і Замовником та є невід’ємною частиною договору №___ від «__»  __________ 201__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ЛАНОВА  КАЛЬКУЛЯЦІЯ  КОШТОРИСНОЇ  ВАРТОСТІ  РОБІ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71640" y="1197000"/>
          <a:ext cx="756108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561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ТА НАУКИ – отримання знань про навколишній світ, виявлення істотних сторін усіх явищ природи, суспільства і мислення, теоретичне відбиття дійсності, досягнення об'єктивної іс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ВДАННЯ НАУ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ір, опис, аналіз, узагальнення і пояснення фак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явлення законів руху природи, суспільства, мислення і пізн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тизація отриманих зн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яснення суті явищ і процес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гнозування подій, явищ і процес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тановлення напрямів і форм практичного використання отриманих зн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 К Т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дачі-прийняття науково-технічної продукції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 договором №___ від «___»_______ 201__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ладено «____» ________201_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и,  які нижче підписалися, представник Виконавця ______________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однієї сторони, і представник Замовника ______________________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другої сторони, склали цей акт у тім, що робота за  договором № ___ виконана в повному обсязі, науково-технічна продукці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відповідає / не відповідає ТЗ, календарному плану та вимогам договору; перевищує вимоги ТЗ або іншого докумен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і належним / неналежним порядком оформл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ислий опис  науково-технічної продукції: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говірна ціна за договором  становить _______________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лежить до перерахування ________________________ 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Т ВПРОВАД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26920" y="1125360"/>
          <a:ext cx="7777440" cy="51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77774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КУМЕНТАЛЬНЕ СУПРОВОДЖЕННЯ ДЕРЖБЮДЖЕТНИХ ДОСЛІ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) проект фундаментального (прикладного) дослідження за рахунок коштів державного бюдже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) технічне завд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) календарний пл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) звіти про виконану роботу (анотовані, проміжні і завершаль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) акт впровадження результатів роботи у виробниц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) акт впровадження результатів роботи у навчальний проц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ундаментального/прикладного дослідж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 рахунок видатків державного бюдж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зва проекту:  ______________________________________ (не більше 15 сл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роки виконання (3 роки): з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 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бсяг фінансування: __ тис. грн., зокрема на __ рiк: __ тис. гр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. АНОТАЦІЯ (до 15 рядк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. ПРОБЛЕМАТИКА ДОСЛІДЖЕННЯ (до 30 рядк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. МЕТА І ОСНОВНІ ЗАВДАННЯ ПРОЕКТУ (до 30 рядк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4. СТАН ДОСЛІДЖЕНЬ ЗАДАЧІ (до 30 рядків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5. МЕТОДИ, ПІДХОДИ, ІДЕЇ, РОБОЧІ ГІПОТЕЗИ, ЯКІ ПРОПОНУЮТЬСЯ ДЛЯ ВИРІШЕННЯ ЗАВДАНЬ ПРОЕКТУ(до 30 рядкі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6. ОЧІКУВАНІ РЕЗУЛЬТАТИ ВИКОНАННЯ ПРОЕКТУ ТА ЇХ НАУКОВА НОВИЗНА (до 40 рядків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7. ДОРОБОК АВТОРІВ ЗА ТЕМАТИКОЮ ПРОЕКТУ (за останні 5 рок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8. ОЧІКУВАНЕ ВИКОРИСТАННЯ ОТРИМАНИХ РЕЗУЛЬТАТІВ (до 30 рядк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9. ЕТАПИ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0. ВИКОНАВЦІ ПРОЕКТУ (з оплатою в межах запи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1. НАЯВНІСТЬ МАТЕРІАЛЬНО-ТЕХНІЧНОЇ БАЗИ ДЛЯ ВИКОНАННЯ ПРОЕК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НОТОВАНИЙ ЗВІ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 завершеною науково-дослідною робото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. Тема 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. Терміни викон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. Обсяг коштів, виділених на виконання НДР  _________ тис. гр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4. Об’єкт та предмет дослідж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5. Мета науково-дослідн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6. Основні завдання, задачі чи проблеми, які необхідно було вирішити для досягнення м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7. Опис процесу наукового дослідж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8. Наукова новизна та значимість отриманих наукових результат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9. Відмінні риси і перевага отриманих результатів (продукції) над вітчизняними або зарубіжними аналогами чи прототип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0. Практична цінність результатів та продук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1. Використання результатів роботи у навчальному процес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2. Результативність виконання науково-дослідн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3. Бібліографічний перелік монографій, підручників, посібників, словників, довідників, наукових статей, інших публікацій; подані заявки та отримані патенти; теми захищених та поданих до розгляду у спеціалізовану вчену раду дисерта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4. Кількість персоналу, що брав участь у виконанні НДР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5. Рішення вченої (наукової, науково-технічної) рад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РУКТУРА НАУКОВОЇ СТАТ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) постановка проблеми та її зв’язок із важливими науковими чи практичними завданн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) аналіз останніх досліджень і публікацій, в яких започатковано розв’язання даної проблеми і на які спирається автор, виділення невирішених раніше частин загальної проблеми, котрим присвячується означена статт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) формулювання цілей статті (постановка завдання досліджен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) виклад основного матеріалу дослідження з повним обґрунтуванням отриманих наукових результа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) висновки з даного дослідження і перспективи подальшого розвитку у даному напрям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РУКТУРА ДИСЕРТ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итульний аркуш (встановленої фор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лік умовних позначень (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ості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ту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а част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сн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исок використаних джер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датки (при необхідності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ВСТУПУ ДО ДИСЕРТ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туальність те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в’язок роботи з науковими програмами, планами, тем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а і завдання дослідження (в тому числі – об’єкт дослідження, предмет дослідження, методи дослідженн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укова новизна одержаних результат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ктичне значення одержаних результат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обистий внесок здобув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пробація результатів дисерт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ублікації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ОСНОВНОЇ ЧАСТИНИ ДИСЕРТ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гляд літератури за темою і вибір напрямків дослідж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лад загальної методики і основних методів дослідж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кспериментальна частина і методика дослідж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омості про проведені теоретичні і експериментальні дослідж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омості про аналіз і узагальнення результатів дослідж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ВИСНОВКІВ ДИСЕРТ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йбільш важливі наукові та практичні результати, одержані в дисерта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комендації щодо наукового та практичного використання здобутих результа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тоди розв’язання поставленої в дисертації наукової проблеми (задачі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наліз запропонованих методів у порівнянні з відомими підх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Ефект від впровадження результатів дисертаційної роботи у практи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кономіч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оціаль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йно-техніч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ЛАСИФІКАЦІЯ НА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3300"/>
                </a:solidFill>
                <a:uFillTx/>
                <a:latin typeface="Arial"/>
              </a:rPr>
              <a:t>Залежно від сфери, предмета і методу пізнання</a:t>
            </a:r>
            <a:r>
              <a:rPr b="0" lang="uk-UA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уки про природу (природничі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уки про суспільство (гуманітарні і соціальні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уки про мислення і пізнання (філософія, логіка, психологія та ін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3300"/>
                </a:solidFill>
                <a:uFillTx/>
                <a:latin typeface="Arial"/>
              </a:rPr>
              <a:t>Залежно від об’єкту дослідження</a:t>
            </a:r>
            <a:r>
              <a:rPr b="0" lang="uk-UA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родничі науки (математика, фізика, хімія та ін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ічні науки (науки про цілеспрямоване перетворення природних сил і процесів у технічні об'єк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дичні нау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спільні науки (економіка, соціологія, політологія, право та ін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уманітарні науки (історія, мовознавство, філософія, та ін.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ІЛІ АТЕСТАЦІЙНОЇ РОБОТИ МАГІСТР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ормулювання наукової (науково-технічної) задачі, аналіз стану розв'язання проблеми за матеріалами вітчизняних та зарубіжних публікацій, обґрунтування цілей дослідж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амостійний аналіз методів дослідження, які застосовуються при розв'язанні науково-дослідної задачі, розробка нової методики дослідження або його апаратурного забезпеч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уковий аналіз і узагальнення фактичного матеріалу, що використовується у процесі дослідж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ержання об'єктивних нових результатів, які мають теоретичне, прикладне, або науково-методичне знач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пробація одержаних результатів і висновків у вигляді доповідей на наукових конференціях (не нижче факультетського рівня), опублікованих або підготовлених до публікації в наукових журналах і збірниках з обов'язковими результатами їх реценз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МАГІСТР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процесі підготовки і захисту атестаційної роботи магістрант повинен продемонструва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датність до самостійного творчого мислення, формулювання висновків і положень, уміння аргументовано їх захища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міння оцінювати можливості використання одержаних результатів у науковій і практичній діяль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АТЕСТАЦІЙНОЇ РОБОТИ МАГІСТР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тупна част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а част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дат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ЛЕМЕНТИ ВСТУПНОЇ ЧАСТ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кладинка і титульний лист (встановленої фор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фе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лік умовних позначень, символів, скорочень і термін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РЕФЕРАТУ МАГІСТЕРСЬК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обсягом до 500 сл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омості про обсяг роботи, кількість ілюстрацій, таблиць, додатків, кількість джерел за переліком посил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ль робо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тоди дослідження та апарату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комендації по використанню результатів робо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жливість роботи і висно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зиції про можливі напрямки розвитку чи продовження виконаних дослідж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лік до 10 ключових слів (словосполучень), суттєвих для розкриття змісту робо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РУКТУРА ЗМІСТУ МАГІСТЕРСЬК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ту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менування всіх розділів, підрозділів, пунктів (підпунктів. якщо вони мають заголовки) основної частини робо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нов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лік посил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менування додатків з зазначенням сторінок цих матеріал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ВСТУПУ МАГІСТЕРСЬКОЇ РОБО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цінка сучасного стану проблеми на основі аналізу вітчизняної і зарубіжної науково-технічної літератури і патентного пошуку з зазначенням практично вирішених задач, існуючих прогалин знань у даній предметній галузі, провідних фірм і вчених та спеціалістів у даній галуз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вітові тенденції розв'язання поставлени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туальність робо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ль роботи, основні задачі і галузь застосування результатів дослідження;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заємозв'язок з іншими робо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МІСТ ОСНОВНОЇ ЧАСТИНИ МАГІСТЕРСЬКОЇ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бґрунтування і вибір теоретичних та експериментальних методів дослідження поставлених задач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озроблення методики дослідження, опис експериментального обладнання, аналіз похибок експерименті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постановка задачі математичного моделювання, обґрунтування припущень, аналіз адекватності розроблених моделей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озробка алгоритмів і методик проведення математичного моделюванн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езультати теоретичних і експериментальних досліджен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аналіз основних науково-технічних результатів з точки зору вірогідності, наукової і практичної цінності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ВИСНОВКІВ МАГІСТЕРСЬК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інка одержаних результатів з урахуванням світових тенденцій розв'язання поставленої зада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жливі  галузі їх впровадже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сподарська, наукова, науково-технічна і соціальна значимість роб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ДОДАТКІВ МАГІСТЕРСЬК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даткові ілюстрації або табли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атеріали, які за великим обсягом або формою подання не можуть бути внесені в основну частину (фотографії, проміжні математичні доведення, розрахунки і протоколи випробувань, копія технічного завдання, договори, інструкції, методики, опис розроблених комп’ютерних програм тощ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пис нової апаратури і приладів, використаних при проведенні експери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50920" y="765000"/>
          <a:ext cx="8642160" cy="4248360"/>
        </p:xfrm>
        <a:graphic>
          <a:graphicData uri="http://schemas.openxmlformats.org/drawingml/2006/table">
            <a:tbl>
              <a:tblPr/>
              <a:tblGrid>
                <a:gridCol w="3025800"/>
                <a:gridCol w="2736720"/>
                <a:gridCol w="2879640"/>
              </a:tblGrid>
              <a:tr h="1047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ФІКАЦІЯ НА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переліком ДАК МОН Украї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ико-математи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іол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о-мінерал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льськогосподарськ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стори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оном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лософськ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лол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еринар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тецтвознавство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ітектур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іологічні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ітичні та і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0:10:39Z</dcterms:created>
  <dc:creator>Admin</dc:creator>
  <dc:description/>
  <dc:language>en-US</dc:language>
  <cp:lastModifiedBy>shef</cp:lastModifiedBy>
  <dcterms:modified xsi:type="dcterms:W3CDTF">2015-09-08T06:33:42Z</dcterms:modified>
  <cp:revision>137</cp:revision>
  <dc:subject/>
  <dc:title>Слайд 1</dc:title>
</cp:coreProperties>
</file>