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wmf" ContentType="image/x-wmf"/>
  <Override PartName="/ppt/media/image2.jpeg" ContentType="image/jpeg"/>
  <Override PartName="/ppt/media/image3.png" ContentType="image/png"/>
  <Override PartName="/ppt/media/image17.jpeg" ContentType="image/jpeg"/>
  <Override PartName="/ppt/media/image18.wmf" ContentType="image/x-wmf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A61A-7906-4E4D-8553-BE83EBFEF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B40A-7C37-40E9-ABAA-F5CB32D3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2F6E-B896-44DD-94D2-5278EED2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DC05-EEE9-4549-B063-17DAFF0B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0678-4B34-41B0-8695-3E6F4540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6FCD-6E87-475A-9C63-8F9EDEA1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D616-86BA-455F-8758-C7B60A0F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97E6-3CF3-4AC1-A5C7-35EF7F80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AEA3-AE1D-4FF1-AED4-32F2D98C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12B7-7FB0-4420-8248-CB05FBAC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9683-8A00-4C7C-A5D0-975A38CB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47A1-B3C8-46F8-8410-0A6FD3C62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344664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97793519-94E6-4E53-AB60-28C3E8873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-3492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2400" y="179280"/>
            <a:ext cx="860760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РОБЛЕМА ЛЮДИНИ У ФІЛОСОФІЇ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900000" y="1511280"/>
            <a:ext cx="8460000" cy="5400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836720" y="6880320"/>
            <a:ext cx="5364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Статуя Сократа у Академії в Афін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19640" y="1079640"/>
            <a:ext cx="4638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Пізнай самого себе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0960" y="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Єдність біологічного і соціального в людині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60360" y="1547640"/>
            <a:ext cx="8999640" cy="55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пільне між людиною і твариною – біологічні потреби.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отреб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це особливий стан відкритої системи – тварини, людини, який характеризує суперечність між необхідністю існування і внутрішніми можливостями цієї системи для забезпечення її існування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ле тварина задовольняє потреби безпосередньо, людина – опосередковано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Здатність людини стримувати задоволення природних інстинктів для того, щоб задовольнити їх у майбутньому у відповідних, визначених культурою формах і умовах називається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інгібіціє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Низка вчених визнає велику роль інгібіції в процесі антропосоціогенез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50960" y="-179640"/>
            <a:ext cx="860904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Єдність біологічного і соціального в людині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0360" y="900000"/>
            <a:ext cx="8999640" cy="63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юдина в процесі життєдіяльності не лише задовольняє, відтворює потреби, але й розвиває нові. Саме соціальні потреби і інтереси визначають сутність людини як соціальної істоти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оціальна сутність людини І порядку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задоволення, відтворення, поява нових потреб через застосування знарядь праці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оціальна сутність людини ІІ порядк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специфічно людська потреба у виготовленні знарядь праці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оціальна сутність людини ІІІ порядку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потреба у спілкуванні;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оціальна сутність людину ІV порядку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потреба у цілепокладанні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оціальна сутність людини V порядку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потреба у свободі. Ця потреба є інтегративною. Вона в знятому вигляді містить у собі всі перелічені раніше потреб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50960" y="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Для характеристики людини, ступеня реалізації її сутності, використовуються такі поняття, як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індивід, індивідуальність, особистість: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0360" y="1260360"/>
            <a:ext cx="6119640" cy="59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Індиві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означає людину як одиничного представника людського роду в інтегральній єдності біологічних і соціальних характеристик. При цьому виділяється типовість ознак окремої людини, підкреслюються в ній загальні риси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Індивідуальність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означає неповторність людини в її духовних якостях, здібностях, талантах, самостійній діяльності, житті загалом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7020000" y="4319640"/>
            <a:ext cx="2519280" cy="27255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7020000" y="1346040"/>
            <a:ext cx="2514600" cy="27943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199280" y="7094520"/>
            <a:ext cx="2340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Леонардо да Вінчі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3360" y="360360"/>
            <a:ext cx="6056280" cy="62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Особистість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виступає як динамічна, відносно стійка цілісна система інтелектуальних, соціально-культурних і морально-вольових якостей людини, які виражені в індивідуальних особливостях її свідомості і діяльності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овідним у визначенні особистості є її воля, самостійність, наявність певної соціальної ролі. Особистість втілює цінності своєї епохи, культури. Автономність – одна із провідних якостей особистості, що  діє на основі усвідомлення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сенсу життя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300720" y="809640"/>
            <a:ext cx="3735360" cy="5850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840360" y="6659640"/>
            <a:ext cx="28148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Наполеон І Бонапар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0960" y="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роблема сенсу життя людини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2519280" y="2160720"/>
            <a:ext cx="5759640" cy="52228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60360" y="1123920"/>
            <a:ext cx="93600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Питання про сенс життя є вічною проблемою: вона знову і знову ставиться людиною впродовж історії, отримує нові грані в духовному досвіді люд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0960" y="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 історії філософії були різні точки зору на проблему життя і смерті та сенсу життя. Умовно їх можна поділити на дві групи: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8000" y="1638360"/>
            <a:ext cx="899928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Оптимістичне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тавлення до життя та його сенсу. Оптимізм виражений у тому, що людина є господарем долі, щастя, від неї багато в чому залежить, як прожити своє життя. Цей погляд представлений у філософії Аристотеля, Ф. Аквінського, Т. Де Шарден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. Делла Мірандола, Ф. Бекона, К. Маркса, та ін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Песимістичн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ставлення до життя та його сенсу. Песимізм виражений у тому, що людина є іграшка незалежних від неї сил (природи, долі, суспільства) і не здатна щось змінити в своєму житті. Це точка зору Б. Паскаля, А. Шопенгауера, Ф. Ніцше, А. Камю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Ж.-П. Сартра та ін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50960" y="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 історії філософії склалось декілька провідних підходів до проблеми сенсу життя: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0360" y="1440000"/>
            <a:ext cx="8999640" cy="60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енс життя визначається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духовними основами буття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Характерний перш за все для релігійної філософії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енс життя лежить за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межами буття окремої людин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Сенс людському буттю надає служіння вищим моральним цінностям. Такий підхід можна назвати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альтруїстични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енс життя у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задоволенні матеріальних і духовних потреб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солоді життям. Цей підхід отримав назву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гедоністичного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енс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носить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в життя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ама людин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своєю власною діяльністю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енс полягає в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приянні суспільному розвитку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всебічному розвитку інших людей, тому що тільки ця діяльність створює умови і для особистої самореалізації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50960" y="-73440"/>
            <a:ext cx="8609040" cy="1513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енс життя, його пошуки завжди передбачають вибір, тобто свободу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 історії філософії сформувались наступні концепції свободи: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0360" y="1800360"/>
            <a:ext cx="899964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Детермініз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з його оптимальним виразом –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фаталізмо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Індетермініз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який взагалі заперечує причинність, в ствердженні безмежної свободи особи доходить до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волюнтаризм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Альтернативіз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який стверджує, що завжди існує свобода вибору, але не безмежна, а лише з декількох варіанті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50960" y="52560"/>
            <a:ext cx="860904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пошуках сенсу життя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0360" y="792000"/>
            <a:ext cx="9360000" cy="70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чому сенс життя? Служити іншим і робити добро.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Аристотель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Життя як п'єса в театрі: важливо не те, скільки вона триває, а наскільки добре зіграна.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Л.А. Сенек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агни не до того, щоб досягти успіху, а до того, щоб твоє життя мало сенс.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А. Ейнштейн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кликання кожної людини в духовній діяльності – в постійному пошуку правди і сенсу життя.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А.П. Чехо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Хто не горить, той коптиться. Це закон. Нехай славиться полум'я життя.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(М.О. Островський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Знайти свою дорогу, пізнати своє місце в житті – в цьому все для людини, це для неї означає стати самою собою.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В.Г. Белінськи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житті немає іншого смислу, крім того, який людина сама надає йому, розкриваючи свої сили... (Е. Фром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Живіть так, нібито ви живете вдруге, і вчинили в перший раз так невірно, як збираєтесь вчинити зараз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В. Франкл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50960" y="52560"/>
            <a:ext cx="860904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нтрольний тест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60360" y="792000"/>
            <a:ext cx="9360000" cy="59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) Філософською концепцією свободи є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) прагматизм, б) детермінізм, в) реалізм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Індетермінізм заперечує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) відповідальність, б) причинність, в)випадковість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) Неповторна своєрідність людини (зовнішність, характер, звички, здібності і т. ін.) позначається терміном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) індивід, б) індивідуальність, в) особистість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) Людина як творець знарядь праці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) Homo faber, б) Homo Sapiens, в) Homo luden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) Здатність людини стримувати задоволення природних інстинктів для того, щоб задовольнити їх у майбутньому у відповідних, визначених культурою, формах і умовах називається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) коаліція, б) інгібіція, в) альтернативізм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73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640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4" marL="215892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Проблема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антропосоціогенез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2.Єдність біологічного і соціального в люди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3. Проблема сенсу життя люди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0960" y="52560"/>
            <a:ext cx="860904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машнє завдання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60360" y="792000"/>
            <a:ext cx="9360000" cy="78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ема Свідомість: її походження та сутніст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) Постановка проблеми свідомості в історії філософії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едметно-практичні засади виникнення свідомості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) Структура свідомості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лючові поняття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відображення, суспільна практика, ідеальне, свідомість, несвідоме, підсвідоме, мислення, мов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ітератур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сновна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ілософія: Підручник / І.В. Бичко, І.В. Бойченко та ін. - К., 2001. - С. 143 – 16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ілософія: Посіб. Для студ. ВНЗ / Є.М. Причепій та ін. - К.: Академія, 2001. - С. 317 – 33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шоджерел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егель Г.В.Ф. Кто мыслит абстрактн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нгельс Ф. Роль труда в процессе превращения обезьяны в чело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Юнг К. Об архетипах коллективного бессознательно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лючові поняття: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89812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тропосоціогенез, діяльність, потреби, інгібіція, індивід, індивідуальність, особистість, сенс життя, свобода,  детермінізм, фаталізм, індетермінізм, волюнтаризм, альтернативі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-162000" y="-5400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0720" y="27000"/>
            <a:ext cx="86090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 найбільш завершеному вигляді релігійне вчення про створення людини Богом представлене в Біблії, в Книзі Буття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...І створив Бог людину по образу Своєму, по образу Божому створив її...”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-36360" y="2160720"/>
            <a:ext cx="4140000" cy="43192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31760" y="6480000"/>
            <a:ext cx="4638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Гюстав Доре Створення Єв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4859280" y="2160720"/>
            <a:ext cx="4500720" cy="4319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802040" y="6480000"/>
            <a:ext cx="43783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Ю. Ш. Фон Каросфельд Шостий д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36880" y="6913440"/>
            <a:ext cx="4264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Ілюстрації до Біблі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0960" y="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еред наукових концепцій походження людини найбільш поширеною і впливовою є еволюційна: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8160" y="1079640"/>
            <a:ext cx="2120760" cy="2340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119160" y="4154400"/>
            <a:ext cx="1979640" cy="25052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3419640"/>
            <a:ext cx="25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Жан Батист Ламар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6734160"/>
            <a:ext cx="2103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Чарльз Дарві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920000" y="4140360"/>
            <a:ext cx="1979640" cy="2700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099280" y="6840360"/>
            <a:ext cx="1687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Хуго де Фріз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1079640"/>
            <a:ext cx="5040360" cy="57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У джерел якої стоять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Ж.-Б. Ламарк і Ч. Дарвін. Під впливом мінливості, спадковості, природного відбору здійснюється еволюція в органічному світі, поява нових видів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Х. Де Фріз додає і такий фактор, як великі одиничні мутації. Вищим щаблем еволюційного розвитку є людина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0960" y="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З філософських позицій (матеріалістичних) проблема антропосоціогенезу глибоко розроблена Ф. Енгельсом: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00360" y="1547640"/>
            <a:ext cx="5759640" cy="55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роботі “Роль праці в процесі перетворення мавпи на людину” він висунув положення про визначальну роль праці в процесі антропосоціогенезу. Людина є перш за все творець знарядь праці – Homo Faber. Вона перейшла від пристосування до природи до пристосування природи до себе. В ході антропосоціогенезу відбувся перехід від біологічно детермінованого до людського морального існування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79280" y="1798560"/>
            <a:ext cx="3060720" cy="4141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0960" y="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идатний вчений – антрополог і філософ Тейар де Шарден розглядає антропосоціогенез як складову космогенезу в цілому: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311640"/>
            <a:ext cx="25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Тейар де Шарде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740720" y="3479760"/>
            <a:ext cx="1993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В.І. Вернадськ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340000" y="1224000"/>
            <a:ext cx="504036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На думку Т. де Шардена рушійною силою антропосоціогенезу є взаємодія механічної та психічної енергій. Накопичення психічного, примноження станів його вияву і є фактором появи людини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Погляди Т. Де Шардена, О.Л. Чижевського,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В.І. Вернадського лягли в основу концепції космічного походження людини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79280" y="107964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179280" y="3959280"/>
            <a:ext cx="2160720" cy="2519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7740720" y="1079640"/>
            <a:ext cx="2160360" cy="2340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7740720" y="3959280"/>
            <a:ext cx="2160360" cy="27003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7740720" y="6659640"/>
            <a:ext cx="21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О.Л. Чижевськ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50960" y="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Єдність біологічного і соціального в людині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60360" y="1547640"/>
            <a:ext cx="8999640" cy="55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юдина виступає як єдність і боротьба протилежностей – біологічного і соціального. Всі задатки людини, особливості закладаються біологічно, але формуються лише в умовах соціум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к природна істота, людина належить до біологічного виду Homo Sapiens. Цей вид характеризується рядом ознак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)тривалістю життя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)належністю до статі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)належністю до раси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)дітородним віком жінки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)спадковістю (певні вроджені особливості, проте які реалізуються лише в суспільстві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50960" y="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Єдність біологічного і соціального в людині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60360" y="1547640"/>
            <a:ext cx="8999640" cy="59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еретворення біологічного в соціальне відбувається в процесі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оціалізаці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тобто в процесі освоєння всього поля культури. Залежно від природних задатків, а також соціальних уподобань людина формує себе і своє тіло як соціальну сутність. Людина активно впливає на своє власне становлення як особистості, а тому виступає перш за все як істота соціальн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пецифічно людським способом ставлення до світу виступає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діяльність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Це процес, в ході якого людина творчо перетворюючи природу, робить тим самим себе діяльним суб'єктом,  а природу – об'єктом своєї діяльності. Власне матеріально-перетворюючій, предметній діяльності –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раці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людина зобов'язана своїм становленням, розвитком людських якосте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21:55:48Z</dcterms:created>
  <dc:creator/>
  <dc:description>Предложение пути развития и альтернатив, рекомендации по использованию той или другой стратегии</dc:description>
  <dc:language>en-US</dc:language>
  <cp:lastModifiedBy>Иван Скиба</cp:lastModifiedBy>
  <dcterms:modified xsi:type="dcterms:W3CDTF">2012-03-16T17:29:52Z</dcterms:modified>
  <cp:revision>154</cp:revision>
  <dc:subject/>
  <dc:title>Предложение стратегии</dc:title>
</cp:coreProperties>
</file>