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ACC-C0A1-44D2-9ADB-1FBA2DA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1A6-8FB8-48E4-AAA4-7D478BDD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AFD-B971-454A-8CF5-0A19037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877-953C-4A97-B917-A27F631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C69-9855-496D-9656-FEB4F5DA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117-7FBF-4299-A920-8F3EDD5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968-5FE1-4852-8104-E3960A5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19-AC6B-49F5-83A3-A8E5368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90A-49C2-4BBA-B9B2-2043D2A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1E3-1393-42B6-A089-13A2FA6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4FD-B49B-4607-A89D-9F8B9B4C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319-8764-4005-BDBF-B335D2A8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92DB2E9-789E-4BA1-9FAF-14A89A48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2400" y="179280"/>
            <a:ext cx="8607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БЛЕМА ЛЮДИНИ У ФІЛОСОФІЇ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1511280"/>
            <a:ext cx="846000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36720" y="6880320"/>
            <a:ext cx="5364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атуя Сократа у Академії в Афі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9640" y="1079640"/>
            <a:ext cx="463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ізнай самого себе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0360" y="1547640"/>
            <a:ext cx="899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ільне між людиною і твариною – біологічні потреби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це особливий стан відкритої системи – тварини, людини, який характеризує суперечність між необхідністю існування і внутрішніми можливостями цієї системи для забезпечення її існуванн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ле тварина задовольняє потреби безпосередньо, людина – опосередковано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датність людини стримувати задоволення природних інстинктів для того, щоб задовольнити їх у майбутньому у відповідних, визначених культурою формах і умовах називаєтьс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інгібіціє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Низка вчених визнає велику роль інгібіції в процесі антропосоціогенез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0960" y="-179640"/>
            <a:ext cx="86090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900000"/>
            <a:ext cx="899964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на в процесі життєдіяльності не лише задовольняє, відтворює потреби, але й розвиває нові. Саме соціальні потреби і інтереси визначають сутність людини як соціальної істот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доволення, відтворення, поява нових потреб через застосування знарядь прац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І поряд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специфічно людська потреба у виготовленні знарядь прац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ІІІ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спілкуванні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у ІV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цілепокладанн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ьна сутність людини V порядку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треба у свободі. Ця потреба є інтегративною. Вона в знятому вигляді містить у собі всі перелічені раніше потреб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ля характеристики людини, ступеня реалізації її сутності, використовуються такі поняття, як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індивід, індивідуальність, особистість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1260360"/>
            <a:ext cx="611964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иві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означає людину як одиничного представника людського роду в інтегральній єдності біологічних і соціальних характеристик. При цьому виділяється типовість ознак окремої людини, підкреслюються в ній загальні рис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ивідуальні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означає неповторність людини в її духовних якостях, здібностях, талантах, самостійній діяльності, житті загало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20000" y="4319640"/>
            <a:ext cx="2519280" cy="2725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020000" y="1346040"/>
            <a:ext cx="2514600" cy="279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199280" y="7094520"/>
            <a:ext cx="234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Леонардо да Вінч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360" y="360360"/>
            <a:ext cx="605628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собисті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виступає як динамічна, відносно стійка цілісна система інтелектуальних, соціально-культурних і морально-вольових якостей людини, які виражені в індивідуальних особливостях її свідомості і діяльності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ідним у визначенні особистості є її воля, самостійність, наявність певної соціальної ролі. Особистість втілює цінності своєї епохи, культури. Автономність – одна із провідних якостей особистості, що  діє на основі усвідомлення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енсу житт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300720" y="809640"/>
            <a:ext cx="3735360" cy="5850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0360" y="6659640"/>
            <a:ext cx="281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Наполеон І Бонапа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блема сенсу життя людини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19280" y="2160720"/>
            <a:ext cx="5759640" cy="5222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0360" y="1123920"/>
            <a:ext cx="9360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Питання про сенс життя є вічною проблемою: вона знову і знову ставиться людиною впродовж історії, отримує нові грані в духовному досвіді лю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були різні точки зору на проблему життя і смерті та сенсу життя. Умовно їх можна поділити на дві групи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" y="1638360"/>
            <a:ext cx="8999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птимістичн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влення до життя та його сенсу. Оптимізм виражений у тому, що людина є господарем долі, щастя, від неї багато в чому залежить, як прожити своє життя. Цей погляд представлений у філософії Аристотеля, Ф. Аквінського, Т. Де Шарде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. Делла Мірандола, Ф. Бекона, К. Маркса, та і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есимістич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тавлення до життя та його сенсу. Песимізм виражений у тому, що людина є іграшка незалежних від неї сил (природи, долі, суспільства) і не здатна щось змінити в своєму житті. Це точка зору Б. Паскаля, А. Шопенгауера, Ф. Ніцше, А. Камю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.-П. Сартра та ін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склалось декілька провідних підходів до проблеми сенсу життя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440000"/>
            <a:ext cx="899964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визначаєтьс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уховними основами бутт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Характерний перш за все для релігійної філософії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лежить з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жами буття окремої люд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Сенс людському буттю надає служіння вищим моральним цінностям. Такий підхід можна назват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альтруїстични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життя у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доволенні матеріальних і духовних потреб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солоді життям. Цей підхід отримав назву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едоністич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носи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житт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ма лю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воєю власною діяльністю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нс полягає в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приянні суспільному розвитку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себічному розвитку інших людей, тому що тільки ця діяльність створює умови і для особистої самореалізації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0960" y="-73440"/>
            <a:ext cx="860904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енс життя, його пошуки завжди передбачають вибір, тобто свободу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історії філософії сформувались наступні концепції свободи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" y="1800360"/>
            <a:ext cx="89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етермін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 його оптимальним виразом –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фаталізм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Індетермін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який взагалі заперечує причинність, в ствердженні безмежної свободи особи доходить до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волюнтаризм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Альтернативіз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який стверджує, що завжди існує свобода вибору, але не безмежна, а лише з декількох варіанті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ошуках сенсу житт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0360" y="792000"/>
            <a:ext cx="9360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чому сенс життя? Служити іншим і робити добро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ристотел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ття як п'єса в театрі: важливо не те, скільки вона триває, а наскільки добре зіграна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Л.А. Сене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гни не до того, щоб досягти успіху, а до того, щоб твоє життя мало сенс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. Ейнштей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кликання кожної людини в духовній діяльності – в постійному пошуку правди і сенсу життя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то не горить, той коптиться. Це закон. Нехай славиться полум'я життя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М.О. Островський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найти свою дорогу, пізнати своє місце в житті – в цьому все для людини, це для неї означає стати самою собою.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.Г. Белінськ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житті немає іншого смислу, крім того, який людина сама надає йому, розкриваючи свої сили... (Е. Фром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віть так, нібито ви живете вдруге, і вчинили в перший раз так невірно, як збираєтесь вчинити зараз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. Франк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трольний тест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0360" y="792000"/>
            <a:ext cx="9360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Філософською концепцією свободи є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агматизм, б) детермінізм, в) реалізм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Індетермінізм заперечує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відповідальність, б) причинність, в)випадкові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Неповторна своєрідність людини (зовнішність, характер, звички, здібності і т. ін.) позначається терміном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індивід, б) індивідуальність, в) особисті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Людина як творець знарядь праці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Homo faber, б) Homo Sapiens, в) Homo lude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Здатність людини стримувати задоволення природних інстинктів для того, щоб задовольнити їх у майбутньому у відповідних, визначених культурою, формах і умовах називаєтьс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коаліція, б) інгібіція, в) альтернативіз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640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4" marL="215892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Проблема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нтропосоціогене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Єдність біологічного і соціального в люд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Проблема сенсу життя лю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0960" y="52560"/>
            <a:ext cx="8609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792000"/>
            <a:ext cx="9360000" cy="78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ма Свідомість: її походження та сутні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Постановка проблеми свідомості в історії філософії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метно-практичні засади виникнення свідомості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Структура свідомості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ючові поняття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ідображення, суспільна практика, ідеальне, свідомість, несвідоме, підсвідоме, мислення, м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ілософія: Підручник / І.В. Бичко, І.В. Бойченко та ін. - К., 2001. - С. 143 – 1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ілософія: Посіб. Для студ. ВНЗ / Є.М. Причепій та ін. - К.: Академія, 2001. - С. 317 – 33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шоджере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гель Г.В.Ф. Кто мыслит абстракт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нгельс Ф. Роль труда в процессе превращения обезьяны в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нг К. Об архетипах коллективного бессознатель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ові поняття: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898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ропосоціогенез, діяльність, потреби, інгібіція, індивід, індивідуальність, особистість, сенс життя, свобода,  детермінізм, фаталізм, індетермінізм, волюнтаризм, альтернативі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62000" y="-54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27000"/>
            <a:ext cx="86090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найбільш завершеному вигляді релігійне вчення про створення людини Богом представлене в Біблії, в Книзі Буття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...І створив Бог людину по образу Своєму, по образу Божому створив її...”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36360" y="2160720"/>
            <a:ext cx="4140000" cy="431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1760" y="6480000"/>
            <a:ext cx="4638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Гюстав Доре Створення Єв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59280" y="2160720"/>
            <a:ext cx="4500720" cy="431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2040" y="6480000"/>
            <a:ext cx="4378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Ю. Ш. Фон Каросфельд Шостий д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6880" y="6913440"/>
            <a:ext cx="42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Ілюстрації до Біблі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еред наукових концепцій походження людини найбільш поширеною і впливовою є еволюційна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160" y="1079640"/>
            <a:ext cx="212076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19160" y="4154400"/>
            <a:ext cx="1979640" cy="2505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419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Жан Батист Ламар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734160"/>
            <a:ext cx="2103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Чарльз Дарв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920000" y="4140360"/>
            <a:ext cx="1979640" cy="2700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99280" y="6840360"/>
            <a:ext cx="1687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Хуго де Фр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079640"/>
            <a:ext cx="5040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У джерел якої стоять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Ж.-Б. Ламарк і Ч. Дарвін. Під впливом мінливості, спадковості, природного відбору здійснюється еволюція в органічному світі, поява нових видів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Х. Де Фріз додає і такий фактор, як великі одиничні мутації. Вищим щаблем еволюційного розвитку є люди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 філософських позицій (матеріалістичних) проблема антропосоціогенезу глибоко розроблена Ф. Енгельсом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00360" y="1547640"/>
            <a:ext cx="575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оботі “Роль праці в процесі перетворення мавпи на людину” він висунув положення про визначальну роль праці в процесі антропосоціогенезу. Людина є перш за все творець знарядь праці – Homo Faber. Вона перейшла від пристосування до природи до пристосування природи до себе. В ході антропосоціогенезу відбувся перехід від біологічно детермінованого до людського морального існуванн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9280" y="1798560"/>
            <a:ext cx="3060720" cy="414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идатний вчений – антрополог і філософ Тейар де Шарден розглядає антропосоціогенез як складову космогенезу в цілому: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11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Тейар де Шард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0720" y="3479760"/>
            <a:ext cx="1993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В.І. Вернадсь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224000"/>
            <a:ext cx="504036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На думку Т. де Шардена рушійною силою антропосоціогенезу є взаємодія механічної та психічної енергій. Накопичення психічного, примноження станів його вияву і є фактором появи людини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огляди Т. Де Шардена, О.Л. Чижевського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.І. Вернадського лягли в основу концепції космічного походження людин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21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740720" y="1079640"/>
            <a:ext cx="2160360" cy="234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740720" y="3959280"/>
            <a:ext cx="2160360" cy="27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40720" y="6659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О.Л. Чижевсь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" y="1547640"/>
            <a:ext cx="899964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на виступає як єдність і боротьба протилежностей – біологічного і соціального. Всі задатки людини, особливості закладаються біологічно, але формуються лише в умовах соціу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к природна істота, людина належить до біологічного виду Homo Sapiens. Цей вид характеризується рядом ознак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тривалістю житт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належністю до статі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належністю до рас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дітородним віком жі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спадковістю (певні вроджені особливості, проте які реалізуються лише в суспільстві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Єдність біологічного і соціального в людині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1547640"/>
            <a:ext cx="89996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ретворення біологічного в соціальне відбувається в процесі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іалізаці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бто в процесі освоєння всього поля культури. Залежно від природних задатків, а також соціальних уподобань людина формує себе і своє тіло як соціальну сутність. Людина активно впливає на своє власне становлення як особистості, а тому виступає перш за все як істота соціаль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ецифічно людським способом ставлення до світу виступає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іяльність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 процес, в ході якого людина творчо перетворюючи природу, робить тим самим себе діяльним суб'єктом,  а природу – об'єктом своєї діяльності. Власне матеріально-перетворюючій, предметній діяльності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ац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людина зобов'язана своїм становленням, розвитком людських якос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1:55:48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Иван Скиба</cp:lastModifiedBy>
  <dcterms:modified xsi:type="dcterms:W3CDTF">2012-03-16T17:29:52Z</dcterms:modified>
  <cp:revision>154</cp:revision>
  <dc:subject/>
  <dc:title>Предложение стратегии</dc:title>
</cp:coreProperties>
</file>