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22A26-3564-471E-B6F0-5CFFA5E49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0BE2-033F-4873-9E25-05916526B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17CA-8E32-447A-A9C8-8B34F1831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1EEB4-D3A1-4167-8779-19CB5ECFD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E2402-A891-4BA1-8F1A-67A360ED2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4C788-9798-4C29-8153-81CDE2B45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FEFB1-9A7B-434A-B033-EF66B478F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AE47C-29AB-436C-A923-B19BCFFA0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DE019-9CAB-4893-B4B4-D80DE895D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3C194-1ADF-4477-A182-2177FB223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0B055-B743-4CA9-9C01-1807E1FE2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980C-D96D-4A03-AC25-4BCD0FF2A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373B8-D60C-42E3-8E58-3D289A54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6657D-197C-470B-88B8-3302FE238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815CC-7795-433E-9229-4620F23FB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7E9F1-E0A8-4E3C-B149-227B9191D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978BF-15F2-40A2-987D-EAE2508ED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4547-659C-43F5-84D8-87F70AF5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6B7F8-7600-403C-AC5F-8B125EEB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2B569-2BF1-4BFF-A913-87BBF81F0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F8C58-F18E-49AD-841F-954E56BAD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4DE5-200F-472D-9D42-61D44BB9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81A2-081D-4BE9-8ACE-D11E9F8C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EEF7-4610-44FD-9894-AAABC89C4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B1D2-4C47-4983-A561-317A6266849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A864-E078-4EDD-9908-20EB99A0AC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cture 6.</a:t>
            </a:r>
            <a:r>
              <a:rPr b="1" lang="en-US"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852640"/>
            <a:ext cx="8135640" cy="31687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ranslation activity in Europe </a:t>
            </a:r>
            <a:br>
              <a:rPr sz="4000"/>
            </a:br>
            <a:r>
              <a:rPr b="1" lang="en-US" sz="4000" spc="-1" strike="noStrike">
                <a:solidFill>
                  <a:srgbClr val="000000"/>
                </a:solidFill>
                <a:latin typeface="Verdana"/>
              </a:rPr>
              <a:t>in the 2nd half of the 18th - 19th centurie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4" name="PlaceHolder 2"/>
          <p:cNvSpPr>
            <a:spLocks noGrp="1"/>
          </p:cNvSpPr>
          <p:nvPr>
            <p:ph/>
          </p:nvPr>
        </p:nvSpPr>
        <p:spPr>
          <a:xfrm>
            <a:off x="566640" y="1752480"/>
            <a:ext cx="5648400" cy="4267440"/>
          </a:xfrm>
          <a:prstGeom prst="rect">
            <a:avLst/>
          </a:prstGeom>
          <a:noFill/>
          <a:ln w="0">
            <a:noFill/>
          </a:ln>
        </p:spPr>
        <p:txBody>
          <a:bodyPr anchor="t">
            <a:normAutofit/>
          </a:bodyPr>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r Johann Wolfgang Goethe (1749–1832), as for many of his German contemporaries, translation was a gateway between on the one hand the strengthening notions of nationality and the Western tradition, and on the other the broader world (especially the ‘Orient’).</a:t>
            </a:r>
            <a:endParaRPr b="0" lang="en-US" sz="2500" spc="-1" strike="noStrike">
              <a:solidFill>
                <a:srgbClr val="000000"/>
              </a:solidFill>
              <a:latin typeface="Verdana"/>
            </a:endParaRPr>
          </a:p>
        </p:txBody>
      </p:sp>
      <p:pic>
        <p:nvPicPr>
          <p:cNvPr id="105" name="Picture 5" descr="http://upload.wikimedia.org/wikipedia/commons/thumb/0/0e/Goethe_%28Stieler_1828%29.jpg/240px-Goethe_%28Stieler_1828%29.jpg"/>
          <p:cNvPicPr/>
          <p:nvPr/>
        </p:nvPicPr>
        <p:blipFill>
          <a:blip r:embed="rId1"/>
          <a:stretch/>
        </p:blipFill>
        <p:spPr>
          <a:xfrm>
            <a:off x="6143760" y="2071800"/>
            <a:ext cx="22860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ethe wrote about </a:t>
            </a:r>
            <a:r>
              <a:rPr b="1" lang="en-US" sz="2600" spc="-1" strike="noStrike">
                <a:solidFill>
                  <a:srgbClr val="000000"/>
                </a:solidFill>
                <a:latin typeface="Verdana"/>
              </a:rPr>
              <a:t>two maxims in translatio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e requires that the author of a foreign nation be brought across to us in such a way that we can look on him as ours;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ther requires that we should go across to what is foreign and adapt ourselves to its conditions, its use of language, its peculiari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ethe believed that a high-quality translation should be identical with the original, so that “one would not be valued instead of the other, but in the other’s ste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1" name="PlaceHolder 2"/>
          <p:cNvSpPr>
            <a:spLocks noGrp="1"/>
          </p:cNvSpPr>
          <p:nvPr>
            <p:ph/>
          </p:nvPr>
        </p:nvSpPr>
        <p:spPr>
          <a:xfrm>
            <a:off x="566280" y="1752480"/>
            <a:ext cx="5862600" cy="4267440"/>
          </a:xfrm>
          <a:prstGeom prst="rect">
            <a:avLst/>
          </a:prstGeom>
          <a:noFill/>
          <a:ln w="0">
            <a:noFill/>
          </a:ln>
        </p:spPr>
        <p:txBody>
          <a:bodyPr anchor="t">
            <a:normAutofit/>
          </a:bodyPr>
          <a:p>
            <a:pPr marL="46980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gust Wilhelm Schlegel (1767-1845) a German poet, translator, critic, and a leader of German Romanticism. </a:t>
            </a:r>
            <a:endParaRPr b="0" lang="en-US" sz="2500" spc="-1" strike="noStrike">
              <a:solidFill>
                <a:srgbClr val="000000"/>
              </a:solidFill>
              <a:latin typeface="Verdana"/>
            </a:endParaRPr>
          </a:p>
          <a:p>
            <a:pPr marL="46980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is translations of Shakespeare’s plays made the English dramatist's works into German classics. </a:t>
            </a:r>
            <a:endParaRPr b="0" lang="en-US" sz="2500" spc="-1" strike="noStrike">
              <a:solidFill>
                <a:srgbClr val="000000"/>
              </a:solidFill>
              <a:latin typeface="Verdana"/>
            </a:endParaRPr>
          </a:p>
        </p:txBody>
      </p:sp>
      <p:pic>
        <p:nvPicPr>
          <p:cNvPr id="112" name="Picture 5" descr="http://upload.wikimedia.org/wikipedia/commons/thumb/9/9d/August_Wilhelm_von_Schlegel.jpg/250px-August_Wilhelm_von_Schlegel.jpg"/>
          <p:cNvPicPr/>
          <p:nvPr/>
        </p:nvPicPr>
        <p:blipFill>
          <a:blip r:embed="rId1"/>
          <a:stretch/>
        </p:blipFill>
        <p:spPr>
          <a:xfrm>
            <a:off x="6357960" y="2428920"/>
            <a:ext cx="2381400" cy="260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legel’s principles of translation were based on the interpretation of works of art as organisms.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aring Herder’s view, he considered every literary work  as an entity comprising form and content.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Herder and the </a:t>
            </a:r>
            <a:r>
              <a:rPr b="0" i="1" lang="en-US" sz="2100" spc="-1" strike="noStrike">
                <a:solidFill>
                  <a:srgbClr val="000000"/>
                </a:solidFill>
                <a:latin typeface="Verdana"/>
              </a:rPr>
              <a:t>Sturm and Drang</a:t>
            </a:r>
            <a:r>
              <a:rPr b="0" lang="en-US" sz="2100" spc="-1" strike="noStrike">
                <a:solidFill>
                  <a:srgbClr val="000000"/>
                </a:solidFill>
                <a:latin typeface="Verdana"/>
              </a:rPr>
              <a:t> poets, who argued that this entity was unconsciously created by a genius, Schlegel considered this entity as an “organic created nature” (</a:t>
            </a:r>
            <a:r>
              <a:rPr b="0" i="1" lang="en-US" sz="2100" spc="-1" strike="noStrike">
                <a:solidFill>
                  <a:srgbClr val="000000"/>
                </a:solidFill>
                <a:latin typeface="Verdana"/>
              </a:rPr>
              <a:t>organische Kunstform</a:t>
            </a:r>
            <a:r>
              <a:rPr b="0" lang="en-US" sz="2100" spc="-1" strike="noStrike">
                <a:solidFill>
                  <a:srgbClr val="000000"/>
                </a:solidFill>
                <a:latin typeface="Verdana"/>
              </a:rPr>
              <a:t>) which resulted from a conscious, intentional creative effor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cordingly, each Shakespearean drama was a skilfully constructed organism, in which every detail (each scene, character etc.) was related to the whole by inherent necessity, and from which, in turn, it derived its meaning.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 a translator can do justice to the original only by paying attention to and translating every detail, and any change distorted and destroyed the perfect organism.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nguage had to be light and pleasing and the reader was to get the impression that s/he was reading an original German text, not a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words, Schlegel tried to combine the “objective” and the “subjective” aspects of translation: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delity to the source text, on the one hand,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he creative transformation and naturalization in accordance with target-side requirements, on the other.</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2" name="PlaceHolder 2"/>
          <p:cNvSpPr>
            <a:spLocks noGrp="1"/>
          </p:cNvSpPr>
          <p:nvPr>
            <p:ph/>
          </p:nvPr>
        </p:nvSpPr>
        <p:spPr>
          <a:xfrm>
            <a:off x="285480" y="1752480"/>
            <a:ext cx="607212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Romatic concept of translation expressed in Schlegel’s theory and practice of Shakespeare’s translation, was systematically analyzed by Friedrich Schleiermacher (1768–1834), an influential German theologian and one of the key scholarly figures of German Romanticism, in his lecture ‘On the Different Methods of Translating’, delivered to the Royal Academy of Sciences in Berlin in 1813. </a:t>
            </a:r>
            <a:endParaRPr b="0" lang="en-US" sz="2100" spc="-1" strike="noStrike">
              <a:solidFill>
                <a:srgbClr val="000000"/>
              </a:solidFill>
              <a:latin typeface="Verdana"/>
            </a:endParaRPr>
          </a:p>
        </p:txBody>
      </p:sp>
      <p:pic>
        <p:nvPicPr>
          <p:cNvPr id="123" name="Picture 5" descr="http://upload.wikimedia.org/wikipedia/commons/thumb/9/9f/Friedrich_Daniel_Ernst_Schleiermacher.jpg/250px-Friedrich_Daniel_Ernst_Schleiermacher.jpg"/>
          <p:cNvPicPr/>
          <p:nvPr/>
        </p:nvPicPr>
        <p:blipFill>
          <a:blip r:embed="rId1"/>
          <a:stretch/>
        </p:blipFill>
        <p:spPr>
          <a:xfrm>
            <a:off x="6429240" y="2000160"/>
            <a:ext cx="2381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leiermacher insisted that the reader should be brought to the author, that the reader should learn to accept ‘alienation’, or what would now be called foreignization of transl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1" lang="en-US" sz="2000" spc="-1" strike="noStrike">
                <a:solidFill>
                  <a:srgbClr val="000000"/>
                </a:solidFill>
                <a:latin typeface="Verdana"/>
              </a:rPr>
              <a:t>Translation activity in Europe </a:t>
            </a:r>
            <a:br>
              <a:rPr sz="2000"/>
            </a:br>
            <a:r>
              <a:rPr b="1" lang="en-US" sz="2000" spc="-1" strike="noStrike">
                <a:solidFill>
                  <a:srgbClr val="000000"/>
                </a:solidFill>
                <a:latin typeface="Verdana"/>
              </a:rPr>
              <a:t>in the 2nd half of the 18th - 19th centuries</a:t>
            </a:r>
            <a:endParaRPr b="0" lang="en-US" sz="20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Views of German romanticists on transla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Translation activity in Engl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Golden Age of Russian literary transl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his lecture, Schleiermacher distinguishes between </a:t>
            </a:r>
            <a:r>
              <a:rPr b="1" lang="en-US" sz="2800" spc="-1" strike="noStrike">
                <a:solidFill>
                  <a:srgbClr val="000000"/>
                </a:solidFill>
                <a:latin typeface="Verdana"/>
              </a:rPr>
              <a:t>interpreting</a:t>
            </a:r>
            <a:r>
              <a:rPr b="0" lang="en-US" sz="2800" spc="-1" strike="noStrike">
                <a:solidFill>
                  <a:srgbClr val="000000"/>
                </a:solidFill>
                <a:latin typeface="Verdana"/>
              </a:rPr>
              <a:t> (‘Dolmetchen’), by which he understands not only oral interpreting, but also business-related translation,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he </a:t>
            </a:r>
            <a:r>
              <a:rPr b="1" lang="en-US" sz="2800" spc="-1" strike="noStrike">
                <a:solidFill>
                  <a:srgbClr val="000000"/>
                </a:solidFill>
                <a:latin typeface="Verdana"/>
              </a:rPr>
              <a:t>translation proper</a:t>
            </a:r>
            <a:r>
              <a:rPr b="0" lang="en-US" sz="2800" spc="-1" strike="noStrike">
                <a:solidFill>
                  <a:srgbClr val="000000"/>
                </a:solidFill>
                <a:latin typeface="Verdana"/>
              </a:rPr>
              <a:t> (in the fields of art and scholarship).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basic methods of translation proper: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oving the author to the reader (naturalization method)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 the reader to the author (alienation or foreignization metho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lators who follow the first method often claim that they want to make their author speak the way he would have spoken if he had written the work in the</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lator’s languag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is lecture, Schleiermacher criticizes this formula implying that this method often turns out to be imitation in disguise.</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re seems to be only one option left for the translator who wants to transmit ‘the living power’ which ‘creates new forms by means of the plastic material of language’: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the reader has to be brought to the author.</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leiermacher’s metaphoric formula to describe this translation: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400" spc="-1" strike="noStrike">
                <a:solidFill>
                  <a:srgbClr val="000000"/>
                </a:solidFill>
                <a:latin typeface="Verdana"/>
              </a:rPr>
              <a:t>it will be ‘perfect when one can say that if the author had learnt German as well as the translator has learnt Latin he would not have translated the work he originally wrote in Latin any differently than the translator has done.’ </a:t>
            </a:r>
            <a:endParaRPr b="0" lang="en-US" sz="24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while at one point Schleiermacher</a:t>
            </a:r>
            <a:r>
              <a:rPr b="0" lang="en-US" sz="2100" spc="-1" strike="noStrike">
                <a:solidFill>
                  <a:srgbClr val="000000"/>
                </a:solidFill>
                <a:latin typeface="Verdana"/>
              </a:rPr>
              <a:t> </a:t>
            </a:r>
            <a:r>
              <a:rPr b="0" lang="en-US" sz="3000" spc="-1" strike="noStrike">
                <a:solidFill>
                  <a:srgbClr val="000000"/>
                </a:solidFill>
                <a:latin typeface="Verdana"/>
              </a:rPr>
              <a:t>talks about moving the reader to the author, he also describes them as meeting ‘at a certain point in the middl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e. </a:t>
            </a:r>
            <a:r>
              <a:rPr b="1" lang="en-US" sz="3000" spc="-1" strike="noStrike">
                <a:solidFill>
                  <a:srgbClr val="000000"/>
                </a:solidFill>
                <a:latin typeface="Verdana"/>
              </a:rPr>
              <a:t>they meet through and ‘in’ a translator</a:t>
            </a:r>
            <a:r>
              <a:rPr b="0" lang="en-US" sz="3000" spc="-1" strike="noStrike">
                <a:solidFill>
                  <a:srgbClr val="000000"/>
                </a:solidFill>
                <a:latin typeface="Verdana"/>
              </a:rPr>
              <a:t> who opens up the gateway of the foreign.</a:t>
            </a:r>
            <a:endParaRPr b="0" lang="en-US" sz="30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ever, this foreignizing method challenges the reader and it places a strain on the language of the transl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leiermacher not only sees translation as a crucial national enterprise, but he also dreams of the German language as a linguistic empire where the various works of world literary history are all gathered togeth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xander Fraser Tytler’s (1747–1813) </a:t>
            </a:r>
            <a:r>
              <a:rPr b="0" i="1" lang="en-US" sz="3000" spc="-1" strike="noStrike">
                <a:solidFill>
                  <a:srgbClr val="000000"/>
                </a:solidFill>
                <a:latin typeface="Verdana"/>
              </a:rPr>
              <a:t>Essay on the Principles of Translation</a:t>
            </a:r>
            <a:r>
              <a:rPr b="0" lang="en-US" sz="3000" spc="-1" strike="noStrike">
                <a:solidFill>
                  <a:srgbClr val="000000"/>
                </a:solidFill>
                <a:latin typeface="Verdana"/>
              </a:rPr>
              <a:t> (1791) is often seen as the first extended thesis on translation written in English.</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age of Classicism and Enlightenment French was the most respected literary language in Europ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often served as an intermediary language for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tler’s </a:t>
            </a:r>
            <a:r>
              <a:rPr b="0" i="1" lang="en-US" sz="2400" spc="-1" strike="noStrike">
                <a:solidFill>
                  <a:srgbClr val="000000"/>
                </a:solidFill>
                <a:latin typeface="Verdana"/>
              </a:rPr>
              <a:t>Essay</a:t>
            </a:r>
            <a:r>
              <a:rPr b="0" lang="en-US" sz="2400" spc="-1" strike="noStrike">
                <a:solidFill>
                  <a:srgbClr val="000000"/>
                </a:solidFill>
                <a:latin typeface="Verdana"/>
              </a:rPr>
              <a:t> reacts against Dryden’s concept of paraphrase and the loose translations that resulted from it. </a:t>
            </a:r>
            <a:endParaRPr b="0" lang="en-US" sz="24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ytler, translation should give a complete transcript of the idea of the original work, the style and manner of writing should be the same as in the original, and translation should have all the ease of the original.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the same time, Tytler allows the translator to ‘add to the idea of the original what may appear to give greater force or illustration’. </a:t>
            </a:r>
            <a:endParaRPr b="0" lang="en-US" sz="2100" spc="-1" strike="noStrike">
              <a:solidFill>
                <a:srgbClr val="000000"/>
              </a:solidFill>
              <a:latin typeface="Verdana"/>
            </a:endParaRPr>
          </a:p>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us Tytler gives the translator a partnership role with the original authority and the right to intervene, when necessary, in order to perfect the text. </a:t>
            </a:r>
            <a:endParaRPr b="0" lang="en-US" sz="2100" spc="-1" strike="noStrike">
              <a:solidFill>
                <a:srgbClr val="000000"/>
              </a:solidFill>
              <a:latin typeface="Verdana"/>
            </a:endParaRPr>
          </a:p>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r Tytler, the aim of translation is the production of an equivalent effect that goes beyond linguistic and cultural difference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I would therefore describe a good translation to be that, in which the merit of the original work is so completely transfused into another language, as to be as distinctly apprehended, and as strongly felt, by a native of the country to which that language belongs, as it is by those who speak the language of the original work.</a:t>
            </a:r>
            <a:endParaRPr b="0" lang="en-US" sz="2600" spc="-1" strike="noStrike">
              <a:solidFill>
                <a:srgbClr val="000000"/>
              </a:solidFill>
              <a:latin typeface="Verdana"/>
            </a:endParaRPr>
          </a:p>
          <a:p>
            <a:pPr marL="469800" indent="0" algn="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 Tytl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tler sees a translator as a judge, combining the qualities of a critic and a highly professional writer, whose task is to present the original author, as he himself would have wished to be presented, free of drawbacks and fault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or, in effect, functions as a kind of censor, who always has the true interest of author and reader in view.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ytler, then, the status of a translator could hardly be higher, as an ideal translator should possesses genius similar to the genius of the original author.</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uring the 19th century Britain was the scene of much translation activity and translation was taken very seriously. </a:t>
            </a:r>
            <a:endParaRPr b="0" lang="en-US" sz="3000" spc="-1" strike="noStrike">
              <a:solidFill>
                <a:srgbClr val="000000"/>
              </a:solidFill>
              <a:latin typeface="Verdana"/>
            </a:endParaRPr>
          </a:p>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bate about translation was fuelled by a strong belief that translation is crucial for literary life in Britain.</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1" name="PlaceHolder 2"/>
          <p:cNvSpPr>
            <a:spLocks noGrp="1"/>
          </p:cNvSpPr>
          <p:nvPr>
            <p:ph/>
          </p:nvPr>
        </p:nvSpPr>
        <p:spPr>
          <a:xfrm>
            <a:off x="566280" y="1752480"/>
            <a:ext cx="5505480" cy="4267440"/>
          </a:xfrm>
          <a:prstGeom prst="rect">
            <a:avLst/>
          </a:prstGeom>
          <a:noFill/>
          <a:ln w="0">
            <a:noFill/>
          </a:ln>
        </p:spPr>
        <p:txBody>
          <a:bodyPr anchor="t">
            <a:normAutofit/>
          </a:bodyPr>
          <a:p>
            <a:pPr marL="4698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ward FitzGerald (1809–83), a poet and a letter-writer, translated </a:t>
            </a:r>
            <a:r>
              <a:rPr b="0" i="1" lang="en-US" sz="3000" spc="-1" strike="noStrike">
                <a:solidFill>
                  <a:srgbClr val="000000"/>
                </a:solidFill>
                <a:latin typeface="Verdana"/>
              </a:rPr>
              <a:t>Rubaiyat</a:t>
            </a:r>
            <a:r>
              <a:rPr b="0" lang="en-US" sz="3000" spc="-1" strike="noStrike">
                <a:solidFill>
                  <a:srgbClr val="000000"/>
                </a:solidFill>
                <a:latin typeface="Verdana"/>
              </a:rPr>
              <a:t> of Omar Khayyam, probably the most popular English poem of the nineteenth century.</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62" name="Picture 5" descr="http://upload.wikimedia.org/wikipedia/commons/thumb/d/d9/Edward_FitzGerald.jpg/240px-Edward_FitzGerald.jpg"/>
          <p:cNvPicPr/>
          <p:nvPr/>
        </p:nvPicPr>
        <p:blipFill>
          <a:blip r:embed="rId1"/>
          <a:stretch/>
        </p:blipFill>
        <p:spPr>
          <a:xfrm>
            <a:off x="6357960" y="2286000"/>
            <a:ext cx="2286000" cy="27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869 the American scholar Charles Eliot Norton reviewed FitzGerald’s translation in the most flattering terms: </a:t>
            </a:r>
            <a:endParaRPr b="0" lang="en-US" sz="2100" spc="-1" strike="noStrike">
              <a:solidFill>
                <a:srgbClr val="000000"/>
              </a:solidFill>
              <a:latin typeface="Verdana"/>
            </a:endParaRPr>
          </a:p>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i="1" lang="en-US" sz="2100" spc="-1" strike="noStrike">
                <a:solidFill>
                  <a:srgbClr val="000000"/>
                </a:solidFill>
                <a:latin typeface="Verdana"/>
              </a:rPr>
              <a:t>He is to be called ‘‘translator’’ only in default of a better word, one which should express the poetic transfusion of a poetic spirit from one language to another, and the representation of the ideas and images of the original in a form not altogether diverse from their own but perfectly adapted to the new conditions of time, place, custom, and habit of mind in which they reappear.’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tzGerald outlined his approach to translation in a letter to James Russell Lowell, the American poet, essayist, and editor:</a:t>
            </a:r>
            <a:endParaRPr b="0" lang="en-US" sz="21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 am persuaded that, to keep Life in the Work (as Drama must) the Translator (however inferior to his Original) must re-cast that original into his own Likeness, more or less: the less like his original, so much the worse: but still, the live Dog better than the dead L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nch translators felt justified in adapting translated texts in such ways as to make them conform not only to the grammatical, lexical and semantic norms and conventions of the French language, but also to typological and aesthetic models prevalent in French liter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8" name="PlaceHolder 2"/>
          <p:cNvSpPr>
            <a:spLocks noGrp="1"/>
          </p:cNvSpPr>
          <p:nvPr>
            <p:ph/>
          </p:nvPr>
        </p:nvSpPr>
        <p:spPr>
          <a:xfrm>
            <a:off x="357120" y="1752480"/>
            <a:ext cx="6143760" cy="4267440"/>
          </a:xfrm>
          <a:prstGeom prst="rect">
            <a:avLst/>
          </a:prstGeom>
          <a:noFill/>
          <a:ln w="0">
            <a:noFill/>
          </a:ln>
        </p:spPr>
        <p:txBody>
          <a:bodyPr anchor="t">
            <a:normAutofit/>
          </a:bodyPr>
          <a:p>
            <a:pPr marL="46980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free, domesticating approach to translation seen in FitzGerald’s translation of Omar Khayyam contrasts sharply with Robert Browning’s (1812–89) ultraliteral translation of Aeschylus’ </a:t>
            </a:r>
            <a:r>
              <a:rPr b="0" i="1" lang="en-US" sz="2500" spc="-1" strike="noStrike">
                <a:solidFill>
                  <a:srgbClr val="000000"/>
                </a:solidFill>
                <a:latin typeface="Verdana"/>
              </a:rPr>
              <a:t>Agamemnon</a:t>
            </a:r>
            <a:r>
              <a:rPr b="0" lang="en-US" sz="2500" spc="-1" strike="noStrike">
                <a:solidFill>
                  <a:srgbClr val="000000"/>
                </a:solidFill>
                <a:latin typeface="Verdana"/>
              </a:rPr>
              <a:t> (1877)</a:t>
            </a:r>
            <a:r>
              <a:rPr b="0" lang="ru-RU" sz="2500" spc="-1" strike="noStrike">
                <a:solidFill>
                  <a:srgbClr val="000000"/>
                </a:solidFill>
                <a:latin typeface="Verdana"/>
              </a:rPr>
              <a:t> </a:t>
            </a:r>
            <a:endParaRPr b="0" lang="en-US" sz="2500" spc="-1" strike="noStrike">
              <a:solidFill>
                <a:srgbClr val="000000"/>
              </a:solidFill>
              <a:latin typeface="Verdana"/>
            </a:endParaRPr>
          </a:p>
        </p:txBody>
      </p:sp>
      <p:pic>
        <p:nvPicPr>
          <p:cNvPr id="169" name="Picture 5" descr="http://upload.wikimedia.org/wikipedia/commons/thumb/4/49/Robert_Browning_1865.jpg/240px-Robert_Browning_1865.jpg"/>
          <p:cNvPicPr/>
          <p:nvPr/>
        </p:nvPicPr>
        <p:blipFill>
          <a:blip r:embed="rId1"/>
          <a:stretch/>
        </p:blipFill>
        <p:spPr>
          <a:xfrm>
            <a:off x="6429240" y="2214720"/>
            <a:ext cx="2286000" cy="293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bert Browning defended his translation, proclaiming his belief in the need for translation to be ‘literal at every cost save that of absolute violence to our language’.</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174" name=""/>
          <p:cNvGraphicFramePr/>
          <p:nvPr/>
        </p:nvGraphicFramePr>
        <p:xfrm>
          <a:off x="539640" y="1752480"/>
          <a:ext cx="8028000" cy="4267440"/>
        </p:xfrm>
        <a:graphic>
          <a:graphicData uri="http://schemas.openxmlformats.org/drawingml/2006/table">
            <a:tbl>
              <a:tblPr/>
              <a:tblGrid>
                <a:gridCol w="4032360"/>
                <a:gridCol w="3995640"/>
              </a:tblGrid>
              <a:tr h="4267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itzGerald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s translating a non-Western text</a:t>
                      </a:r>
                      <a:endParaRPr b="0" lang="en-US" sz="3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rowning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s translating one of the canonical works of Western literature.</a:t>
                      </a:r>
                      <a:r>
                        <a:rPr b="0"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6" name="PlaceHolder 2"/>
          <p:cNvSpPr>
            <a:spLocks noGrp="1"/>
          </p:cNvSpPr>
          <p:nvPr>
            <p:ph/>
          </p:nvPr>
        </p:nvSpPr>
        <p:spPr>
          <a:xfrm>
            <a:off x="356760" y="1752480"/>
            <a:ext cx="8215560" cy="426744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of Homer’s epics was one of the key issues of contemporary literary activity in Britain.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as the source of the well-known controversy between Matthew Arnold (1822–88), poet and professor of poetry at Oxford, and Francis W. Newman (1805–97), professor of Latin at University College Lond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old criticized (in his lectures ‘On Translating Homer’, 1861) Newman’s translation of the </a:t>
            </a:r>
            <a:r>
              <a:rPr b="0" i="1" lang="en-US" sz="2800" spc="-1" strike="noStrike">
                <a:solidFill>
                  <a:srgbClr val="000000"/>
                </a:solidFill>
                <a:latin typeface="Verdana"/>
              </a:rPr>
              <a:t>Iliad</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 wrote a detailed reply and Arnold responded in his ‘Last Words on Translating Home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s aim was ambitious, as he wanted to attract a broad readership while at the same time staying true to the various ‘peculiarities’ of Homer’s epic, and the broad range of expressions he found in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 felt that Arnold was attacking the scholarly basis of his translation. </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old in his turn claimed that it was not so much in the realm of scholarship as in poetic delivery that Newman has faile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all their differences, Arnold and Newman were both children of the Romantic revolution. </a:t>
            </a:r>
            <a:endParaRPr b="0" lang="en-US" sz="26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th shared the Romantic view of the translator’s duty to be faithful to the original and of the necessary union of a translator with his original in a good transl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disagreement was not so much about aims as about means.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nold</a:t>
            </a:r>
            <a:r>
              <a:rPr b="0" lang="en-US" sz="2000" spc="-1" strike="noStrike">
                <a:solidFill>
                  <a:srgbClr val="000000"/>
                </a:solidFill>
                <a:latin typeface="Verdana"/>
              </a:rPr>
              <a:t>: since Homer is a classic, the translation should adopt the language of the undoubted classic, the 1611 Bible (the Authorized King James Version).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ts metre should imitate the original.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wman</a:t>
            </a:r>
            <a:r>
              <a:rPr b="0" lang="en-US" sz="2000" spc="-1" strike="noStrike">
                <a:solidFill>
                  <a:srgbClr val="000000"/>
                </a:solidFill>
                <a:latin typeface="Verdana"/>
              </a:rPr>
              <a:t>: saw Homer as primitive and popular,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ed ballad metre and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he called a “Saxo-Norman” langua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nold’s authority was widely acknowledged in the 19th century and well in the 20th. </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man’s practice was largely ignor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nch cultural predominance was reflected in many German imitations of French literary models and translations from French into German.</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et, Newman’s practice represents an important tendency to “foreignize” the original and make readers conscious of the gap between their own culture and the culture represented by the original. </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man was the first among Victorian translators who developed </a:t>
            </a:r>
            <a:r>
              <a:rPr b="1" lang="en-US" sz="3000" spc="-1" strike="noStrike">
                <a:solidFill>
                  <a:srgbClr val="000000"/>
                </a:solidFill>
                <a:latin typeface="Verdana"/>
              </a:rPr>
              <a:t>foreignizing strategies</a:t>
            </a:r>
            <a:r>
              <a:rPr b="0" lang="en-US" sz="3000" spc="-1" strike="noStrike">
                <a:solidFill>
                  <a:srgbClr val="000000"/>
                </a:solidFill>
                <a:latin typeface="Verdana"/>
              </a:rPr>
              <a:t> and opposed the fluent, domesticating method that dominated English translation since the 17th century.</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ancis W. Newman:</a:t>
            </a:r>
            <a:endParaRPr b="0" lang="en-US" sz="2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One of these [dogmas] is, that the reader ought, if possible, to forget that it is a translation at all, and be lulled into the illusion that he is reading an original work. Of course a necessary inference from such a dogma is, that whatever has a foreign colour is undesirable and is even a grave defect. The translator, it seems, must carefully obliterate all that is characteristic of the original, unless it happens to be identical in spirit to something already familiar in English.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ancis W. Newman:</a:t>
            </a:r>
            <a:endParaRPr b="0" lang="en-US" sz="2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rom such a notion I cannot too strongly express my intense dissent. I am at precisely the opposite — to retain every peculiarity of the original, so far as I am able, with the greater care, the more foreign it may happen to be,— whether it be a matter of taste, of intellect, or of morals. […] the English translator should desire the reader always to remember that his work is an imitation, and moreover is in a different material; that the original is foreign, and in many respects extremely unlike our native composi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8" name="PlaceHolder 2"/>
          <p:cNvSpPr>
            <a:spLocks noGrp="1"/>
          </p:cNvSpPr>
          <p:nvPr>
            <p:ph/>
          </p:nvPr>
        </p:nvSpPr>
        <p:spPr>
          <a:xfrm>
            <a:off x="566640" y="1752480"/>
            <a:ext cx="5934240" cy="4267440"/>
          </a:xfrm>
          <a:prstGeom prst="rect">
            <a:avLst/>
          </a:prstGeom>
          <a:noFill/>
          <a:ln w="0">
            <a:noFill/>
          </a:ln>
        </p:spPr>
        <p:txBody>
          <a:bodyPr anchor="t">
            <a:normAutofit/>
          </a:bodyPr>
          <a:p>
            <a:pPr marL="46980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alian culture was spread in England by Dante Gabriel Rossetti (1828–82), painter and poet, who was bilingual in Italian and English. </a:t>
            </a:r>
            <a:endParaRPr b="0" lang="en-US" sz="2600" spc="-1" strike="noStrike">
              <a:solidFill>
                <a:srgbClr val="000000"/>
              </a:solidFill>
              <a:latin typeface="Verdana"/>
            </a:endParaRPr>
          </a:p>
          <a:p>
            <a:pPr marL="46980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861, Rossetti published his influential collection </a:t>
            </a:r>
            <a:r>
              <a:rPr b="0" i="1" lang="en-US" sz="2600" spc="-1" strike="noStrike">
                <a:solidFill>
                  <a:srgbClr val="000000"/>
                </a:solidFill>
                <a:latin typeface="Verdana"/>
              </a:rPr>
              <a:t>The Early Italian Poets. </a:t>
            </a:r>
            <a:endParaRPr b="0" lang="en-US" sz="2600" spc="-1" strike="noStrike">
              <a:solidFill>
                <a:srgbClr val="000000"/>
              </a:solidFill>
              <a:latin typeface="Verdana"/>
            </a:endParaRPr>
          </a:p>
        </p:txBody>
      </p:sp>
      <p:pic>
        <p:nvPicPr>
          <p:cNvPr id="199" name="Picture 5" descr="http://upload.wikimedia.org/wikipedia/commons/thumb/d/d2/Rossetti_selbst.jpg/220px-Rossetti_selbst.jpg"/>
          <p:cNvPicPr/>
          <p:nvPr/>
        </p:nvPicPr>
        <p:blipFill>
          <a:blip r:embed="rId1"/>
          <a:stretch/>
        </p:blipFill>
        <p:spPr>
          <a:xfrm>
            <a:off x="6715080" y="2500200"/>
            <a:ext cx="2095560" cy="233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20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reface Rossetti, while insisting on the need for inspiration also fully acknowledged the limits that a desire for fidelity impose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task of the translator … is one of some self-denial. […] His path is like that of Aladdin through the enchanted vaults: many are the precious fruits and flowers which he must pass by unheeded in search for the lamp alone; happy if at last, when brought to light, it does not prove that his old lamp has been exchanged for a new one,—glittering indeed to the eye, but scarcely of the same virtue nor with the same geniu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19th century - the golden age of Russian translation. </a:t>
            </a:r>
            <a:endParaRPr b="0" lang="en-US" sz="3000" spc="-1" strike="noStrike">
              <a:solidFill>
                <a:srgbClr val="000000"/>
              </a:solidFill>
              <a:latin typeface="Verdana"/>
            </a:endParaRPr>
          </a:p>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18th century had made translation a professional activity, the 19th c. raised this activity to the level of high ar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5" name="PlaceHolder 2"/>
          <p:cNvSpPr>
            <a:spLocks noGrp="1"/>
          </p:cNvSpPr>
          <p:nvPr>
            <p:ph/>
          </p:nvPr>
        </p:nvSpPr>
        <p:spPr>
          <a:xfrm>
            <a:off x="566280" y="1752480"/>
            <a:ext cx="8037720" cy="1819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w Russian school of translation:</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kolai Karamzin (1766-1826)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asiliy Zhukovskiy (1783-1852) </a:t>
            </a:r>
            <a:endParaRPr b="0" lang="en-US" sz="2400" spc="-1" strike="noStrike">
              <a:solidFill>
                <a:srgbClr val="000000"/>
              </a:solidFill>
              <a:latin typeface="Verdana"/>
            </a:endParaRPr>
          </a:p>
        </p:txBody>
      </p:sp>
      <p:pic>
        <p:nvPicPr>
          <p:cNvPr id="206" name="Picture 5" descr="http://upload.wikimedia.org/wikipedia/commons/thumb/6/6d/Tropinin_karamzin.JPG/250px-Tropinin_karamzin.JPG"/>
          <p:cNvPicPr/>
          <p:nvPr/>
        </p:nvPicPr>
        <p:blipFill>
          <a:blip r:embed="rId1"/>
          <a:stretch/>
        </p:blipFill>
        <p:spPr>
          <a:xfrm>
            <a:off x="1071720" y="3500280"/>
            <a:ext cx="1904760" cy="2536920"/>
          </a:xfrm>
          <a:prstGeom prst="rect">
            <a:avLst/>
          </a:prstGeom>
          <a:ln w="0">
            <a:noFill/>
          </a:ln>
        </p:spPr>
      </p:pic>
      <p:pic>
        <p:nvPicPr>
          <p:cNvPr id="207" name="Picture 7" descr="http://upload.wikimedia.org/wikipedia/commons/thumb/3/38/Zhukovsky_1815.jpg/220px-Zhukovsky_1815.jpg"/>
          <p:cNvPicPr/>
          <p:nvPr/>
        </p:nvPicPr>
        <p:blipFill>
          <a:blip r:embed="rId2"/>
          <a:stretch/>
        </p:blipFill>
        <p:spPr>
          <a:xfrm>
            <a:off x="6000840" y="3714840"/>
            <a:ext cx="2095560" cy="2266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ramzin regarded translation as an effective tool for improving a writer’s style as well as an invaluable source of inform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saw the purpose of translation in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tisfying curiosity,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ing historical texts,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taining women,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ing material for new magazines,</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ainting Russian readers with books that have not yet become well know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siliy Zhukovskiy</a:t>
            </a:r>
            <a:r>
              <a:rPr b="0" lang="en-US" sz="2400" spc="-1" strike="noStrike">
                <a:solidFill>
                  <a:srgbClr val="000000"/>
                </a:solidFill>
                <a:latin typeface="Verdana"/>
              </a:rPr>
              <a:t>,“the genius of translation” (Pushkin).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translated Schiller, Goethe, Byron, Walter Scott and other prominent writers.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nge of his creative translation activity covered a wide variety of genres, from fairy tales by Charles Perrault and the Grimm brothers, to Homer’s </a:t>
            </a:r>
            <a:r>
              <a:rPr b="0" i="1" lang="en-US" sz="2400" spc="-1" strike="noStrike">
                <a:solidFill>
                  <a:srgbClr val="000000"/>
                </a:solidFill>
                <a:latin typeface="Verdana"/>
              </a:rPr>
              <a:t>Odyssey</a:t>
            </a:r>
            <a:r>
              <a:rPr b="0" lang="en-US" sz="2400" spc="-1" strike="noStrike">
                <a:solidFill>
                  <a:srgbClr val="000000"/>
                </a:solidFill>
                <a:latin typeface="Verdana"/>
              </a:rPr>
              <a:t> and Old Russian epic </a:t>
            </a:r>
            <a:r>
              <a:rPr b="0" i="1" lang="en-US" sz="2400" spc="-1" strike="noStrike">
                <a:solidFill>
                  <a:srgbClr val="000000"/>
                </a:solidFill>
                <a:latin typeface="Verdana"/>
              </a:rPr>
              <a:t>Slovo o polku Igoreve</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f Romanticism's key ideas is the assertion of nationalism, which became a central theme of Romantic art and political philosoph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manticists focused on the development of national languages, literatures and folklo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Karamzin, Zhukovskiy advocated free translation, which sometimes resulted in paraphrase or even a new story on the subject of the source tex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ractice of taking liberties with the source text was also characteristic of prose translations of the perio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7" name="PlaceHolder 2"/>
          <p:cNvSpPr>
            <a:spLocks noGrp="1"/>
          </p:cNvSpPr>
          <p:nvPr>
            <p:ph/>
          </p:nvPr>
        </p:nvSpPr>
        <p:spPr>
          <a:xfrm>
            <a:off x="566280" y="1752480"/>
            <a:ext cx="8037720" cy="4267440"/>
          </a:xfrm>
          <a:prstGeom prst="rect">
            <a:avLst/>
          </a:prstGeom>
          <a:noFill/>
          <a:ln w="0">
            <a:noFill/>
          </a:ln>
        </p:spPr>
        <p:txBody>
          <a:bodyPr anchor="t">
            <a:normAutofit fontScale="96000"/>
          </a:bodyPr>
          <a:p>
            <a:pPr marL="45072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rinarkh Vvedenskiy (1813-1855), a very popular translator of many novels by Charles Dickens and William Thackeray, justified his free treatment of the original by the desire to please the reader, claiming that the translator had the right to freely recreate the spirit of the source text, to give a new life to the ideas of the author in a new situation, “under another sk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9" name="PlaceHolder 2"/>
          <p:cNvSpPr>
            <a:spLocks noGrp="1"/>
          </p:cNvSpPr>
          <p:nvPr>
            <p:ph/>
          </p:nvPr>
        </p:nvSpPr>
        <p:spPr>
          <a:xfrm>
            <a:off x="566280" y="1752480"/>
            <a:ext cx="8037720" cy="4267440"/>
          </a:xfrm>
          <a:prstGeom prst="rect">
            <a:avLst/>
          </a:prstGeom>
          <a:noFill/>
          <a:ln w="0">
            <a:noFill/>
          </a:ln>
        </p:spPr>
        <p:txBody>
          <a:bodyPr anchor="t">
            <a:normAutofit fontScale="99000"/>
          </a:bodyPr>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xander Pushkin and Mikhail Lermontov made a significant contribution to the improvement of literary translation in Russia. </a:t>
            </a:r>
            <a:endParaRPr b="0" lang="en-US" sz="2400" spc="-1" strike="noStrike">
              <a:solidFill>
                <a:srgbClr val="000000"/>
              </a:solidFill>
              <a:latin typeface="Verdana"/>
            </a:endParaRPr>
          </a:p>
          <a:p>
            <a:pPr marL="46476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ir poetic paraphrases and imitations they managed to reproduce the most important features of foreign poetry and, above all, their renderings were remarkable works of art in their own right, in no way inferior to their original masterpieces.</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free translations served as a model for other translators and established an important principle: </a:t>
            </a:r>
            <a:endParaRPr b="0" lang="en-US" sz="2600" spc="-1" strike="noStrike">
              <a:solidFill>
                <a:srgbClr val="000000"/>
              </a:solidFill>
              <a:latin typeface="Verdana"/>
            </a:endParaRPr>
          </a:p>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 good literary translation should be an integral part of the national literature in the target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3" name="PlaceHolder 2"/>
          <p:cNvSpPr>
            <a:spLocks noGrp="1"/>
          </p:cNvSpPr>
          <p:nvPr>
            <p:ph/>
          </p:nvPr>
        </p:nvSpPr>
        <p:spPr>
          <a:xfrm>
            <a:off x="566280" y="1752480"/>
            <a:ext cx="5791320" cy="406872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shkin always showed great interest in the problems of translation.  </a:t>
            </a:r>
            <a:endParaRPr b="0" lang="en-US" sz="2200" spc="-1" strike="noStrike">
              <a:solidFill>
                <a:srgbClr val="000000"/>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 emphasized the importance of the initial selection of the literary works to be translated. </a:t>
            </a:r>
            <a:endParaRPr b="0" lang="en-US" sz="2200" spc="-1" strike="noStrike">
              <a:solidFill>
                <a:srgbClr val="000000"/>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s insistence on faithfulness to the source text along with the high quality and expressiveness of the translator’s literary style was a positive influence on the best Russian translators of the 19th and 20th centuries.</a:t>
            </a:r>
            <a:endParaRPr b="0" lang="en-US" sz="2200" spc="-1" strike="noStrike">
              <a:solidFill>
                <a:srgbClr val="000000"/>
              </a:solidFill>
              <a:latin typeface="Verdana"/>
            </a:endParaRPr>
          </a:p>
        </p:txBody>
      </p:sp>
      <p:pic>
        <p:nvPicPr>
          <p:cNvPr id="224" name="Picture 5" descr="Kiprensky Pushkin.jpg"/>
          <p:cNvPicPr/>
          <p:nvPr/>
        </p:nvPicPr>
        <p:blipFill>
          <a:blip r:embed="rId1"/>
          <a:stretch/>
        </p:blipFill>
        <p:spPr>
          <a:xfrm>
            <a:off x="6572160" y="2071800"/>
            <a:ext cx="2381400" cy="27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Vyazemskiy, N. Gnedich and A. Fet insisted on complete faithfulness to the source text, on literalism even at the cost of sense and clarit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they did not always practise what they preached. Sometimes the translator’s artistic intuition and talent broke through the barrier of literalis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ree translation was sometimes practised as a means of promoting democratic ideas, which would not have escaped official censorship in original works.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translators introduced in their translations subtle changes which caused associations with the Russian context.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was during this period that using translation as a vehicle of dissent became part of the Russian tradi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course of the 18th century German writers gradually shifted from broad acceptance of French models to their rejection.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hift meant emancipation from French intellectual and cultural dominance and propagation of an independent German national liter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lation was seen by German writers and poets as a way connecting national culture in its West-European context with the rest of the worl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as of Johann Breitinger, who insisted that the translation should not violate the thoughts of the original or deviate from the source text in any other way, were further developed by Friedrich Gottlieb Klopstock (1724-1803) and Johann Gottfried Herder (1744-1803), who invested the “spirit” of the original with the ultimate author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7:54:29Z</dcterms:created>
  <dc:creator>User</dc:creator>
  <dc:description/>
  <dc:language>en-US</dc:language>
  <cp:lastModifiedBy>Сергей</cp:lastModifiedBy>
  <dcterms:modified xsi:type="dcterms:W3CDTF">2011-03-24T20:34:24Z</dcterms:modified>
  <cp:revision>13</cp:revision>
  <dc:subject/>
  <dc:title>Слайд 1</dc:title>
</cp:coreProperties>
</file>