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39006-2149-45D9-8E26-AE940080D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A6784-D90A-403D-A926-05C5EFD2A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BDCCB-E166-486B-9BE0-1929BB357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24AC6-679B-4A12-93D5-A747D38A8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F5B1CD-3FCC-4AD5-8736-62CD86B9D8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8514E-E93C-4112-A60B-595488E97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3BC9C-5811-4885-9311-BF69EBE04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32ED5-6833-4936-BD29-43AA7896D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240EE-0287-4325-A847-C926A9C43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57FDF-950A-40BA-98A9-15B0E8CA2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521EA-E00A-4A08-90E3-FA4BEC10F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D194A-B727-4061-B7E9-858107995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9C14C-F8DA-4549-9ECC-734753D8B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7784C-3FD6-4027-9286-DF7CF2A30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F1D65-F3C3-477B-A502-4CA6D7DD1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6E9FC-13FF-4129-BD5F-E45A02BF96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F1194-B3B3-4ADF-A4E2-CA43428608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D05C2-79E0-435B-B7C0-11D7C9B87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E199D-BA2D-4AD6-BD14-2CC9B9C5D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59D28-7DEC-4D78-BEB0-319C5B163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358BA-AA9D-4227-A7C2-6C27CEF6A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D6063-C7B9-4D67-98EC-653E637E0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3A2AA-86FF-4951-84A9-AD8393C14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8BCED-F2D6-4E5C-BC8B-C6BF82083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57CA-DE02-4AA6-9AEB-151F52414AD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F58A-A4F0-477F-AF5A-89F8CF383AB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ecture 5</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2781000"/>
            <a:ext cx="7010280" cy="3311640"/>
          </a:xfrm>
          <a:prstGeom prst="rect">
            <a:avLst/>
          </a:prstGeom>
          <a:noFill/>
          <a:ln w="0">
            <a:noFill/>
          </a:ln>
        </p:spPr>
        <p:txBody>
          <a:bodyPr lIns="90000" rIns="90000" tIns="46800" bIns="46800" anchor="t">
            <a:no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anslation in the epoch of Classicism and Enlightenment </a:t>
            </a:r>
            <a:endParaRPr b="0" lang="en-US" sz="3200" spc="-1" strike="noStrike">
              <a:solidFill>
                <a:srgbClr val="000000"/>
              </a:solidFill>
              <a:latin typeface="Verdana"/>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17-18th centuri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atherine Phillips (1631–1664) was the first successful woman playwright, though she did not write for the commercial stage. </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er translation of Corneille’s </a:t>
            </a:r>
            <a:r>
              <a:rPr b="0" i="1" lang="en-US" sz="3000" spc="-1" strike="noStrike">
                <a:solidFill>
                  <a:srgbClr val="000000"/>
                </a:solidFill>
                <a:latin typeface="Verdana"/>
              </a:rPr>
              <a:t>La Mort de Pompe´e</a:t>
            </a:r>
            <a:r>
              <a:rPr b="0" lang="en-US" sz="3000" spc="-1" strike="noStrike">
                <a:solidFill>
                  <a:srgbClr val="000000"/>
                </a:solidFill>
                <a:latin typeface="Verdana"/>
              </a:rPr>
              <a:t> made her famou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atherine Phillips wrote: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I think a translation ought not to be used as Musicians do a Ground, with all the liberty of descant, but as Painters when they copy, &amp; the rule that I understood of translations till these Gentlemen informed me better, was to write to Corneille’s sense, as it is to be supposed Corneille would have done, if he had been an Englishman, not confined to his lines, nor his numbers (unless we can do it happily) but always to his meaning.”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10" name="PlaceHolder 2"/>
          <p:cNvSpPr>
            <a:spLocks noGrp="1"/>
          </p:cNvSpPr>
          <p:nvPr>
            <p:ph/>
          </p:nvPr>
        </p:nvSpPr>
        <p:spPr>
          <a:xfrm>
            <a:off x="566280" y="1752480"/>
            <a:ext cx="414972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John Dryden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1631 –1700), poet, literary critic, translator, and playwright. </a:t>
            </a:r>
            <a:endParaRPr b="0" lang="en-US" sz="3000" spc="-1" strike="noStrike">
              <a:solidFill>
                <a:srgbClr val="000000"/>
              </a:solidFill>
              <a:latin typeface="Verdana"/>
            </a:endParaRPr>
          </a:p>
        </p:txBody>
      </p:sp>
      <p:pic>
        <p:nvPicPr>
          <p:cNvPr id="111" name="" descr=""/>
          <p:cNvPicPr/>
          <p:nvPr/>
        </p:nvPicPr>
        <p:blipFill>
          <a:blip r:embed="rId2"/>
          <a:stretch/>
        </p:blipFill>
        <p:spPr>
          <a:xfrm>
            <a:off x="5508720" y="2276640"/>
            <a:ext cx="3425760" cy="268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yden’s main thoughts on translation are found in the prefaces and dedicatory letters to the various collections in which his versions appeared between 1680 and 1700.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ryden focused on a number of important questions: </a:t>
            </a:r>
            <a:endParaRPr b="0" lang="en-US" sz="2300" spc="-1" strike="noStrike">
              <a:solidFill>
                <a:srgbClr val="000000"/>
              </a:solidFill>
              <a:latin typeface="Verdana"/>
            </a:endParaRPr>
          </a:p>
          <a:p>
            <a:pPr marL="4698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kinds of knowledge that any successful translator has to possess; </a:t>
            </a:r>
            <a:endParaRPr b="0" lang="en-US" sz="2300" spc="-1" strike="noStrike">
              <a:solidFill>
                <a:srgbClr val="000000"/>
              </a:solidFill>
              <a:latin typeface="Verdana"/>
            </a:endParaRPr>
          </a:p>
          <a:p>
            <a:pPr marL="4698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kind of fidelity to his original which he should seek; </a:t>
            </a:r>
            <a:endParaRPr b="0" lang="en-US" sz="2300" spc="-1" strike="noStrike">
              <a:solidFill>
                <a:srgbClr val="000000"/>
              </a:solidFill>
              <a:latin typeface="Verdana"/>
            </a:endParaRPr>
          </a:p>
          <a:p>
            <a:pPr marL="4698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ways in which he might best preserve the distinctive ‘character’ of each of their originals; </a:t>
            </a:r>
            <a:endParaRPr b="0" lang="en-US" sz="2300" spc="-1" strike="noStrike">
              <a:solidFill>
                <a:srgbClr val="000000"/>
              </a:solidFill>
              <a:latin typeface="Verdana"/>
            </a:endParaRPr>
          </a:p>
          <a:p>
            <a:pPr marL="4698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gree to which he might properly add to, subtract from, or ‘update’ material in his original; </a:t>
            </a:r>
            <a:endParaRPr b="0" lang="en-US" sz="2300" spc="-1" strike="noStrike">
              <a:solidFill>
                <a:srgbClr val="000000"/>
              </a:solidFill>
              <a:latin typeface="Verdana"/>
            </a:endParaRPr>
          </a:p>
          <a:p>
            <a:pPr marL="4698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contribution which translation might make to the culture and language of the nation. </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the Preface to Ovid’s </a:t>
            </a:r>
            <a:r>
              <a:rPr b="0" i="1" lang="en-US" sz="3200" spc="-1" strike="noStrike">
                <a:solidFill>
                  <a:srgbClr val="000000"/>
                </a:solidFill>
                <a:latin typeface="Verdana"/>
              </a:rPr>
              <a:t>Epistles</a:t>
            </a:r>
            <a:r>
              <a:rPr b="0" lang="en-US" sz="3200" spc="-1" strike="noStrike">
                <a:solidFill>
                  <a:srgbClr val="000000"/>
                </a:solidFill>
                <a:latin typeface="Verdana"/>
              </a:rPr>
              <a:t> (1680), Dryden proposed his well-known tripartite division of translation into ‘</a:t>
            </a:r>
            <a:r>
              <a:rPr b="0" lang="en-US" sz="3200" spc="-1" strike="noStrike">
                <a:solidFill>
                  <a:srgbClr val="cc0000"/>
                </a:solidFill>
                <a:latin typeface="Verdana"/>
              </a:rPr>
              <a:t>metaphrase’, ‘paraphrase’, </a:t>
            </a:r>
            <a:r>
              <a:rPr b="0" lang="en-US" sz="3200" spc="-1" strike="noStrike">
                <a:solidFill>
                  <a:srgbClr val="000000"/>
                </a:solidFill>
                <a:latin typeface="Verdana"/>
              </a:rPr>
              <a:t>and</a:t>
            </a:r>
            <a:r>
              <a:rPr b="0" lang="en-US" sz="3200" spc="-1" strike="noStrike">
                <a:solidFill>
                  <a:srgbClr val="cc0000"/>
                </a:solidFill>
                <a:latin typeface="Verdana"/>
              </a:rPr>
              <a:t> ‘imitation’.</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cc0000"/>
                </a:solidFill>
                <a:latin typeface="Verdana"/>
              </a:rPr>
              <a:t>Metaphrase</a:t>
            </a:r>
            <a:r>
              <a:rPr b="0" lang="en-US" sz="3000" spc="-1" strike="noStrike">
                <a:solidFill>
                  <a:srgbClr val="000000"/>
                </a:solidFill>
                <a:latin typeface="Verdana"/>
              </a:rPr>
              <a:t>’ (literalism in translation) is rejected as it produces such awkward versions that they can give little idea of the artistic quality of their original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cc0000"/>
                </a:solidFill>
                <a:latin typeface="Verdana"/>
              </a:rPr>
              <a:t>Imitation</a:t>
            </a:r>
            <a:r>
              <a:rPr b="0" lang="en-US" sz="3000" spc="-1" strike="noStrike">
                <a:solidFill>
                  <a:srgbClr val="000000"/>
                </a:solidFill>
                <a:latin typeface="Verdana"/>
              </a:rPr>
              <a:t>’ (abandonment of the source text) is criticized because of an excessive freedom which makes it more properly regarded as original poetry than as translation.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cc0000"/>
                </a:solidFill>
                <a:latin typeface="Verdana"/>
              </a:rPr>
              <a:t>Paraphrase</a:t>
            </a:r>
            <a:r>
              <a:rPr b="0" lang="en-US" sz="3000" spc="-1" strike="noStrike">
                <a:solidFill>
                  <a:srgbClr val="000000"/>
                </a:solidFill>
                <a:latin typeface="Verdana"/>
              </a:rPr>
              <a:t>’ (translation in which the contours of the original are attentively observed, but with a freedom which allows the translator to convey the ‘spirit’ and ‘sense’ rather than merely the ‘letter’ of the original) is offered as the ideal compromise between the two extreme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ke Denham, Dryden recognized that the process of translation inevitably involves losses and gains, so that the translation appears to be in an equivocal relationship to the foreign text, never quite faithful, always somewhat free, never establishing an identity, always a lack and a supplement.</a:t>
            </a:r>
            <a:r>
              <a:rPr b="0" lang="ru-R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 English translators of the 17th-18th centuries.</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 Translation in France. </a:t>
            </a:r>
            <a:r>
              <a:rPr b="0" i="1" lang="en-US" sz="3000" spc="-1" strike="noStrike">
                <a:solidFill>
                  <a:srgbClr val="000000"/>
                </a:solidFill>
                <a:latin typeface="Verdana"/>
              </a:rPr>
              <a:t>Les belles infideles</a:t>
            </a:r>
            <a:r>
              <a:rPr b="0" lang="en-US" sz="3000" spc="-1" strike="noStrike">
                <a:solidFill>
                  <a:srgbClr val="000000"/>
                </a:solidFill>
                <a:latin typeface="Verdana"/>
              </a:rPr>
              <a:t> and the growing demand for faithful translation.</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 Translation activity in Germany. Rational concepts of translatability.</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4. Peter the Great and development of translation activity in Russi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lnSpc>
                <a:spcPct val="13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yden also viewed the domesticating method as the most effective way to control this equivocal relationship and produce versions adequate to the Latin tex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he Hazards of ‘Metaphras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Tis almost impossible to translate verbally and well at the same time; for Latin … often expresses that in one word which either the barbarity or the narrowness of modern tongues cannot supply in more. [ . . . ]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The Hazards of ‘Metaphras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the verbal copier is encumbered with so many difficulties at once that he can never disentangle himself from all. He is to consider at the same time the thought of his author and his words, and to find out the counterpart to each in another language; and besides this, he is to confine himself to the compass of numbers, and the slavery of rhym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he Hazards of ‘Metaphras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Tis much like dancing on ropes with fettered legs: a man may shun a fall by using caution; but the gracefulness of motion is not to be expected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The Translator’s Languag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 man is capable of translating poetry who, besides a genius to that art, is not a master both of his author’s language and of his own. Nor must we understand the language only of the poet, but his particular turn of thoughts and of expression, which are the characters that distinguish, and, as it were, individuate him from all other writers. [ … ]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he Translator’s Languag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re is therefore a liberty to be allowed for the expression, neither is it necessary that words and lines should be confined to the measure of their original. The sense of an author, generally speaking, is to be sacred and inviolabl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The Translator’s Burden</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t slaves we are, and labour on another man’s plantation; we dress the vineyard, but the wine is the owner’s; if the soil be sometime barren, then we are sure of being scourged: if it be fruitful, and our care succeeds, we are not thanked; for the proud reader will only say, the poor drudge has done his duty.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e Translator’s Burden</a:t>
            </a:r>
            <a:endParaRPr b="0" lang="en-US" sz="2100" spc="-1" strike="noStrike">
              <a:solidFill>
                <a:srgbClr val="000000"/>
              </a:solidFill>
              <a:latin typeface="Verdana"/>
            </a:endParaRPr>
          </a:p>
          <a:p>
            <a:pPr marL="469800" indent="0">
              <a:lnSpc>
                <a:spcPct val="11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t this is nothing to what follows; for being obliged to make his sense intelligible, we are forced to untune our own verses, that we may give his meaning to the reader. He who invents is master of his thoughts and words; he can turn and vary them as he pleases, till he renders them harmonious; but the wretched translator has no such privilege; for being tied to the thoughts, he must make what music he can in the expression; and, for this reason, it cannot always be so sweet as the original.</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43" name="PlaceHolder 2"/>
          <p:cNvSpPr>
            <a:spLocks noGrp="1"/>
          </p:cNvSpPr>
          <p:nvPr>
            <p:ph/>
          </p:nvPr>
        </p:nvSpPr>
        <p:spPr>
          <a:xfrm>
            <a:off x="566280" y="1752480"/>
            <a:ext cx="4869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yden’s influence is strongly felt in the work of Alexander Pope (1688–1744),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a prominent English poet  and major translator of poetry. </a:t>
            </a:r>
            <a:endParaRPr b="0" lang="en-US" sz="3000" spc="-1" strike="noStrike">
              <a:solidFill>
                <a:srgbClr val="000000"/>
              </a:solidFill>
              <a:latin typeface="Verdana"/>
            </a:endParaRPr>
          </a:p>
        </p:txBody>
      </p:sp>
      <p:pic>
        <p:nvPicPr>
          <p:cNvPr id="144" name="" descr=""/>
          <p:cNvPicPr/>
          <p:nvPr/>
        </p:nvPicPr>
        <p:blipFill>
          <a:blip r:embed="rId2"/>
          <a:stretch/>
        </p:blipFill>
        <p:spPr>
          <a:xfrm>
            <a:off x="5508720" y="1916280"/>
            <a:ext cx="2973240" cy="36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his preface to “Iliad” Pope insists on moderation in translation and the need for an accuracy that avoids literalism or paraphras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90" name="PlaceHolder 2"/>
          <p:cNvSpPr>
            <a:spLocks noGrp="1"/>
          </p:cNvSpPr>
          <p:nvPr>
            <p:ph/>
          </p:nvPr>
        </p:nvSpPr>
        <p:spPr>
          <a:xfrm>
            <a:off x="566280" y="1752480"/>
            <a:ext cx="537372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r John Denham (1615–69), an English poet and courtier, more than half of whose poetical works were translations, proposed his ‘new way’ in translating poetry, a method both poetic and accurate. </a:t>
            </a:r>
            <a:endParaRPr b="0" lang="en-US" sz="3000" spc="-1" strike="noStrike">
              <a:solidFill>
                <a:srgbClr val="000000"/>
              </a:solidFill>
              <a:latin typeface="Verdana"/>
            </a:endParaRPr>
          </a:p>
        </p:txBody>
      </p:sp>
      <p:pic>
        <p:nvPicPr>
          <p:cNvPr id="91" name="" descr=""/>
          <p:cNvPicPr/>
          <p:nvPr/>
        </p:nvPicPr>
        <p:blipFill>
          <a:blip r:embed="rId2"/>
          <a:stretch/>
        </p:blipFill>
        <p:spPr>
          <a:xfrm>
            <a:off x="6300720" y="1700280"/>
            <a:ext cx="2286000" cy="4173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pe’s translation of the “Iliad” and “Odyssey” is perhaps the greatest example of elevated style in English literature.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et took what he saw as essential liberties, varying the repetitive epithets, suppressing what was considered offensive to contemporary taste.</a:t>
            </a:r>
            <a:r>
              <a:rPr b="0" lang="ru-R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translation was inevitably thoroughly domesticated, making Homer readable in terms of the neo-classical aesthetic and notions of propriety.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ever, even some contemporaries found Pope’s text lacking in precision and too dependent on the requirements of the tim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From Alexander Pope’s Preface to The Iliad of Homer</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is certain no literal translation can be just to an excellent original in a superior language: but it is a great mistake to imagine (as many have done) that a rash paraphrase can make amends for this general defect. [ . . .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rom Alexander Pope’s Preface to The Iliad of Homer</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is not to be doubted that the fire of the poem is what a translator should principally regard, as it is most likely to expire in his managing [ . . . ] Where his diction is bold and lofty, let us raise ours as high as we can, but where his is plain and humble, we ought not to be deterred from imitating him by the fear of incurring the censure of a mere English critic.</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56" name="PlaceHolder 2"/>
          <p:cNvSpPr>
            <a:spLocks noGrp="1"/>
          </p:cNvSpPr>
          <p:nvPr>
            <p:ph/>
          </p:nvPr>
        </p:nvSpPr>
        <p:spPr>
          <a:xfrm>
            <a:off x="566280" y="1752480"/>
            <a:ext cx="4869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1755, Samuel Johnson's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i="1" lang="en-US" sz="3000" spc="-1" strike="noStrike">
                <a:solidFill>
                  <a:srgbClr val="000000"/>
                </a:solidFill>
                <a:latin typeface="Verdana"/>
              </a:rPr>
              <a:t>Dictionary of the English Language</a:t>
            </a:r>
            <a:r>
              <a:rPr b="0" lang="en-US" sz="3000" spc="-1" strike="noStrike">
                <a:solidFill>
                  <a:srgbClr val="000000"/>
                </a:solidFill>
                <a:latin typeface="Verdana"/>
              </a:rPr>
              <a:t> was published.</a:t>
            </a:r>
            <a:r>
              <a:rPr b="0" lang="ru-RU" sz="3000" spc="-1" strike="noStrike">
                <a:solidFill>
                  <a:srgbClr val="000000"/>
                </a:solidFill>
                <a:latin typeface="Verdana"/>
              </a:rPr>
              <a:t> </a:t>
            </a:r>
            <a:endParaRPr b="0" lang="en-US" sz="3000" spc="-1" strike="noStrike">
              <a:solidFill>
                <a:srgbClr val="000000"/>
              </a:solidFill>
              <a:latin typeface="Verdana"/>
            </a:endParaRPr>
          </a:p>
        </p:txBody>
      </p:sp>
      <p:pic>
        <p:nvPicPr>
          <p:cNvPr id="157" name="" descr=""/>
          <p:cNvPicPr/>
          <p:nvPr/>
        </p:nvPicPr>
        <p:blipFill>
          <a:blip r:embed="rId2"/>
          <a:stretch/>
        </p:blipFill>
        <p:spPr>
          <a:xfrm>
            <a:off x="5580000" y="2060640"/>
            <a:ext cx="2973600" cy="361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his essays Samuel Johnson voiced his views on translation.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general he adhered to the middle way, promoted by Dryden, advocating freedom rather than slavishness, but not at the expense of accurac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ohnson wrote introductions for a collection of English poetry </a:t>
            </a:r>
            <a:r>
              <a:rPr b="0" i="1" lang="en-US" sz="3000" spc="-1" strike="noStrike">
                <a:solidFill>
                  <a:srgbClr val="000000"/>
                </a:solidFill>
                <a:latin typeface="Verdana"/>
              </a:rPr>
              <a:t>The Lives of the Most Eminent English Poets with Critical Observations on Their Work</a:t>
            </a:r>
            <a:r>
              <a:rPr b="0" lang="en-US" sz="3000" spc="-1" strike="noStrike">
                <a:solidFill>
                  <a:srgbClr val="000000"/>
                </a:solidFill>
                <a:latin typeface="Verdana"/>
              </a:rPr>
              <a:t>, in three volumes (1779–81), including the lives of Pope, Dryden, and Cowley, with commentary on their translation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Johnson argued that since ‘poetry cannot be translated’, the criterion must be the success of the translation as an English poem. </a:t>
            </a:r>
            <a:endParaRPr b="0" lang="en-US" sz="3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From Samuel Johnson’s “A Dictionary of the English Language” (1755):</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O TRANSLATE. To transport; to remove. It is particularly used of the removal of a bishop from one see to another. To transfer from one to another; to convey; to change; to interpret to another language; to change into another language retaining the sense.</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RANSLATION. Removal, act of removing; the removal of a bishop to another see; the act of turning into another language; interpretation; something made by translation; version.</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RANSLATOR. One that turns anything into another languag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 1635 The Academie Française was established by King Louis XIII.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e was following Horace’s advice in </a:t>
            </a:r>
            <a:r>
              <a:rPr b="0" i="1" lang="en-US" sz="3000" spc="-1" strike="noStrike">
                <a:solidFill>
                  <a:srgbClr val="000000"/>
                </a:solidFill>
                <a:latin typeface="Verdana"/>
              </a:rPr>
              <a:t>Ars Poetica</a:t>
            </a:r>
            <a:r>
              <a:rPr b="0" lang="en-US" sz="3000" spc="-1" strike="noStrike">
                <a:solidFill>
                  <a:srgbClr val="000000"/>
                </a:solidFill>
                <a:latin typeface="Verdana"/>
              </a:rPr>
              <a:t> that the poet should avoid any word-for-word rendering.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t where Horace took translation as one practice of the poet, Denham took poetry as the goal of translation, especially poetry translation.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icolas Perrot d'Ablancourt (1606 - 1664) extensively translated Greek and Latin authors into French.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ne of his works he used the phrase ‘</a:t>
            </a:r>
            <a:r>
              <a:rPr b="0" i="1" lang="en-US" sz="3000" spc="-1" strike="noStrike">
                <a:solidFill>
                  <a:srgbClr val="000000"/>
                </a:solidFill>
                <a:latin typeface="Verdana"/>
              </a:rPr>
              <a:t>les belles infideles</a:t>
            </a:r>
            <a:r>
              <a:rPr b="0" lang="en-US" sz="3000" spc="-1" strike="noStrike">
                <a:solidFill>
                  <a:srgbClr val="000000"/>
                </a:solidFill>
                <a:latin typeface="Verdana"/>
              </a:rPr>
              <a:t>’ (</a:t>
            </a:r>
            <a:r>
              <a:rPr b="0" i="1" lang="en-US" sz="3000" spc="-1" strike="noStrike">
                <a:solidFill>
                  <a:srgbClr val="000000"/>
                </a:solidFill>
                <a:latin typeface="Verdana"/>
              </a:rPr>
              <a:t>beautiful and unfaithful</a:t>
            </a:r>
            <a:r>
              <a:rPr b="0" lang="en-US" sz="3000" spc="-1" strike="noStrike">
                <a:solidFill>
                  <a:srgbClr val="000000"/>
                </a:solidFill>
                <a:latin typeface="Verdana"/>
              </a:rPr>
              <a:t>), which became a term for the new mode of translation.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rot d'Ablancourt advocated censorship, additions, modifications or modernization of the original text in the name of taste and linguistic and cultural differences. Using his method, he adapted classical texts to current canons and genre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his preface to his version of the </a:t>
            </a:r>
            <a:r>
              <a:rPr b="0" i="1" lang="en-US" sz="2400" spc="-1" strike="noStrike">
                <a:solidFill>
                  <a:srgbClr val="000000"/>
                </a:solidFill>
                <a:latin typeface="Verdana"/>
              </a:rPr>
              <a:t>Annals</a:t>
            </a:r>
            <a:r>
              <a:rPr b="0" lang="en-US" sz="2400" spc="-1" strike="noStrike">
                <a:solidFill>
                  <a:srgbClr val="000000"/>
                </a:solidFill>
                <a:latin typeface="Verdana"/>
              </a:rPr>
              <a:t>, Perrot d'Ablancourt wrote:</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the diversity that one finds among languages is so great …  that it is always necessary to change the air and appearance, unless one wishes to create a monstrous body, like those in ordinary translations, which are either dead or languishing, or obscure, and muddled, without any order or gracefulnes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ree dynamic translations known as ‘les belles infideles’ aimed to provide target texts which are pleasant to read and this continued to be the dominant feature of translation into French well into the 18th century.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3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The dominant principle for French translators of the time was “please the reader and improve the author”.</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79" name="PlaceHolder 2"/>
          <p:cNvSpPr>
            <a:spLocks noGrp="1"/>
          </p:cNvSpPr>
          <p:nvPr>
            <p:ph/>
          </p:nvPr>
        </p:nvSpPr>
        <p:spPr>
          <a:xfrm>
            <a:off x="566640" y="1752480"/>
            <a:ext cx="573408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ierre-Daniel Huet (1630-1721) most clearly formulated the importance of a certain literalism in translation in his treatise “On the best way of translating”. </a:t>
            </a:r>
            <a:endParaRPr b="0" lang="en-US" sz="3000" spc="-1" strike="noStrike">
              <a:solidFill>
                <a:srgbClr val="000000"/>
              </a:solidFill>
              <a:latin typeface="Verdana"/>
            </a:endParaRPr>
          </a:p>
        </p:txBody>
      </p:sp>
      <p:pic>
        <p:nvPicPr>
          <p:cNvPr id="180" name="" descr=""/>
          <p:cNvPicPr/>
          <p:nvPr/>
        </p:nvPicPr>
        <p:blipFill>
          <a:blip r:embed="rId2"/>
          <a:stretch/>
        </p:blipFill>
        <p:spPr>
          <a:xfrm>
            <a:off x="6156360" y="2205000"/>
            <a:ext cx="2724120" cy="3245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 urged the translator to show humility to the source tex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ording to Huet, the best translation both correctly renders the author’s thoughts and carefully follows the language of the original.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uet emphasized the importance of non-fiction, scientific translation, which he saw as one of the important tasks of the civiliz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5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early 1690s the Académie Française was shaken by the literary and artistic argument which got the name of the Quarrel of the Ancients and the Modern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86" name="PlaceHolder 2"/>
          <p:cNvSpPr>
            <a:spLocks noGrp="1"/>
          </p:cNvSpPr>
          <p:nvPr>
            <p:ph/>
          </p:nvPr>
        </p:nvSpPr>
        <p:spPr>
          <a:xfrm>
            <a:off x="566640" y="1752480"/>
            <a:ext cx="544536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1699 appeared the prose translation of the </a:t>
            </a:r>
            <a:r>
              <a:rPr b="0" i="1" lang="en-US" sz="3000" spc="-1" strike="noStrike">
                <a:solidFill>
                  <a:srgbClr val="000000"/>
                </a:solidFill>
                <a:latin typeface="Verdana"/>
              </a:rPr>
              <a:t>Iliad</a:t>
            </a:r>
            <a:r>
              <a:rPr b="0" lang="en-US" sz="3000" spc="-1" strike="noStrike">
                <a:solidFill>
                  <a:srgbClr val="000000"/>
                </a:solidFill>
                <a:latin typeface="Verdana"/>
              </a:rPr>
              <a:t> (followed nine years later by a similar translation of the </a:t>
            </a:r>
            <a:r>
              <a:rPr b="0" i="1" lang="en-US" sz="3000" spc="-1" strike="noStrike">
                <a:solidFill>
                  <a:srgbClr val="000000"/>
                </a:solidFill>
                <a:latin typeface="Verdana"/>
              </a:rPr>
              <a:t>Odyssey</a:t>
            </a:r>
            <a:r>
              <a:rPr b="0" lang="en-US" sz="3000" spc="-1" strike="noStrike">
                <a:solidFill>
                  <a:srgbClr val="000000"/>
                </a:solidFill>
                <a:latin typeface="Verdana"/>
              </a:rPr>
              <a:t>) by Anne Dacier’s (1654–1720) who belonged to the group of the Ancients. </a:t>
            </a:r>
            <a:endParaRPr b="0" lang="en-US" sz="3000" spc="-1" strike="noStrike">
              <a:solidFill>
                <a:srgbClr val="000000"/>
              </a:solidFill>
              <a:latin typeface="Verdana"/>
            </a:endParaRPr>
          </a:p>
        </p:txBody>
      </p:sp>
      <p:pic>
        <p:nvPicPr>
          <p:cNvPr id="187" name="" descr=""/>
          <p:cNvPicPr/>
          <p:nvPr/>
        </p:nvPicPr>
        <p:blipFill>
          <a:blip r:embed="rId2"/>
          <a:stretch/>
        </p:blipFill>
        <p:spPr>
          <a:xfrm>
            <a:off x="6156360" y="2276640"/>
            <a:ext cx="2724120" cy="3306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ne Dacier’s translation, which made Homer known for the first time to many French men of letters gave rise to a famous literary controversy.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e wrote: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Poesie is of so subtle a spirit, that in pouring out of one language into another, it will all evaporate; and if a new spirit be not added in the transfusion, there will remain nothing but a </a:t>
            </a:r>
            <a:r>
              <a:rPr b="0" i="1" lang="en-US" sz="3000" spc="-1" strike="noStrike">
                <a:solidFill>
                  <a:srgbClr val="000000"/>
                </a:solidFill>
                <a:latin typeface="Verdana"/>
              </a:rPr>
              <a:t>Caput mortuum</a:t>
            </a:r>
            <a:r>
              <a:rPr b="0" lang="en-US" sz="3000" spc="-1" strike="noStrike">
                <a:solidFill>
                  <a:srgbClr val="000000"/>
                </a:solidFill>
                <a:latin typeface="Verdana"/>
              </a:rPr>
              <a:t>”</a:t>
            </a:r>
            <a:r>
              <a:rPr b="0" lang="ru-R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1714, Houdar de la Motte (1672-1731) published a poetical version of the </a:t>
            </a:r>
            <a:r>
              <a:rPr b="0" i="1" lang="en-US" sz="2600" spc="-1" strike="noStrike">
                <a:solidFill>
                  <a:srgbClr val="000000"/>
                </a:solidFill>
                <a:latin typeface="Verdana"/>
              </a:rPr>
              <a:t>Iliad</a:t>
            </a:r>
            <a:r>
              <a:rPr b="0" lang="en-US" sz="2600" spc="-1" strike="noStrike">
                <a:solidFill>
                  <a:srgbClr val="000000"/>
                </a:solidFill>
                <a:latin typeface="Verdana"/>
              </a:rPr>
              <a:t>, abridged and altered to suit his own taste. </a:t>
            </a: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udar de la Motte argued that as a translator he aimed to achieve three goals: precision, clarity and pleasantness, and to achieve these goals he had to change notions characteristic of Homer’s ag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na Dacier severely criticized his translation, pointing out that Houdar de la Motte failed to achieve what he aimed at. </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e wrote that trying to soften Homer’s images and substitute his own thoughts for Homer’s, he only disfigured the author and deprived the poem of its natural spiri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rom Anne Dacier’s ‘Preface’, translated by Ozell</a:t>
            </a:r>
            <a:endParaRPr b="0" lang="en-US" sz="24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me will say, there is a surer way of approaching to the original, which is to translate it into verse; for, as they allege, poets are to be translated into verse, to retain their fir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would certainly be best, were it practicable; but to believe it possible is a mistak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From Anne Dacier’s ‘Preface’, translated by Ozel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translator, in prose, may say all that Homer has said; this he can never do in verse, especially in our tongue, where he must of necessity be always altering, retrenching, adding.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s is my first reason. There is another, which is the same I have already explained.</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ur poetry is not capable of expressing all the beauties of Homer, and soaring to his height; it may follow him in some select places; [ . . . ] And what can be imagined meaner than a cold and flat piece of poetry, wherein nothing is tolerable that is not excellen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From Anne Dacier’s ‘Preface’, translated by Ozell</a:t>
            </a:r>
            <a:endParaRPr b="0" lang="en-US" sz="20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ay, I am not afraid to say, and could be able to prove it, that poets translated into verse cease to be poets.</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I speak of a translation of prose, I do not mean a servile translation, I mean a noble and generous translation which, adhering strictly to the way of thinking in the original, searches out the beauties of its language and represents the images without retailing the word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2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lnSpc>
                <a:spcPct val="13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ne Dacier’s scholarly translation of Homer marked the beginning of the end of the “</a:t>
            </a:r>
            <a:r>
              <a:rPr b="0" i="1" lang="en-US" sz="3200" spc="-1" strike="noStrike">
                <a:solidFill>
                  <a:srgbClr val="000000"/>
                </a:solidFill>
                <a:latin typeface="Verdana"/>
              </a:rPr>
              <a:t>belles infideles</a:t>
            </a:r>
            <a:r>
              <a:rPr b="0" lang="en-US" sz="3200" spc="-1" strike="noStrike">
                <a:solidFill>
                  <a:srgbClr val="000000"/>
                </a:solidFill>
                <a:latin typeface="Verdana"/>
              </a:rPr>
              <a:t>” in France.</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2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18th century saw a gradual loss of interest in classical languages and a growing interest in German and English culture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205" name="PlaceHolder 2"/>
          <p:cNvSpPr>
            <a:spLocks noGrp="1"/>
          </p:cNvSpPr>
          <p:nvPr>
            <p:ph/>
          </p:nvPr>
        </p:nvSpPr>
        <p:spPr>
          <a:xfrm>
            <a:off x="566640" y="1752480"/>
            <a:ext cx="544536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hilosopher and encyclopedist Diderot (1713-1784) was especially keen on English literature and produced an imitation of Samuel Richardson’s </a:t>
            </a:r>
            <a:r>
              <a:rPr b="0" i="1" lang="en-US" sz="3000" spc="-1" strike="noStrike">
                <a:solidFill>
                  <a:srgbClr val="000000"/>
                </a:solidFill>
                <a:latin typeface="Verdana"/>
              </a:rPr>
              <a:t>Pamela</a:t>
            </a: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206" name="" descr=""/>
          <p:cNvPicPr/>
          <p:nvPr/>
        </p:nvPicPr>
        <p:blipFill>
          <a:blip r:embed="rId2"/>
          <a:stretch/>
        </p:blipFill>
        <p:spPr>
          <a:xfrm>
            <a:off x="5940360" y="2276640"/>
            <a:ext cx="2476440" cy="3070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208" name="PlaceHolder 2"/>
          <p:cNvSpPr>
            <a:spLocks noGrp="1"/>
          </p:cNvSpPr>
          <p:nvPr>
            <p:ph/>
          </p:nvPr>
        </p:nvSpPr>
        <p:spPr>
          <a:xfrm>
            <a:off x="566280" y="1752480"/>
            <a:ext cx="5157720" cy="426744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oltaire (1694-1778) contributed to a passionate interest in English thought and literature in France. </a:t>
            </a:r>
            <a:endParaRPr b="0" lang="en-US" sz="3000" spc="-1" strike="noStrike">
              <a:solidFill>
                <a:srgbClr val="000000"/>
              </a:solidFill>
              <a:latin typeface="Verdana"/>
            </a:endParaRPr>
          </a:p>
        </p:txBody>
      </p:sp>
      <p:pic>
        <p:nvPicPr>
          <p:cNvPr id="209" name="" descr=""/>
          <p:cNvPicPr/>
          <p:nvPr/>
        </p:nvPicPr>
        <p:blipFill>
          <a:blip r:embed="rId2"/>
          <a:stretch/>
        </p:blipFill>
        <p:spPr>
          <a:xfrm>
            <a:off x="6659640" y="1916280"/>
            <a:ext cx="1619280" cy="35240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2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ramatist Jean-Francois Ducis (1733-1816) adapted Shakespeare’s tragedies for the French stage. </a:t>
            </a: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major works of the English literature of the 17th century were translated into French, among them Daniel Defoe’s “Robinson Crusoe”, Jonathan Swift’s “Gulliver’s Travels”, Henry Fielding’s “Tom Jones”, John Milton’s “Paradise Lost”, Alexander Pope’s “Essay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new spirit” that is “added” with this translation method involves a process of domestication, in which the foreign text is imprinted with values specific to the target-language cul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complete works of William Shakespeare were translated into French by Pierre le Tourneur (1737-1788). </a:t>
            </a:r>
            <a:endParaRPr b="0" lang="en-US" sz="3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2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roughout the 18th c. translations from English outnumbered those from any other language. </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re were some translations of German and Italian works, e.g. Dante’s “Divine Comedy” was translated into French in 1783.</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activity in Germany. </a:t>
            </a:r>
            <a:br>
              <a:rPr sz="2400"/>
            </a:br>
            <a:r>
              <a:rPr b="0" lang="en-US" sz="2400" spc="-1" strike="noStrike">
                <a:solidFill>
                  <a:srgbClr val="000000"/>
                </a:solidFill>
                <a:latin typeface="Verdana"/>
              </a:rPr>
              <a:t>Rational concepts of translatability.</a:t>
            </a:r>
            <a:endParaRPr b="0" lang="en-US" sz="2400" spc="-1" strike="noStrike">
              <a:solidFill>
                <a:srgbClr val="000000"/>
              </a:solidFill>
              <a:latin typeface="Verdana"/>
            </a:endParaRPr>
          </a:p>
        </p:txBody>
      </p:sp>
      <p:sp>
        <p:nvSpPr>
          <p:cNvPr id="2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rtin Opitz (1597-1639), a great German poet of that time </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ustus Georg Schottel (1612-1676), a grammaria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activity in Germany. </a:t>
            </a:r>
            <a:br>
              <a:rPr sz="2400"/>
            </a:br>
            <a:r>
              <a:rPr b="0" lang="en-US" sz="2400" spc="-1" strike="noStrike">
                <a:solidFill>
                  <a:srgbClr val="000000"/>
                </a:solidFill>
                <a:latin typeface="Verdana"/>
              </a:rPr>
              <a:t>Rational concepts of translatability.</a:t>
            </a:r>
            <a:endParaRPr b="0" lang="en-US" sz="2400" spc="-1" strike="noStrike">
              <a:solidFill>
                <a:srgbClr val="000000"/>
              </a:solidFill>
              <a:latin typeface="Verdana"/>
            </a:endParaRPr>
          </a:p>
        </p:txBody>
      </p:sp>
      <p:sp>
        <p:nvSpPr>
          <p:cNvPr id="2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Deutsche Poeterey” (1624) Opitz argued that translation serves a dual purpose: translating from Greek and Latin poets is a good exercise for the translator and it is beneficial for German as a literary language, as translation enriches its potential.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activity in Germany. </a:t>
            </a:r>
            <a:br>
              <a:rPr sz="2400"/>
            </a:br>
            <a:r>
              <a:rPr b="0" lang="en-US" sz="2400" spc="-1" strike="noStrike">
                <a:solidFill>
                  <a:srgbClr val="000000"/>
                </a:solidFill>
                <a:latin typeface="Verdana"/>
              </a:rPr>
              <a:t>Rational concepts of translatability.</a:t>
            </a:r>
            <a:endParaRPr b="0" lang="en-US" sz="2400" spc="-1" strike="noStrike">
              <a:solidFill>
                <a:srgbClr val="000000"/>
              </a:solidFill>
              <a:latin typeface="Verdana"/>
            </a:endParaRPr>
          </a:p>
        </p:txBody>
      </p:sp>
      <p:sp>
        <p:nvSpPr>
          <p:cNvPr id="2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oth Opitz and Schottel went well beyond common 15th and 16th-century practices in their use of German and in their translation methods because they were convinced that German was a fully fledged literary language or, with practice, might become one, and that it was capable of poetic and oratorical style second to non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activity in Germany. </a:t>
            </a:r>
            <a:br>
              <a:rPr sz="2400"/>
            </a:br>
            <a:r>
              <a:rPr b="0" lang="en-US" sz="2400" spc="-1" strike="noStrike">
                <a:solidFill>
                  <a:srgbClr val="000000"/>
                </a:solidFill>
                <a:latin typeface="Verdana"/>
              </a:rPr>
              <a:t>Rational concepts of translatability.</a:t>
            </a:r>
            <a:endParaRPr b="0" lang="en-US" sz="2400" spc="-1" strike="noStrike">
              <a:solidFill>
                <a:srgbClr val="000000"/>
              </a:solidFill>
              <a:latin typeface="Verdana"/>
            </a:endParaRPr>
          </a:p>
        </p:txBody>
      </p:sp>
      <p:sp>
        <p:nvSpPr>
          <p:cNvPr id="223" name="PlaceHolder 2"/>
          <p:cNvSpPr>
            <a:spLocks noGrp="1"/>
          </p:cNvSpPr>
          <p:nvPr>
            <p:ph/>
          </p:nvPr>
        </p:nvSpPr>
        <p:spPr>
          <a:xfrm>
            <a:off x="2556000" y="1752480"/>
            <a:ext cx="4032000" cy="4267440"/>
          </a:xfrm>
          <a:prstGeom prst="rect">
            <a:avLst/>
          </a:prstGeom>
          <a:noFill/>
          <a:ln w="0">
            <a:noFill/>
          </a:ln>
        </p:spPr>
        <p:txBody>
          <a:bodyPr lIns="90000" rIns="90000" tIns="46800" bIns="46800" anchor="t">
            <a:normAutofit/>
          </a:bodyPr>
          <a:p>
            <a:pPr marL="4698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 the 18th century, Johann Christoph Gottsched </a:t>
            </a:r>
            <a:endParaRPr b="0" lang="en-US" sz="2300" spc="-1" strike="noStrike">
              <a:solidFill>
                <a:srgbClr val="000000"/>
              </a:solidFill>
              <a:latin typeface="Verdana"/>
            </a:endParaRPr>
          </a:p>
          <a:p>
            <a:pPr marL="4698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     </a:t>
            </a:r>
            <a:r>
              <a:rPr b="0" lang="en-US" sz="2300" spc="-1" strike="noStrike">
                <a:solidFill>
                  <a:srgbClr val="000000"/>
                </a:solidFill>
                <a:latin typeface="Verdana"/>
              </a:rPr>
              <a:t>(1700-1766) </a:t>
            </a:r>
            <a:endParaRPr b="0" lang="en-US" sz="2300" spc="-1" strike="noStrike">
              <a:solidFill>
                <a:srgbClr val="000000"/>
              </a:solidFill>
              <a:latin typeface="Verdana"/>
            </a:endParaRPr>
          </a:p>
          <a:p>
            <a:pPr marL="4698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     </a:t>
            </a:r>
            <a:r>
              <a:rPr b="0" lang="en-US" sz="2300" spc="-1" strike="noStrike">
                <a:solidFill>
                  <a:srgbClr val="000000"/>
                </a:solidFill>
                <a:latin typeface="Verdana"/>
              </a:rPr>
              <a:t>and Jakob Breitinger (1701-1776) contributed to the development of some principles of translation theory which were current in later centuries. </a:t>
            </a:r>
            <a:endParaRPr b="0" lang="en-US" sz="2300" spc="-1" strike="noStrike">
              <a:solidFill>
                <a:srgbClr val="000000"/>
              </a:solidFill>
              <a:latin typeface="Verdana"/>
            </a:endParaRPr>
          </a:p>
        </p:txBody>
      </p:sp>
      <p:pic>
        <p:nvPicPr>
          <p:cNvPr id="224" name="" descr=""/>
          <p:cNvPicPr/>
          <p:nvPr/>
        </p:nvPicPr>
        <p:blipFill>
          <a:blip r:embed="rId2"/>
          <a:stretch/>
        </p:blipFill>
        <p:spPr>
          <a:xfrm>
            <a:off x="324000" y="1773360"/>
            <a:ext cx="2095200" cy="2552400"/>
          </a:xfrm>
          <a:prstGeom prst="rect">
            <a:avLst/>
          </a:prstGeom>
          <a:ln w="0">
            <a:noFill/>
          </a:ln>
        </p:spPr>
      </p:pic>
      <p:pic>
        <p:nvPicPr>
          <p:cNvPr id="225" name="" descr=""/>
          <p:cNvPicPr/>
          <p:nvPr/>
        </p:nvPicPr>
        <p:blipFill>
          <a:blip r:embed="rId3"/>
          <a:stretch/>
        </p:blipFill>
        <p:spPr>
          <a:xfrm>
            <a:off x="6516720" y="3357720"/>
            <a:ext cx="2095560" cy="2752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activity in Germany. </a:t>
            </a:r>
            <a:br>
              <a:rPr sz="2400"/>
            </a:br>
            <a:r>
              <a:rPr b="0" lang="en-US" sz="2400" spc="-1" strike="noStrike">
                <a:solidFill>
                  <a:srgbClr val="000000"/>
                </a:solidFill>
                <a:latin typeface="Verdana"/>
              </a:rPr>
              <a:t>Rational concepts of translatability.</a:t>
            </a:r>
            <a:endParaRPr b="0" lang="en-US" sz="2400" spc="-1" strike="noStrike">
              <a:solidFill>
                <a:srgbClr val="000000"/>
              </a:solidFill>
              <a:latin typeface="Verdana"/>
            </a:endParaRPr>
          </a:p>
        </p:txBody>
      </p:sp>
      <p:sp>
        <p:nvSpPr>
          <p:cNvPr id="2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1740 Gottsched came into conflict with the Swiss writers Johann Jakob Bodmer and Jakob Breitinger.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nflict arouse over Bodmer’s translation of Milton’s </a:t>
            </a:r>
            <a:r>
              <a:rPr b="0" i="1" lang="en-US" sz="3000" spc="-1" strike="noStrike">
                <a:solidFill>
                  <a:srgbClr val="000000"/>
                </a:solidFill>
                <a:latin typeface="Verdana"/>
              </a:rPr>
              <a:t>Paradise Lost</a:t>
            </a:r>
            <a:r>
              <a:rPr b="0" lang="en-US" sz="3000" spc="-1" strike="noStrike">
                <a:solidFill>
                  <a:srgbClr val="000000"/>
                </a:solidFill>
                <a:latin typeface="Verdana"/>
              </a:rPr>
              <a:t> (1732).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activity in Germany. </a:t>
            </a:r>
            <a:br>
              <a:rPr sz="2400"/>
            </a:br>
            <a:r>
              <a:rPr b="0" lang="en-US" sz="2400" spc="-1" strike="noStrike">
                <a:solidFill>
                  <a:srgbClr val="000000"/>
                </a:solidFill>
                <a:latin typeface="Verdana"/>
              </a:rPr>
              <a:t>Rational concepts of translatability.</a:t>
            </a:r>
            <a:endParaRPr b="0" lang="en-US" sz="2400" spc="-1" strike="noStrike">
              <a:solidFill>
                <a:srgbClr val="000000"/>
              </a:solidFill>
              <a:latin typeface="Verdana"/>
            </a:endParaRPr>
          </a:p>
        </p:txBody>
      </p:sp>
      <p:sp>
        <p:nvSpPr>
          <p:cNvPr id="2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oth Bodmer and Breitinger demanded that the poetic imagination should not be hampered by artificial rules.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ttsched stubbornly stuck to his principle that poetry must be the product of rules.</a:t>
            </a:r>
            <a:r>
              <a:rPr b="0" lang="ru-R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activity in Germany. </a:t>
            </a:r>
            <a:br>
              <a:rPr sz="2400"/>
            </a:br>
            <a:r>
              <a:rPr b="0" lang="en-US" sz="2400" spc="-1" strike="noStrike">
                <a:solidFill>
                  <a:srgbClr val="000000"/>
                </a:solidFill>
                <a:latin typeface="Verdana"/>
              </a:rPr>
              <a:t>Rational concepts of translatability.</a:t>
            </a:r>
            <a:endParaRPr b="0" lang="en-US" sz="2400" spc="-1" strike="noStrike">
              <a:solidFill>
                <a:srgbClr val="000000"/>
              </a:solidFill>
              <a:latin typeface="Verdana"/>
            </a:endParaRPr>
          </a:p>
        </p:txBody>
      </p:sp>
      <p:sp>
        <p:nvSpPr>
          <p:cNvPr id="2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ttsched and Breitinger followed the rationalist view according to which there is an essential resemblance between languages and they are, therefore, translatable – at least in principle. Both agreed that different languages are not mirror images of each other.</a:t>
            </a:r>
            <a:r>
              <a:rPr b="0" lang="ru-R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activity in Germany. </a:t>
            </a:r>
            <a:br>
              <a:rPr sz="2400"/>
            </a:br>
            <a:r>
              <a:rPr b="0" lang="en-US" sz="2400" spc="-1" strike="noStrike">
                <a:solidFill>
                  <a:srgbClr val="000000"/>
                </a:solidFill>
                <a:latin typeface="Verdana"/>
              </a:rPr>
              <a:t>Rational concepts of translatability.</a:t>
            </a:r>
            <a:endParaRPr b="0" lang="en-US" sz="2400" spc="-1" strike="noStrike">
              <a:solidFill>
                <a:srgbClr val="000000"/>
              </a:solidFill>
              <a:latin typeface="Verdana"/>
            </a:endParaRPr>
          </a:p>
        </p:txBody>
      </p:sp>
      <p:sp>
        <p:nvSpPr>
          <p:cNvPr id="2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ever, they had different opinions as to whether a translation should be permitted to compete with the linguistic, stylistic and formal features of the source text and violate target side norm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99" name="PlaceHolder 2"/>
          <p:cNvSpPr>
            <a:spLocks noGrp="1"/>
          </p:cNvSpPr>
          <p:nvPr>
            <p:ph/>
          </p:nvPr>
        </p:nvSpPr>
        <p:spPr>
          <a:xfrm>
            <a:off x="566280" y="1752480"/>
            <a:ext cx="515772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braham Cowley (1618–67) was regarded as the greatest poet of his age, writing English and Latin poetry, plays, essays, and prose work. </a:t>
            </a:r>
            <a:endParaRPr b="0" lang="en-US" sz="3000" spc="-1" strike="noStrike">
              <a:solidFill>
                <a:srgbClr val="000000"/>
              </a:solidFill>
              <a:latin typeface="Verdana"/>
            </a:endParaRPr>
          </a:p>
        </p:txBody>
      </p:sp>
      <p:pic>
        <p:nvPicPr>
          <p:cNvPr id="100" name="" descr=""/>
          <p:cNvPicPr/>
          <p:nvPr/>
        </p:nvPicPr>
        <p:blipFill>
          <a:blip r:embed="rId2"/>
          <a:stretch/>
        </p:blipFill>
        <p:spPr>
          <a:xfrm>
            <a:off x="6084720" y="2133720"/>
            <a:ext cx="2724480" cy="3355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activity in Germany. </a:t>
            </a:r>
            <a:br>
              <a:rPr sz="2400"/>
            </a:br>
            <a:r>
              <a:rPr b="0" lang="en-US" sz="2400" spc="-1" strike="noStrike">
                <a:solidFill>
                  <a:srgbClr val="000000"/>
                </a:solidFill>
                <a:latin typeface="Verdana"/>
              </a:rPr>
              <a:t>Rational concepts of translatability.</a:t>
            </a:r>
            <a:endParaRPr b="0" lang="en-US" sz="2400" spc="-1" strike="noStrike">
              <a:solidFill>
                <a:srgbClr val="000000"/>
              </a:solidFill>
              <a:latin typeface="Verdana"/>
            </a:endParaRPr>
          </a:p>
        </p:txBody>
      </p:sp>
      <p:sp>
        <p:nvSpPr>
          <p:cNvPr id="2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ttsched believed that a good translation had to be in agreement with the principles of enlightened, normative poetics.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translation had to be a German text in its every featur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activity in Germany. </a:t>
            </a:r>
            <a:br>
              <a:rPr sz="2400"/>
            </a:br>
            <a:r>
              <a:rPr b="0" lang="en-US" sz="2400" spc="-1" strike="noStrike">
                <a:solidFill>
                  <a:srgbClr val="000000"/>
                </a:solidFill>
                <a:latin typeface="Verdana"/>
              </a:rPr>
              <a:t>Rational concepts of translatability.</a:t>
            </a:r>
            <a:endParaRPr b="0" lang="en-US" sz="2400" spc="-1" strike="noStrike">
              <a:solidFill>
                <a:srgbClr val="000000"/>
              </a:solidFill>
              <a:latin typeface="Verdana"/>
            </a:endParaRPr>
          </a:p>
        </p:txBody>
      </p:sp>
      <p:sp>
        <p:nvSpPr>
          <p:cNvPr id="2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contrast, Breitinger argued that the mentalities of different nations are reflected in the peculiarities of their languages. So, a translation can not violate the thoughts of the original or deviate from its source in any other way.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7</a:t>
            </a:r>
            <a:r>
              <a:rPr b="0" lang="en-US" sz="2100" spc="-1" strike="noStrike" baseline="30000">
                <a:solidFill>
                  <a:srgbClr val="000000"/>
                </a:solidFill>
                <a:latin typeface="Verdana"/>
              </a:rPr>
              <a:t>th</a:t>
            </a:r>
            <a:r>
              <a:rPr b="0" lang="en-US" sz="2100" spc="-1" strike="noStrike">
                <a:solidFill>
                  <a:srgbClr val="000000"/>
                </a:solidFill>
                <a:latin typeface="Verdana"/>
              </a:rPr>
              <a:t>-century translators in Russia fell into four groups. </a:t>
            </a:r>
            <a:endParaRPr b="0" lang="en-US" sz="2100" spc="-1" strike="noStrike">
              <a:solidFill>
                <a:srgbClr val="000000"/>
              </a:solidFill>
              <a:latin typeface="Verdana"/>
            </a:endParaRPr>
          </a:p>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rst, there were staff translators in various administrative departments. These were mostly foreigners (Poles, Germans, Dutchmen) or natives from the southern or western parts of the country.</a:t>
            </a:r>
            <a:endParaRPr b="0" lang="en-US" sz="2100" spc="-1" strike="noStrike">
              <a:solidFill>
                <a:srgbClr val="000000"/>
              </a:solidFill>
              <a:latin typeface="Verdana"/>
            </a:endParaRPr>
          </a:p>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second group consisted of a few monks who had a scholarly background and translated only religious and didactic books from Latin and Greek. The best known among them were Epiphanius Slavinetsky, Arsenius the Greek and Dionysius the Greek.</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hird group were part-time translators who occasionally made one or two translations in their spare tim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fourth group were translators who worked on their own initiative and chose the source texts they wanted to translate. Among them there were some attendants of the tsar, e.g. Prince Kropotki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43" name="PlaceHolder 2"/>
          <p:cNvSpPr>
            <a:spLocks noGrp="1"/>
          </p:cNvSpPr>
          <p:nvPr>
            <p:ph/>
          </p:nvPr>
        </p:nvSpPr>
        <p:spPr>
          <a:xfrm>
            <a:off x="539280" y="1773000"/>
            <a:ext cx="4753080" cy="426708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sar Peter issued a special decree on translation demanding a faithful rendering of the original sense. </a:t>
            </a:r>
            <a:endParaRPr b="0" lang="en-US" sz="3200" spc="-1" strike="noStrike">
              <a:solidFill>
                <a:srgbClr val="000000"/>
              </a:solidFill>
              <a:latin typeface="Verdana"/>
            </a:endParaRPr>
          </a:p>
        </p:txBody>
      </p:sp>
      <p:pic>
        <p:nvPicPr>
          <p:cNvPr id="244" name="" descr=""/>
          <p:cNvPicPr/>
          <p:nvPr/>
        </p:nvPicPr>
        <p:blipFill>
          <a:blip r:embed="rId2"/>
          <a:stretch/>
        </p:blipFill>
        <p:spPr>
          <a:xfrm>
            <a:off x="5796000" y="1916280"/>
            <a:ext cx="2598840" cy="3403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46" name="PlaceHolder 2"/>
          <p:cNvSpPr>
            <a:spLocks noGrp="1"/>
          </p:cNvSpPr>
          <p:nvPr>
            <p:ph/>
          </p:nvPr>
        </p:nvSpPr>
        <p:spPr>
          <a:xfrm>
            <a:off x="566280" y="1752480"/>
            <a:ext cx="5085000" cy="4267440"/>
          </a:xfrm>
          <a:prstGeom prst="rect">
            <a:avLst/>
          </a:prstGeom>
          <a:noFill/>
          <a:ln w="0">
            <a:noFill/>
          </a:ln>
        </p:spPr>
        <p:txBody>
          <a:bodyPr lIns="90000" rIns="90000" tIns="46800" bIns="46800" anchor="t">
            <a:normAutofit/>
          </a:bodyPr>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Lomonosov and other prominent writers, such as A.P. Sumarokov and V.K. Trediakovsky, produced many translations, mainly of poetry. </a:t>
            </a:r>
            <a:endParaRPr b="0" lang="en-US" sz="2600" spc="-1" strike="noStrike">
              <a:solidFill>
                <a:srgbClr val="000000"/>
              </a:solidFill>
              <a:latin typeface="Verdana"/>
            </a:endParaRPr>
          </a:p>
        </p:txBody>
      </p:sp>
      <p:pic>
        <p:nvPicPr>
          <p:cNvPr id="247" name="" descr=""/>
          <p:cNvPicPr/>
          <p:nvPr/>
        </p:nvPicPr>
        <p:blipFill>
          <a:blip r:embed="rId2"/>
          <a:stretch/>
        </p:blipFill>
        <p:spPr>
          <a:xfrm>
            <a:off x="6012000" y="2060640"/>
            <a:ext cx="2724120" cy="37148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y often supplemented their translations with theoretical discussions, explaining why they rendered the source text the way they did and emphasizing the great value of the translator’s work and its creative na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new stage in translation activity began to develop in three directions.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rst, translation began to be institutionalized – there emerged structures whose function was to organize and supervise the work of translator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roup of translators were assembled in Tsar Peter’s Foreign Collegium and in 1735 the St. Petersburg Academy of Science established the Russian Assembly, which was the first professional organization of translator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wley advanced the notion of ‘Imitation’, an ultra-free type of translation. </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his translation of the ancient Greek poet Pindar, Cowley revised and actually abandoned the original text.</a:t>
            </a:r>
            <a:r>
              <a:rPr b="0" lang="ru-R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1768, the Society for the Translation of Foreign Books was established with 114 members, among them Trediakovsky, Sumarokov and Radishchev.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ociety existed for 14 years and produced many literary translations. It also stimulated discussions on theoretical problems of translati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cond dimension of this new stage of translation activity involved a change in terms of the selection of books for translation.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the turn of the century, translations of classical authors began to be supplemented by many books of a pragmatic nature, which were needed to support the age of reform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anslators viewed their work as a service to their country and they expressed this belief in forewords and prefaces to their translations. </a:t>
            </a: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believed that their mission was to enlighten and instruct their compatriots, to set moral standards and to create a new Russian literature. From that time on literary translations always enjoyed a high status in Russian cultur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new awareness of the social importance of translation and translators was the third characteristic feature of the period.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ranslation was now considered a kind of creative writing, no less worthy of respect than original literature. The translator was regarded as a rival of the source-text author. Translations were expected to meet high literary standards and even to surpass the source text in terms of artistic qualit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e of the achievements of the 18th century was the emergence of poetry translation in Russia, which later developed into a highly esteemed activity.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Preface to his translations Cowley wrote: </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I have in these two Odes of Pindar, taken, left out, and added what I please; nor make it so much my Aim to let the Reader know precisely what he spoke, as what was his Way and Manner of speaking … “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4T12:10:43Z</dcterms:created>
  <dc:creator>WiZaRd</dc:creator>
  <dc:description/>
  <dc:language>en-US</dc:language>
  <cp:lastModifiedBy>WiZaRd</cp:lastModifiedBy>
  <dcterms:modified xsi:type="dcterms:W3CDTF">2011-03-04T14:04:20Z</dcterms:modified>
  <cp:revision>11</cp:revision>
  <dc:subject/>
  <dc:title>Слайд 1</dc:title>
</cp:coreProperties>
</file>