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8CB1-B0A2-41F2-9F38-5ED67D0F9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A7C4-CD02-46BD-8D3A-815AE211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93E20-867A-4544-A827-C1B0241A6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DC543-B0DE-4089-8879-19239B021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3C79D-85DB-4D92-8BF7-D47B542DF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5E5A1-B1BD-4ED8-A167-7381A2BD2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4AC46-B014-459F-8539-C488CA0DE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2EF2C-9440-410C-BBFC-8FED70BA5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ADE3F-19D7-48E1-A90C-E5E08FC1A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B2C12-755E-42BE-A55D-DE7C3BF9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3801B-18A7-4BE4-8B1A-FA86CA497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4575-CF4B-44D7-A346-45D2D659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03A2-1E43-4E74-8DF2-BFE63537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434A0-2363-4D98-B716-ABBBC286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8A768-976A-45E1-9D65-5B50AA009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43CAE-DFE9-41C8-AB33-1E1061140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0FDA4-895B-4228-B1A1-E9FACDA27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B1BC-9DFC-47B5-82F3-FD260BF8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4C5E-40A0-4906-BC2D-9F38D3F39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D1BF-F4FF-42DB-886C-97662A45D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87E8-10FA-45A1-9489-B99D3293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6488-1951-4E0F-AD9C-1A01D037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28C1-3F6E-412E-A7FA-5D85D8B1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65D4-D1A4-4648-9C33-0C081BB69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598B-EE7E-469C-8E2E-30DA9566E5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6077-ACE9-4E3A-942C-7887A5C535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cture 3</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nslation in medieval Europ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enedictine monk Aelfric (955-?1010), Abbot of Eynsham (a monastery in Oxfordshire), translated </a:t>
            </a:r>
            <a:r>
              <a:rPr b="0" i="1" lang="en-US" sz="2600" spc="-1" strike="noStrike">
                <a:solidFill>
                  <a:srgbClr val="000000"/>
                </a:solidFill>
                <a:latin typeface="Verdana"/>
              </a:rPr>
              <a:t>Lives of the Saints</a:t>
            </a:r>
            <a:r>
              <a:rPr b="0" lang="en-US" sz="2600" spc="-1" strike="noStrike">
                <a:solidFill>
                  <a:srgbClr val="000000"/>
                </a:solidFill>
                <a:latin typeface="Verdana"/>
              </a:rPr>
              <a:t> and </a:t>
            </a:r>
            <a:r>
              <a:rPr b="0" i="1" lang="en-US" sz="2600" spc="-1" strike="noStrike">
                <a:solidFill>
                  <a:srgbClr val="000000"/>
                </a:solidFill>
                <a:latin typeface="Verdana"/>
              </a:rPr>
              <a:t>Homilies</a:t>
            </a:r>
            <a:r>
              <a:rPr b="0" lang="en-US" sz="2600" spc="-1" strike="noStrike">
                <a:solidFill>
                  <a:srgbClr val="000000"/>
                </a:solidFill>
                <a:latin typeface="Verdana"/>
              </a:rPr>
              <a:t> into Old English, accompanied by prefaces that set out his intention to make his language simple and clear for common people with very little educ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 also began a paraphrase of parts of the Old Testament, but unwillingly, as he feared that its wider dissemination might lead the uneducated to believe that the practices of the Ancient Israelites were still acceptable for Christia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reface to his translation of Genesis Ælfric argues that  biblical translation carries special risks both because of the divinely appointed nature of the text and because of the text’s significance for its Christian audienc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is preface, Ælfric attempts to show the danger of naively literal readings of the Bible. The surface narrative may be simple, he suggests, but it requires interpretation in light of the Old Testament’s anticipation of the New Testament.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nguistic sense (naked narrative) and ultimate meaning (spiritual meaning) are not the sa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Ælfric’s Preface to his translation of Genesis</a:t>
            </a:r>
            <a:r>
              <a:rPr b="0" lang="ru-RU" sz="3000" spc="-1" strike="noStrike">
                <a:solidFill>
                  <a:srgbClr val="000000"/>
                </a:solidFill>
                <a:latin typeface="Verdana"/>
              </a:rPr>
              <a:t> </a:t>
            </a:r>
            <a:r>
              <a:rPr b="0" lang="en-US" sz="3000" spc="-1" strike="noStrike">
                <a:solidFill>
                  <a:srgbClr val="ff0000"/>
                </a:solidFill>
                <a:latin typeface="Verdana"/>
              </a:rPr>
              <a:t>–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 was also the author of a Latin grammar and a Latin-English dictionary which was the first of its kind.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s translation of Grammar is considered the first vernacular Latin grammar in medieval Europ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8" name="PlaceHolder 2"/>
          <p:cNvSpPr>
            <a:spLocks noGrp="1"/>
          </p:cNvSpPr>
          <p:nvPr>
            <p:ph/>
          </p:nvPr>
        </p:nvSpPr>
        <p:spPr>
          <a:xfrm>
            <a:off x="566280" y="1752480"/>
            <a:ext cx="414828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ger Baco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214-1294),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glish philosopher, scientist and cleric</a:t>
            </a:r>
            <a:endParaRPr b="0" lang="en-US" sz="3000" spc="-1" strike="noStrike">
              <a:solidFill>
                <a:srgbClr val="000000"/>
              </a:solidFill>
              <a:latin typeface="Verdana"/>
            </a:endParaRPr>
          </a:p>
        </p:txBody>
      </p:sp>
      <p:pic>
        <p:nvPicPr>
          <p:cNvPr id="119" name="Picture 5" descr="http://upload.wikimedia.org/wikipedia/commons/thumb/8/8a/Roger-bacon-statue.jpg/220px-Roger-bacon-statue.jpg"/>
          <p:cNvPicPr/>
          <p:nvPr/>
        </p:nvPicPr>
        <p:blipFill>
          <a:blip r:embed="rId1"/>
          <a:stretch/>
        </p:blipFill>
        <p:spPr>
          <a:xfrm>
            <a:off x="5500800" y="2214720"/>
            <a:ext cx="3492360" cy="346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ording to Bacon, a translator should know thoroughly the language he is translating from, the language into which he is translating, and the subject of the boo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Verdana"/>
              </a:rPr>
              <a:t>De linguarum cognitio</a:t>
            </a:r>
            <a:r>
              <a:rPr b="1" lang="en-US" sz="1700" spc="-1" strike="noStrike" u="sng">
                <a:solidFill>
                  <a:srgbClr val="000000"/>
                </a:solidFill>
                <a:uFillTx/>
                <a:latin typeface="Verdana"/>
              </a:rPr>
              <a:t> ("On the Knowledge of Languages) (1267)</a:t>
            </a: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oly Scriptures have been translated from Greek and Hebrew and philosophy has been translated from Arabic as well from those two languages. Yet it is impossible to preserve the distinctive features of one language in another since even idiomatic expressions in the same language tend to differ among its speakers, as is obvious in French... What is considered correct among Picardians tends to fill the Burgundians with horror, and the Parisians too, because they are close to them. If this happens inside one language imagine the extent to which it happens between different languag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000000"/>
                </a:solidFill>
                <a:uFillTx/>
                <a:latin typeface="Verdana"/>
              </a:rPr>
              <a:t>De linguarum cognitio</a:t>
            </a:r>
            <a:r>
              <a:rPr b="1" lang="en-US" sz="2100" spc="-1" strike="noStrike" u="sng">
                <a:solidFill>
                  <a:srgbClr val="000000"/>
                </a:solidFill>
                <a:uFillTx/>
                <a:latin typeface="Verdana"/>
              </a:rPr>
              <a:t> ("On the Knowledge of Languages) (1267)</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equently, what is well said in one language, cannot possibly be transferred into another in the same way... Whoever knows a discipline, such as logic or any other, well and tries to translate it into his mother tongue will discover that mother tongue lacking in both substance and words. Therefore no reader of Latin will be able to understand the wisdom contained in philosophy and the Holy Scriptures as well as he should, unless he also knows the languages they have been translated fr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Translation in medieval Europe.</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Translation in medieval England.</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Translation in medieval Ital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Translation in medieval Spain.</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Translation in medieval Franc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ohn of Trevisa (1326–1412) wa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 scholar and translator of the </a:t>
            </a:r>
            <a:r>
              <a:rPr b="0" i="1" lang="en-US" sz="3000" spc="-1" strike="noStrike">
                <a:solidFill>
                  <a:srgbClr val="000000"/>
                </a:solidFill>
                <a:latin typeface="Verdana"/>
              </a:rPr>
              <a:t>Polychronicon</a:t>
            </a:r>
            <a:r>
              <a:rPr b="0" lang="en-US" sz="3000" spc="-1" strike="noStrike">
                <a:solidFill>
                  <a:srgbClr val="000000"/>
                </a:solidFill>
                <a:latin typeface="Verdana"/>
              </a:rPr>
              <a:t> of Ranulph Higden (1387) and the 19-volume treatise on natural sciences</a:t>
            </a:r>
            <a:r>
              <a:rPr b="0" i="1" lang="en-US" sz="3000" spc="-1" strike="noStrike">
                <a:solidFill>
                  <a:srgbClr val="000000"/>
                </a:solidFill>
                <a:latin typeface="Verdana"/>
              </a:rPr>
              <a:t> De Proprietatibus Rerum </a:t>
            </a:r>
            <a:r>
              <a:rPr b="0" lang="en-US" sz="3000" spc="-1" strike="noStrike">
                <a:solidFill>
                  <a:srgbClr val="000000"/>
                </a:solidFill>
                <a:latin typeface="Verdana"/>
              </a:rPr>
              <a:t>("On the Properties of Things") (1398) of Bartholomew de Glanvil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Dialogue between a Lord and a Clerk upon Translation, from Trevisa’s Translation of</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    </a:t>
            </a:r>
            <a:r>
              <a:rPr b="1" lang="en-US" sz="3000" spc="-1" strike="noStrike">
                <a:solidFill>
                  <a:srgbClr val="cc0000"/>
                </a:solidFill>
                <a:latin typeface="Verdana"/>
              </a:rPr>
              <a:t>Higden’s </a:t>
            </a:r>
            <a:r>
              <a:rPr b="1" i="1" lang="en-US" sz="3000" spc="-1" strike="noStrike">
                <a:solidFill>
                  <a:srgbClr val="cc0000"/>
                </a:solidFill>
                <a:latin typeface="Verdana"/>
              </a:rPr>
              <a:t>Polychronicon</a:t>
            </a:r>
            <a:r>
              <a:rPr b="0" lang="ru-RU" sz="3000" spc="-1" strike="noStrike">
                <a:solidFill>
                  <a:srgbClr val="000000"/>
                </a:solidFill>
                <a:latin typeface="Verdana"/>
              </a:rPr>
              <a:t> </a:t>
            </a:r>
            <a:r>
              <a:rPr b="0" lang="en-US" sz="3000" spc="-1" strike="noStrike">
                <a:solidFill>
                  <a:srgbClr val="ff0000"/>
                </a:solidFill>
                <a:latin typeface="Verdana"/>
              </a:rPr>
              <a:t>–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1" name="PlaceHolder 2"/>
          <p:cNvSpPr>
            <a:spLocks noGrp="1"/>
          </p:cNvSpPr>
          <p:nvPr>
            <p:ph/>
          </p:nvPr>
        </p:nvSpPr>
        <p:spPr>
          <a:xfrm>
            <a:off x="566640" y="1752480"/>
            <a:ext cx="47196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Geoffrey Chaucer (1340-1400)</a:t>
            </a:r>
            <a:endParaRPr b="0" lang="en-US" sz="3000" spc="-1" strike="noStrike">
              <a:solidFill>
                <a:srgbClr val="000000"/>
              </a:solidFill>
              <a:latin typeface="Verdana"/>
            </a:endParaRPr>
          </a:p>
        </p:txBody>
      </p:sp>
      <p:pic>
        <p:nvPicPr>
          <p:cNvPr id="132" name="Picture 5" descr="http://upload.wikimedia.org/wikipedia/commons/thumb/7/72/Geoffrey_Chaucer_%2817th_century%29.jpg/240px-Geoffrey_Chaucer_%2817th_century%29.jpg"/>
          <p:cNvPicPr/>
          <p:nvPr/>
        </p:nvPicPr>
        <p:blipFill>
          <a:blip r:embed="rId1"/>
          <a:stretch/>
        </p:blipFill>
        <p:spPr>
          <a:xfrm>
            <a:off x="5929200" y="2214720"/>
            <a:ext cx="2857680" cy="35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4"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Norman Conquest of 1066, the official language of the country was French and Latin was the language of church and scienc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4th century, however, English began to take its place as the official language. It was introduced into schools, courts and the parliamen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symbolized the re-establishment of English as a national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6"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was familiar with classical and vernacular literature in at least three languages: Latin, French and Italian.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adapted many works from French, notably the </a:t>
            </a:r>
            <a:r>
              <a:rPr b="0" i="1" lang="en-US" sz="2600" spc="-1" strike="noStrike">
                <a:solidFill>
                  <a:srgbClr val="000000"/>
                </a:solidFill>
                <a:latin typeface="Verdana"/>
              </a:rPr>
              <a:t>Romaunt of the Rose.</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also translated works by Ovid, Virgil and Boethius from Latin and Boccaccio from Italian.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translated freely, making additions where he thought necessa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Chaucer, as for other early vernacular writers, there was an overlap between translation, compilation, rewriting and original authorship.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ion was understood as re-creation.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s metaphor of translation was ploughing old fields to produce new cor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40" name="PlaceHolder 2"/>
          <p:cNvSpPr>
            <a:spLocks noGrp="1"/>
          </p:cNvSpPr>
          <p:nvPr>
            <p:ph/>
          </p:nvPr>
        </p:nvSpPr>
        <p:spPr>
          <a:xfrm>
            <a:off x="566280" y="1752480"/>
            <a:ext cx="80773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riting literature in English, Chaucer showed the artistic potential of his native language, rather than French or Lati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n in his </a:t>
            </a:r>
            <a:r>
              <a:rPr b="0" i="1" lang="en-US" sz="3000" spc="-1" strike="noStrike">
                <a:solidFill>
                  <a:srgbClr val="000000"/>
                </a:solidFill>
                <a:latin typeface="Verdana"/>
              </a:rPr>
              <a:t>Treatise on the Astrolabe</a:t>
            </a:r>
            <a:r>
              <a:rPr b="0" lang="en-US" sz="3000" spc="-1" strike="noStrike">
                <a:solidFill>
                  <a:srgbClr val="000000"/>
                </a:solidFill>
                <a:latin typeface="Verdana"/>
              </a:rPr>
              <a:t>, a scientific essay, Chaucer made a deliberate choice to use English rather than Latin.</a:t>
            </a:r>
            <a:endParaRPr b="0" lang="en-US" sz="3000" spc="-1" strike="noStrike">
              <a:solidFill>
                <a:srgbClr val="000000"/>
              </a:solidFill>
              <a:latin typeface="Verdana"/>
            </a:endParaRPr>
          </a:p>
        </p:txBody>
      </p:sp>
      <p:pic>
        <p:nvPicPr>
          <p:cNvPr id="141" name="Picture 5" descr="http://t2.gstatic.com/images?q=tbn:ANd9GcTQkNBodI9P8ZUItn2Jd_NzeTEt_-NxcBB2Z6vgLfDsuwliN8oQ"/>
          <p:cNvPicPr/>
          <p:nvPr/>
        </p:nvPicPr>
        <p:blipFill>
          <a:blip r:embed="rId1"/>
          <a:stretch/>
        </p:blipFill>
        <p:spPr>
          <a:xfrm>
            <a:off x="6643800" y="285840"/>
            <a:ext cx="2124000" cy="21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43" name="PlaceHolder 2"/>
          <p:cNvSpPr>
            <a:spLocks noGrp="1"/>
          </p:cNvSpPr>
          <p:nvPr>
            <p:ph/>
          </p:nvPr>
        </p:nvSpPr>
        <p:spPr>
          <a:xfrm>
            <a:off x="566640" y="1752480"/>
            <a:ext cx="536256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ucer laid the foundations for narrative poetry and imported many genres into England, among them the ballade, the romance and the fabliau.</a:t>
            </a:r>
            <a:endParaRPr b="0" lang="en-US" sz="3000" spc="-1" strike="noStrike">
              <a:solidFill>
                <a:srgbClr val="000000"/>
              </a:solidFill>
              <a:latin typeface="Verdana"/>
            </a:endParaRPr>
          </a:p>
        </p:txBody>
      </p:sp>
      <p:pic>
        <p:nvPicPr>
          <p:cNvPr id="144" name="Picture 5" descr="http://t3.gstatic.com/images?q=tbn:ANd9GcSRRWd2tNYiofvL1Iwmn4LGVsoeRqyAUZ6RP1ybtnmdcLpcYR2Z"/>
          <p:cNvPicPr/>
          <p:nvPr/>
        </p:nvPicPr>
        <p:blipFill>
          <a:blip r:embed="rId1"/>
          <a:stretch/>
        </p:blipFill>
        <p:spPr>
          <a:xfrm>
            <a:off x="6215040" y="2643120"/>
            <a:ext cx="2751120" cy="260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46"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arliest written document in an Italian vernacular is a translation from Latin of a legal document required by the Longobard bureaucracy for estate ownership records: a judge of Capua, in 960, wrote down the formula in words other than those of standard Latin for the witnesses who evidently could no longer understand Lati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4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type of translation continued for a long time and stopped only when administrative practices were completely taken over by the rising middle class. </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y-to-day legal activities required a massive use of interpreting in order to convey to the people the complex content of laws written in Lat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0" name="PlaceHolder 2"/>
          <p:cNvSpPr>
            <a:spLocks noGrp="1"/>
          </p:cNvSpPr>
          <p:nvPr>
            <p:ph/>
          </p:nvPr>
        </p:nvSpPr>
        <p:spPr>
          <a:xfrm>
            <a:off x="566640" y="1752480"/>
            <a:ext cx="407664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riting came to Anglo-Saxon England with the conversion to Christianity, which started in 597. </a:t>
            </a:r>
            <a:endParaRPr b="0" lang="en-US" sz="3000" spc="-1" strike="noStrike">
              <a:solidFill>
                <a:srgbClr val="000000"/>
              </a:solidFill>
              <a:latin typeface="Verdana"/>
            </a:endParaRPr>
          </a:p>
        </p:txBody>
      </p:sp>
      <p:pic>
        <p:nvPicPr>
          <p:cNvPr id="91" name="Picture 5" descr="http://files.meetup.com/11850/anglo-saxon%20runes.gif"/>
          <p:cNvPicPr/>
          <p:nvPr/>
        </p:nvPicPr>
        <p:blipFill>
          <a:blip r:embed="rId1"/>
          <a:stretch/>
        </p:blipFill>
        <p:spPr>
          <a:xfrm>
            <a:off x="5429160" y="150012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0" name="PlaceHolder 2"/>
          <p:cNvSpPr>
            <a:spLocks noGrp="1"/>
          </p:cNvSpPr>
          <p:nvPr>
            <p:ph/>
          </p:nvPr>
        </p:nvSpPr>
        <p:spPr>
          <a:xfrm>
            <a:off x="566280" y="1752480"/>
            <a:ext cx="48625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11th century numerous translations of medical works were done by Constantine the African (1020-1087).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was a Muslim scholar from Tunisia whose translations of Arabic texts influenced European medical teaching for centuries.</a:t>
            </a:r>
            <a:r>
              <a:rPr b="0" lang="ru-RU" sz="2400" spc="-1" strike="noStrike">
                <a:solidFill>
                  <a:srgbClr val="000000"/>
                </a:solidFill>
                <a:latin typeface="Verdana"/>
              </a:rPr>
              <a:t> </a:t>
            </a:r>
            <a:endParaRPr b="0" lang="en-US" sz="2400" spc="-1" strike="noStrike">
              <a:solidFill>
                <a:srgbClr val="000000"/>
              </a:solidFill>
              <a:latin typeface="Verdana"/>
            </a:endParaRPr>
          </a:p>
        </p:txBody>
      </p:sp>
      <p:pic>
        <p:nvPicPr>
          <p:cNvPr id="151" name="Picture 5" descr="http://upload.wikimedia.org/wikipedia/commons/8/8f/Konstantinderafrikaner.jpg"/>
          <p:cNvPicPr/>
          <p:nvPr/>
        </p:nvPicPr>
        <p:blipFill>
          <a:blip r:embed="rId1"/>
          <a:stretch/>
        </p:blipFill>
        <p:spPr>
          <a:xfrm>
            <a:off x="5643720" y="1857240"/>
            <a:ext cx="3120840" cy="4354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3" name="PlaceHolder 2"/>
          <p:cNvSpPr>
            <a:spLocks noGrp="1"/>
          </p:cNvSpPr>
          <p:nvPr>
            <p:ph/>
          </p:nvPr>
        </p:nvSpPr>
        <p:spPr>
          <a:xfrm>
            <a:off x="566280" y="1752480"/>
            <a:ext cx="5219640" cy="4556160"/>
          </a:xfrm>
          <a:prstGeom prst="rect">
            <a:avLst/>
          </a:prstGeom>
          <a:noFill/>
          <a:ln w="0">
            <a:noFill/>
          </a:ln>
        </p:spPr>
        <p:txBody>
          <a:bodyPr anchor="t">
            <a:normAutofit/>
          </a:bodyPr>
          <a:p>
            <a:pPr marL="46980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antine had knowledge of Greek, Babylonian and Indian medicine as well as Islamic. </a:t>
            </a:r>
            <a:endParaRPr b="0" lang="en-US" sz="1800" spc="-1" strike="noStrike">
              <a:solidFill>
                <a:srgbClr val="000000"/>
              </a:solidFill>
              <a:latin typeface="Verdana"/>
            </a:endParaRPr>
          </a:p>
          <a:p>
            <a:pPr marL="46980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book collector, he travelled to Salerno in Italy, possibly as early as 1065. Encouraged by the local archbishop, he began to translate his extensive collection of medical texts from Arabic into Latin. Over the next 20 years he continued to translate Arabic books and encyclopedias and taught medicine at the Salerno school. He also translated Arabic editions of Hippocrates and Galen, reintroducing their works to Europe.</a:t>
            </a:r>
            <a:endParaRPr b="0" lang="en-US" sz="1800" spc="-1" strike="noStrike">
              <a:solidFill>
                <a:srgbClr val="000000"/>
              </a:solidFill>
              <a:latin typeface="Verdana"/>
            </a:endParaRPr>
          </a:p>
        </p:txBody>
      </p:sp>
      <p:pic>
        <p:nvPicPr>
          <p:cNvPr id="154" name="Picture 5" descr="http://www.pickatrail.com/jupiter/location/europe/italy/map/salerno.gif"/>
          <p:cNvPicPr/>
          <p:nvPr/>
        </p:nvPicPr>
        <p:blipFill>
          <a:blip r:embed="rId1"/>
          <a:stretch/>
        </p:blipFill>
        <p:spPr>
          <a:xfrm>
            <a:off x="5851440" y="1785960"/>
            <a:ext cx="3292560" cy="392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6" name="PlaceHolder 2"/>
          <p:cNvSpPr>
            <a:spLocks noGrp="1"/>
          </p:cNvSpPr>
          <p:nvPr>
            <p:ph/>
          </p:nvPr>
        </p:nvSpPr>
        <p:spPr>
          <a:xfrm>
            <a:off x="566280" y="1752480"/>
            <a:ext cx="507708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ystematic written translations in the vernacular appeared towards the middle of the 13th century in the Law Schools in Bologna and Florence. </a:t>
            </a:r>
            <a:endParaRPr b="0" lang="en-US" sz="3000" spc="-1" strike="noStrike">
              <a:solidFill>
                <a:srgbClr val="000000"/>
              </a:solidFill>
              <a:latin typeface="Verdana"/>
            </a:endParaRPr>
          </a:p>
        </p:txBody>
      </p:sp>
      <p:pic>
        <p:nvPicPr>
          <p:cNvPr id="157" name="Picture 5" descr="http://www.world-guides.com/images/italy/italy_map2.jpg"/>
          <p:cNvPicPr/>
          <p:nvPr/>
        </p:nvPicPr>
        <p:blipFill>
          <a:blip r:embed="rId1"/>
          <a:stretch/>
        </p:blipFill>
        <p:spPr>
          <a:xfrm>
            <a:off x="5286240" y="1857240"/>
            <a:ext cx="3657600" cy="43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icero's works were among the earliest examples of classical Latin texts translated into regional dialects with the intent of raising the quality of the vernacular through imitating Latin style and language patterns. This habit became very popular and produced numerous translations of rhetoric and philosophy tex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the same time, entertainment literature such as the Arthurian legends and other narrative sources were translated from French into northern Italian dialect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ong the learned translators working in Italian universities there was a great awareness of the theoretical problems connected with translation.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example, Bartolomeo da San Concordio (1262-1347) in his </a:t>
            </a:r>
            <a:r>
              <a:rPr b="0" i="1" lang="en-US" sz="2600" spc="-1" strike="noStrike">
                <a:solidFill>
                  <a:srgbClr val="000000"/>
                </a:solidFill>
                <a:latin typeface="Verdana"/>
              </a:rPr>
              <a:t>Teachings of the Ancients</a:t>
            </a:r>
            <a:r>
              <a:rPr b="0" lang="en-US" sz="2600" spc="-1" strike="noStrike">
                <a:solidFill>
                  <a:srgbClr val="000000"/>
                </a:solidFill>
                <a:latin typeface="Verdana"/>
              </a:rPr>
              <a:t> argues that "in listening and in reading we shall attend more to the meaning than to the word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5" name="PlaceHolder 2"/>
          <p:cNvSpPr>
            <a:spLocks noGrp="1"/>
          </p:cNvSpPr>
          <p:nvPr>
            <p:ph/>
          </p:nvPr>
        </p:nvSpPr>
        <p:spPr>
          <a:xfrm>
            <a:off x="566280" y="1752480"/>
            <a:ext cx="572004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nte Alighieri (1265-1321), following the accepted medieval notion, strongly asserted the impossibility of poetical translation. His </a:t>
            </a:r>
            <a:r>
              <a:rPr b="0" i="1" lang="en-US" sz="2100" spc="-1" strike="noStrike">
                <a:solidFill>
                  <a:srgbClr val="000000"/>
                </a:solidFill>
                <a:latin typeface="Verdana"/>
              </a:rPr>
              <a:t>Convivio</a:t>
            </a:r>
            <a:r>
              <a:rPr b="0" lang="en-US" sz="2100" spc="-1" strike="noStrike">
                <a:solidFill>
                  <a:srgbClr val="000000"/>
                </a:solidFill>
                <a:latin typeface="Verdana"/>
              </a:rPr>
              <a:t> (1304-1308) contains the first Italian reference to the theory of translation: "Anything harmonized through the bond of the Muses cannot be transmuted from its idiom into another without losing all its sweetness and harmony". </a:t>
            </a:r>
            <a:endParaRPr b="0" lang="en-US" sz="2100" spc="-1" strike="noStrike">
              <a:solidFill>
                <a:srgbClr val="000000"/>
              </a:solidFill>
              <a:latin typeface="Verdana"/>
            </a:endParaRPr>
          </a:p>
        </p:txBody>
      </p:sp>
      <p:pic>
        <p:nvPicPr>
          <p:cNvPr id="166" name="Picture 5" descr="head-and-chest side portrait of Dante in red and white coat and cowl"/>
          <p:cNvPicPr/>
          <p:nvPr/>
        </p:nvPicPr>
        <p:blipFill>
          <a:blip r:embed="rId1"/>
          <a:stretch/>
        </p:blipFill>
        <p:spPr>
          <a:xfrm>
            <a:off x="6643800" y="2428920"/>
            <a:ext cx="2276280" cy="288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nte himself often tried his hand at translating Latin or Provençal poets into the Florentine dialect for inclusion in his works.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ame practice was followed by Boccaccio and Petrar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0" name="PlaceHolder 2"/>
          <p:cNvSpPr>
            <a:spLocks noGrp="1"/>
          </p:cNvSpPr>
          <p:nvPr>
            <p:ph/>
          </p:nvPr>
        </p:nvSpPr>
        <p:spPr>
          <a:xfrm>
            <a:off x="566280" y="3499920"/>
            <a:ext cx="8148600" cy="28083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13th centuries flourishing translation activity took place in Spain, mainly around Toledo. </a:t>
            </a:r>
            <a:endParaRPr b="0" lang="en-US" sz="3000" spc="-1" strike="noStrike">
              <a:solidFill>
                <a:srgbClr val="000000"/>
              </a:solidFill>
              <a:latin typeface="Verdana"/>
            </a:endParaRPr>
          </a:p>
        </p:txBody>
      </p:sp>
      <p:pic>
        <p:nvPicPr>
          <p:cNvPr id="171" name="Picture 5" descr="http://www.world-guides.com/images/spain/spain_map.jpg"/>
          <p:cNvPicPr/>
          <p:nvPr/>
        </p:nvPicPr>
        <p:blipFill>
          <a:blip r:embed="rId1"/>
          <a:stretch/>
        </p:blipFill>
        <p:spPr>
          <a:xfrm>
            <a:off x="4643280" y="642960"/>
            <a:ext cx="4286520" cy="3238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o called School of Toledo played an important role in the transmission of knowledge to medieval Europe.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ranslation activity was centred on the philosophical and scientific works of the Greek and Arab world – in the fields of medicine, mathematics, astronomy and astrology, in particula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3" name="PlaceHolder 2"/>
          <p:cNvSpPr>
            <a:spLocks noGrp="1"/>
          </p:cNvSpPr>
          <p:nvPr>
            <p:ph/>
          </p:nvPr>
        </p:nvSpPr>
        <p:spPr>
          <a:xfrm>
            <a:off x="566640" y="1752480"/>
            <a:ext cx="500544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King Alfred,  literary activity was mostly in Latin.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ng Alfred was the most famous king of Wessex (871–99). He preserved sovereignty of the English crown in the time of Scandinavian invasion.</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ing Alfred was a translator and the initiator of a policy of translation and vernacular education. </a:t>
            </a:r>
            <a:endParaRPr b="0" lang="en-US" sz="2400" spc="-1" strike="noStrike">
              <a:solidFill>
                <a:srgbClr val="000000"/>
              </a:solidFill>
              <a:latin typeface="Verdana"/>
            </a:endParaRPr>
          </a:p>
        </p:txBody>
      </p:sp>
      <p:pic>
        <p:nvPicPr>
          <p:cNvPr id="94" name="Picture 5" descr="http://cookit.e2bn.org/library/1242750250/statue_d27alfred_le_grand_c3a0_winchester.original.jpg"/>
          <p:cNvPicPr/>
          <p:nvPr/>
        </p:nvPicPr>
        <p:blipFill>
          <a:blip r:embed="rId1"/>
          <a:stretch/>
        </p:blipFill>
        <p:spPr>
          <a:xfrm>
            <a:off x="5857920" y="1928880"/>
            <a:ext cx="2539800" cy="3479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 century, translations were essentially from Arabic to Latin, whereas in the 13th century they were from Arabic into the Spanish vernacula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ors of that period radically changed the state of knowledge in the West. The Western world became acquainted with the Arabic system of numeration, algebra, the Ptolemaic world system, and an important body of Greek and Arabic medical knowled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activity of Toledo School took place in the situation of a striking imbalance between the state of knowledge in the source culture (Arab Spain) and the receiving culture (Spain of the Reconques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 century it was essential for translators to be associated with the Church. Those who did not convert to Christianity were employed as mere intermediaries whose role was to provide an oral version of Arabic texts in the vernacula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pproach to translation – the extent to which it was constructive and creative -  depended largely on the translator's position in the power structure.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2th c. translators acted on behalf of the Church.  Latin as the language of the Church and of scholarship was chosen as the target langu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main task of the translators was to improve their own knowledge, not to communicate inform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3th century translators served a secular patron.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astilian monarch Alfonso X (1221-1284), a deeply religious patron of learning, exercised control over translation in his tim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ors adapted the texts they worked on.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the 12th c. formal changes were made in accordance with Latin conventions of presenting information. Certain historical and geographical references specific to the Arab tradition were considered irrelevant and were omitted.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the 13th c., changes in the text had to do with the important task of creating and defining terminology.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ay in which translators approached original texts was influenced by the religious and political context and ill-defined concept of intellectual propert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difference between translation and creation is well seen in the works of Adelard of Bath, one of the best known Latin scholars of the time.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s translations resembled rough versions, working documents intended for the translator himself or for specialists, probably students, while his own original works were more polished.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from Arabic into Latin was used by the scholars as a means to exchange information among themselves, rather than to popularize knowled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3" name="PlaceHolder 2"/>
          <p:cNvSpPr>
            <a:spLocks noGrp="1"/>
          </p:cNvSpPr>
          <p:nvPr>
            <p:ph/>
          </p:nvPr>
        </p:nvSpPr>
        <p:spPr>
          <a:xfrm>
            <a:off x="566640" y="1752480"/>
            <a:ext cx="79344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rd of Cremona's Latin translation of the Arabic version of Ptolemy’s </a:t>
            </a:r>
            <a:r>
              <a:rPr b="0" i="1" lang="en-US" sz="3000" spc="-1" strike="noStrike">
                <a:solidFill>
                  <a:srgbClr val="000000"/>
                </a:solidFill>
                <a:latin typeface="Verdana"/>
              </a:rPr>
              <a:t>Almagest</a:t>
            </a:r>
            <a:r>
              <a:rPr b="0" lang="en-US" sz="3000" spc="-1" strike="noStrike">
                <a:solidFill>
                  <a:srgbClr val="000000"/>
                </a:solidFill>
                <a:latin typeface="Verdana"/>
              </a:rPr>
              <a:t> made in 1175 formed the basis for Western astronomy until the theories of Copernicu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fred began his project of translation with Gregory’s </a:t>
            </a:r>
            <a:r>
              <a:rPr b="0" i="1" lang="en-US" sz="3000" spc="-1" strike="noStrike">
                <a:solidFill>
                  <a:srgbClr val="000000"/>
                </a:solidFill>
                <a:latin typeface="Verdana"/>
              </a:rPr>
              <a:t>Pastoral Care</a:t>
            </a:r>
            <a:r>
              <a:rPr b="0" lang="en-US" sz="3000" spc="-1" strike="noStrike">
                <a:solidFill>
                  <a:srgbClr val="000000"/>
                </a:solidFill>
                <a:latin typeface="Verdana"/>
              </a:rPr>
              <a:t>, to educate and guide his bishops so that they could, in turn, educate the peop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rd of Cremona translated 87 books from the Arabic language, including Ptolemy's </a:t>
            </a:r>
            <a:r>
              <a:rPr b="0" i="1" lang="en-US" sz="3000" spc="-1" strike="noStrike">
                <a:solidFill>
                  <a:srgbClr val="000000"/>
                </a:solidFill>
                <a:latin typeface="Verdana"/>
              </a:rPr>
              <a:t>Almagest</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rchimedes' </a:t>
            </a:r>
            <a:r>
              <a:rPr b="0" i="1" lang="en-US" sz="3000" spc="-1" strike="noStrike">
                <a:solidFill>
                  <a:srgbClr val="000000"/>
                </a:solidFill>
                <a:latin typeface="Verdana"/>
              </a:rPr>
              <a:t>On the Measurement of the Circle</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ristotle's </a:t>
            </a:r>
            <a:r>
              <a:rPr b="0" i="1" lang="en-US" sz="3000" spc="-1" strike="noStrike">
                <a:solidFill>
                  <a:srgbClr val="000000"/>
                </a:solidFill>
                <a:latin typeface="Verdana"/>
              </a:rPr>
              <a:t>On the Heavens</a:t>
            </a:r>
            <a:r>
              <a:rPr b="0" lang="en-US" sz="3000" spc="-1" strike="noStrike">
                <a:solidFill>
                  <a:srgbClr val="000000"/>
                </a:solidFill>
                <a:latin typeface="Verdana"/>
              </a:rPr>
              <a:t>, and   Euclid's </a:t>
            </a:r>
            <a:r>
              <a:rPr b="0" i="1" lang="en-US" sz="3000" spc="-1" strike="noStrike">
                <a:solidFill>
                  <a:srgbClr val="000000"/>
                </a:solidFill>
                <a:latin typeface="Verdana"/>
              </a:rPr>
              <a:t>Elements of Geomet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3th century, greater emphasis was placed on dissemination of knowledge. This was connected with changes in the practice of translation and its subdivision into separate functions (primary translators distinct from assistants, for example). Prefaces often emphasized the value of vernacular texts for the learned peopl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us, if in the 12th century the task of translators in Spain was to incorporate foreign knowledge into a Latin framework, in the 13th century they forged Spanish national culture on the basis of the storehouse of knowled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translations into Old French did not appear until the 13th c. Before then, translation was carried out in Latin and mostly in monasteries.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documents written in Old French are literal translations of Latin liturgical texts of the 9th 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 the reign of King Charles V the Wise (1337-1380), translation of classical works was actively encouraged.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les V built a library in the Louvre and filled it with about 1,000 manuscripts; then he hired ten translators who were generously rewarded for their work.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5" name="PlaceHolder 2"/>
          <p:cNvSpPr>
            <a:spLocks noGrp="1"/>
          </p:cNvSpPr>
          <p:nvPr>
            <p:ph/>
          </p:nvPr>
        </p:nvSpPr>
        <p:spPr>
          <a:xfrm>
            <a:off x="566280" y="1752480"/>
            <a:ext cx="80773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tin versions of Aristotle's works were retranslated into French by the king's tutor and advisor Nicolas Oresme (1330-1382), one of the main translators at the court of Charles V.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esme produced several scientific translations and introduced hundreds of new terms into French.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also made interesting comments in the prefaces to his translations on such issues as the task of the translator, the need for accuracy and the introduction of new terms into the target language.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pointed out the role of Roman translators in the transmission of Greek knowledge and emphasized the benefits of making this knowledge accessible in French.</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ors of scientific works into French not only created new words, they helped to popularize knowledge and make it accessible to readers.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eologisms were accompanied by glosses, or explanations. They also used the technique of word pairs in order to convey the full meaning of some Latin or Greek terms, e.g. </a:t>
            </a:r>
            <a:r>
              <a:rPr b="0" i="1" lang="en-US" sz="2600" spc="-1" strike="noStrike">
                <a:solidFill>
                  <a:srgbClr val="000000"/>
                </a:solidFill>
                <a:latin typeface="Verdana"/>
              </a:rPr>
              <a:t>sain et sauf</a:t>
            </a:r>
            <a:r>
              <a:rPr b="0" lang="en-US" sz="2600" spc="-1" strike="noStrike">
                <a:solidFill>
                  <a:srgbClr val="000000"/>
                </a:solidFill>
                <a:latin typeface="Verdana"/>
              </a:rPr>
              <a:t>  'safe and soun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his preface to Pope Gregory's </a:t>
            </a:r>
            <a:r>
              <a:rPr b="0" i="1" lang="en-US" sz="2600" spc="-1" strike="noStrike">
                <a:solidFill>
                  <a:srgbClr val="000000"/>
                </a:solidFill>
                <a:latin typeface="Verdana"/>
              </a:rPr>
              <a:t>Pastoral Care, </a:t>
            </a:r>
            <a:r>
              <a:rPr b="0" lang="en-US" sz="2600" spc="-1" strike="noStrike">
                <a:solidFill>
                  <a:srgbClr val="000000"/>
                </a:solidFill>
                <a:latin typeface="Verdana"/>
              </a:rPr>
              <a:t>Alfred writes about the importance of translation in general and particularly for his own people, who no longer understood Latin. He points out that the circulation of such work in English would encourage literacy and strengthen the English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King Alfred’s preface to Pope Gregory's </a:t>
            </a:r>
            <a:r>
              <a:rPr b="0" i="1" lang="en-US" sz="3000" spc="-1" strike="noStrike">
                <a:solidFill>
                  <a:srgbClr val="cc0000"/>
                </a:solidFill>
                <a:latin typeface="Verdana"/>
              </a:rPr>
              <a:t>Pastoral Care –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fred chose for translation books which in his opinion were most needful for all people to know, among them Boethius’ </a:t>
            </a:r>
            <a:r>
              <a:rPr b="0" i="1" lang="en-US" sz="2600" spc="-1" strike="noStrike">
                <a:solidFill>
                  <a:srgbClr val="000000"/>
                </a:solidFill>
                <a:latin typeface="Verdana"/>
              </a:rPr>
              <a:t>Consolation of Philosophy</a:t>
            </a:r>
            <a:r>
              <a:rPr b="0" lang="en-US" sz="2600" spc="-1" strike="noStrike">
                <a:solidFill>
                  <a:srgbClr val="000000"/>
                </a:solidFill>
                <a:latin typeface="Verdana"/>
              </a:rPr>
              <a:t>, Augustine’s </a:t>
            </a:r>
            <a:r>
              <a:rPr b="0" i="1" lang="en-US" sz="2600" spc="-1" strike="noStrike">
                <a:solidFill>
                  <a:srgbClr val="000000"/>
                </a:solidFill>
                <a:latin typeface="Verdana"/>
              </a:rPr>
              <a:t>Soliloquies</a:t>
            </a:r>
            <a:r>
              <a:rPr b="0" lang="en-US" sz="2600" spc="-1" strike="noStrike">
                <a:solidFill>
                  <a:srgbClr val="000000"/>
                </a:solidFill>
                <a:latin typeface="Verdana"/>
              </a:rPr>
              <a:t>, and the first fifty Psalms.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fred's Book of Laws, or Dooms, attempted to combine Mosaic law with Christian principles and old Germanic customs, so it contained a translation of Mosaic law.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fred himself learned Latin when he was nearly 40.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translated sometimes word for word, sometimes freely, as he wrote himself in his prefaces, and to each of his translations he added his own commenta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01:11Z</dcterms:created>
  <dc:creator>User</dc:creator>
  <dc:description/>
  <dc:language>en-US</dc:language>
  <cp:lastModifiedBy>Сергей</cp:lastModifiedBy>
  <dcterms:modified xsi:type="dcterms:W3CDTF">2013-05-03T08:47:59Z</dcterms:modified>
  <cp:revision>18</cp:revision>
  <dc:subject/>
  <dc:title>Слайд 1</dc:title>
</cp:coreProperties>
</file>